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2AB-9C41-4518-B86A-6860C218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872-D837-47C9-B9B4-89FEF268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59E-076F-4841-9E03-F882C6EC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291-44F8-4BD3-ACC7-CBCD8801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2D23-D160-47D3-AC99-D21352A8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D35B-737E-41AE-B12A-0B0A111B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8D2B-F568-4962-8265-A5A30B3D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FBA5-AB63-4F40-BCDC-CE9F9A91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9B64-1866-4F83-87B6-B394055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21DD-A32B-457D-8E35-6F67ABE0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559-4145-429C-B44A-03A7C16A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63E-C6B7-4555-886F-4A42833C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16D0-36C7-4C52-8B77-9114DDF5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5F28-45B6-4F89-8AAD-CFEBB20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928E-7CB9-4ECC-8A1B-2E83B170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4C10-C7EF-4472-B62E-CB3A8025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ED4D-D01E-4C15-939B-402814CC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A29-515D-4DE1-9126-2C990953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194-7309-4B84-82AA-5ABA8AD1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766-9C61-4DD3-81D0-741BEB2F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620-6760-48F5-B024-ADFE2F4C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454-2CFB-4497-A4C1-E0BCBB06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81E-962A-4A82-B861-C4E2A2CE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BA4-4A19-4E17-AC7E-9C0532A7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B36F-E10D-400A-AC36-6E5177FC11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AE1-FCD1-4D6D-B29D-48E9ED51BB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акая армия нам нужн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двиг героев Панфиловцев. 1941 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705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мия Израил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а: Всеобщая воинская пови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ок службы: 4 года мужчины, 2 года женщ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з службы нельзя поступить в ВУЗ, нельзя занимать руководящие дол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ужат недалеко от места жительства, могут спать дома и приходить на службу как на рабо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мия СШ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фессиональная осн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м выплачивается зарпла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то  такое альтернативная служба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ержка из Федерального закона об АГС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Альтернативная гражданская служба – это особый вид трудовой деятельности в интересах общества и государства, осуществляемой гражданами взамен военной службы по призыву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о есть вместо того, чтобы надевать форму и сидеть в окопах, молодой человек идет на работу. Среди работодателей – «Почта России», «Спецстрой России», а также социальные учреждения: интернаты, детские дома, больницы и так дале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судим вмес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Больные и пацифичные должны обслуживать армию – работать поварами, уборщиками, дворниками. Чтобы личный состав занимался исключительно боевой подготовкой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едовщина начинается не в армии, а в детском саду, в школ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Народ, который не хочет кормить свою армию , будет кормить чужую»                                               Наполеон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Хотите ли вы стать офицером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оссии 5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енно- учебных заведен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 академ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 университе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8 институ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47512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8964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ловаре С.Ожёгова «честь»-это «достойные уважения и гордости моральные качества человека; его соответствующие принципы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.Даль «Честь»-это «внутреннее нравственное достоинство человека, доблесть, честность, благородство души и чистая совесть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ван Ильин: «…Россия будет существовать, расти и цвести, если в ней воцарится дух чести, служения и верност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а, были люди в наше время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Русского солдата мало убить, его надо повалить»    Прусский король Фридри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айте мне русского солдата, и я покорю весь мир»     Наполео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одражайте русским, для них нет ничего невозможного»   Бернадот, король Шве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Чудо-богатыри!»   А.В.Суво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уликово поле. 1380 г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341360"/>
            <a:ext cx="82296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енерал Н. Раевский 1812 г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0647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орона Севастополя 1854 г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ейсер «Варяг» 1904 г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иноносец «Стерегущий» 1904 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10040" y="2421000"/>
            <a:ext cx="2925720" cy="198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8360" y="1295280"/>
            <a:ext cx="82072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3:58:35Z</dcterms:created>
  <dc:creator>Student</dc:creator>
  <dc:description/>
  <dc:language>en-US</dc:language>
  <cp:lastModifiedBy>Student</cp:lastModifiedBy>
  <dcterms:modified xsi:type="dcterms:W3CDTF">2012-02-21T08:34:45Z</dcterms:modified>
  <cp:revision>15</cp:revision>
  <dc:subject/>
  <dc:title>Слайд 1</dc:title>
</cp:coreProperties>
</file>