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3.gif" ContentType="image/gif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559-1DCE-4FAA-89FC-2E8DD289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E0F-38C0-4BA7-AA89-46D2D0D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6BF-9662-45DD-A32E-B55298AF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B02-C0DE-487B-85F5-5D2A7844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09ED-BDB0-40F3-876C-8EBC1D98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8339-2D81-45F4-9A73-F4B03E52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133B-9531-4347-ABFC-F9F91D48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201-B2A0-49E8-A615-49E4F87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7DF-D657-4B0B-933A-C80D344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B855-99C8-4A7F-B89C-3FA186F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D275-427C-4221-857D-9C310945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477-4768-42D1-975D-92738FD2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FBBC-CF96-4EE9-A3C1-B47D43A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CDED-4AB3-4364-82C9-D1610DA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76AA-35B7-45B1-8CBC-1573DD4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7E0B-874F-4F9E-BFD8-B53CE092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60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2360" y="160020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60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2360" y="3956760"/>
            <a:ext cx="264492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A3EA-F777-43AA-8A33-D077299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EE26-EE5B-433C-9A2E-42AEE64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6A2-5029-4FCC-AB31-B53473E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BCF-9D25-472B-A2F4-697F8CB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62F-4068-482E-A7E5-81F283F6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1CE-651F-45B9-9489-15A2E01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040" y="395676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CB5-BF38-4E1C-9778-39E28B57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040" y="1600200"/>
            <a:ext cx="400896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760"/>
            <a:ext cx="82152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E9F-DD08-4073-984B-C2C5BCB9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724E0-A00F-44BB-B580-1228C86729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1960" y="603360"/>
            <a:ext cx="766764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52320" y="1767960"/>
            <a:ext cx="802656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8880" y="573264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63880" y="5757480"/>
            <a:ext cx="289224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95960" y="575748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4E6AAD-5B6B-4DA1-9EAD-E03E7976E2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863640"/>
            <a:ext cx="8229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История изобретения тепловых двиг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57880" y="514368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ыполнила учениц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8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Брусило Татья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5000" y="4673520"/>
            <a:ext cx="83613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оссии первый автомобиль отечествен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водства появился в 189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сконструировали инжен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. А. Яковлев и П. А. Фре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71640" y="189000"/>
            <a:ext cx="712944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08000" y="333360"/>
            <a:ext cx="4773600" cy="5811480"/>
            <a:chOff x="108000" y="333360"/>
            <a:chExt cx="4773600" cy="5811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08000" y="333360"/>
              <a:ext cx="4306680" cy="36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9280" y="4076640"/>
              <a:ext cx="470232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900 г. — состоялась первая поездка по парижским улицам автомобиля, изготовленного Луи Рено. За элегантность его назвали «шкатулкой на колёсах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00720" y="549360"/>
            <a:ext cx="4570200" cy="3999600"/>
            <a:chOff x="4500720" y="549360"/>
            <a:chExt cx="4570200" cy="399960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4500720" y="549360"/>
              <a:ext cx="4570200" cy="26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003640" y="3357720"/>
              <a:ext cx="30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ый «Мерседес» (декабрь 1900 г.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822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4240" y="785880"/>
            <a:ext cx="2500560" cy="13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72120" y="857160"/>
            <a:ext cx="2500560" cy="1357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7720" y="3429000"/>
            <a:ext cx="2500200" cy="1785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1857240"/>
            <a:ext cx="2500200" cy="13575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643120"/>
            <a:ext cx="2500560" cy="13575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29240" y="2571840"/>
            <a:ext cx="2500560" cy="13572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00080" y="4500720"/>
            <a:ext cx="2500200" cy="20714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57920" y="4572000"/>
            <a:ext cx="2500200" cy="2071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16000"/>
            <a:ext cx="8258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Изобретение и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4200" y="1008000"/>
            <a:ext cx="5545080" cy="71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ервое известное устройство, приводимое в движение паром, было описано Героном из Александрии в первом столетии — это так называемая «баня Герона». Пар, выходящий по касательной из дюз, закреплённых на шаре, заставлял последний вращ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1257480"/>
            <a:ext cx="2870280" cy="3628800"/>
            <a:chOff x="6119640" y="1257480"/>
            <a:chExt cx="2870280" cy="362880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6119640" y="1257480"/>
              <a:ext cx="2870280" cy="36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19640" y="1257480"/>
              <a:ext cx="2870280" cy="36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35000"/>
            <a:ext cx="8258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ервые промышленные двиг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200" y="714240"/>
            <a:ext cx="5929560" cy="74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ым применённым на производстве паровым двигателем была «пожарная установка», сконструированная английским военным инженером Томасом Сейвери в 1698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Затем английский кузнец Томас Ньюкомен в 1712 году продемонстрировал свой «атмосферный двигатель». Первым применением двигателя Ньюкомена была откачка воды из глубокой шах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 1769 году шотландский механик Джеймс Уатт (возможно, использовав идеи Гейнсборо) запатентовал первые существенные усовершенствования к вакуумному двигателю Ньюко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11800" y="792000"/>
            <a:ext cx="2428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хема работы паровой машины Ньюком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Пар показан лиловым цветом, вода - си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–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Открытые клапаны показаны зелёным цветом, закрытые - крас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286680" y="2590920"/>
            <a:ext cx="2425680" cy="3914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286680" y="2590920"/>
            <a:ext cx="242568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ff0066"/>
                </a:solidFill>
                <a:latin typeface="Arial"/>
              </a:rPr>
              <a:t>Паровая маши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30243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е универсальные действующие паровые машины были построены английским изобретателем Джеймсом Уаттом  и русским изобретателем </a:t>
            </a: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Иваном Ивановичем Ползун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125360"/>
            <a:ext cx="3961080" cy="4991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03280" y="3789360"/>
            <a:ext cx="18734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126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Усмирение грозной стихии ог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5516640"/>
            <a:ext cx="260352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3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1120"/>
                <a:tab algn="l" pos="85896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1120" indent="-33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11120"/>
                <a:tab algn="l" pos="858960"/>
                <a:tab algn="l" pos="1308240"/>
                <a:tab algn="l" pos="1757520"/>
                <a:tab algn="l" pos="2206800"/>
                <a:tab algn="l" pos="2655720"/>
                <a:tab algn="l" pos="3105000"/>
                <a:tab algn="l" pos="3554280"/>
                <a:tab algn="l" pos="4003560"/>
                <a:tab algn="l" pos="4452840"/>
                <a:tab algn="l" pos="4902120"/>
                <a:tab algn="l" pos="5351400"/>
                <a:tab algn="l" pos="5800680"/>
                <a:tab algn="l" pos="6249960"/>
                <a:tab algn="l" pos="6699240"/>
                <a:tab algn="l" pos="7148520"/>
                <a:tab algn="l" pos="7597800"/>
                <a:tab algn="l" pos="8047080"/>
                <a:tab algn="l" pos="8496360"/>
                <a:tab algn="l" pos="8945640"/>
                <a:tab algn="l" pos="9394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3141720"/>
            <a:ext cx="74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71280" y="50328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36720" y="2376360"/>
            <a:ext cx="770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446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Font typeface="Wingdings" charset="2"/>
              <a:buChar char=""/>
              <a:tabLst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63 год. Из докладной записки И.Ползу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пособом огня действующею механикой сей недостаток отвесть…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недействующую машину учредить та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46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9428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она была в состоянии… по воле нашей, что будет потребно исправля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05816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28800" y="4879440"/>
            <a:ext cx="62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паровоз был сконструирован в 180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им изобретателем Ричардом Треви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назывался «Поймай меня, кто может!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вивал скорость до 30 км/ча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95640" y="620640"/>
            <a:ext cx="48974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Первые паровоз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850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400" spc="-1" strike="noStrike">
                <a:solidFill>
                  <a:srgbClr val="ff0066"/>
                </a:solidFill>
                <a:latin typeface="Arial"/>
              </a:rPr>
              <a:t>1 паровоз в Росс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761080" cy="403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5445000"/>
            <a:ext cx="59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ец и сын Черепановы - русские изобретатели, самоучки, создали первый паровоз (1834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863280" cy="360360"/>
          </a:xfrm>
          <a:custGeom>
            <a:avLst/>
            <a:gdLst>
              <a:gd name="textAreaLeft" fmla="*/ 23040 w 863280"/>
              <a:gd name="textAreaRight" fmla="*/ 840240 w 86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15" h="21600">
                <a:moveTo>
                  <a:pt x="0" y="0"/>
                </a:moveTo>
                <a:lnTo>
                  <a:pt x="51715" y="0"/>
                </a:lnTo>
                <a:lnTo>
                  <a:pt x="51715" y="21600"/>
                </a:lnTo>
                <a:lnTo>
                  <a:pt x="0" y="21600"/>
                </a:lnTo>
                <a:close/>
              </a:path>
              <a:path fill="lightenLess" w="51715" h="21600">
                <a:moveTo>
                  <a:pt x="0" y="0"/>
                </a:moveTo>
                <a:lnTo>
                  <a:pt x="51715" y="0"/>
                </a:lnTo>
                <a:lnTo>
                  <a:pt x="50315" y="1400"/>
                </a:lnTo>
                <a:lnTo>
                  <a:pt x="1400" y="1400"/>
                </a:lnTo>
                <a:close/>
              </a:path>
              <a:path fill="darken" w="51715" h="21600">
                <a:moveTo>
                  <a:pt x="51715" y="0"/>
                </a:moveTo>
                <a:lnTo>
                  <a:pt x="51715" y="21600"/>
                </a:lnTo>
                <a:lnTo>
                  <a:pt x="50315" y="20200"/>
                </a:lnTo>
                <a:lnTo>
                  <a:pt x="50315" y="1400"/>
                </a:lnTo>
                <a:close/>
              </a:path>
              <a:path fill="darkenLess" w="51715" h="21600">
                <a:moveTo>
                  <a:pt x="51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15" y="20200"/>
                </a:lnTo>
                <a:close/>
              </a:path>
              <a:path fill="lighten" w="51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15" h="21600">
                <a:moveTo>
                  <a:pt x="18851" y="3794"/>
                </a:moveTo>
                <a:lnTo>
                  <a:pt x="32864" y="10800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354920" y="532440"/>
            <a:ext cx="4457160" cy="5792040"/>
            <a:chOff x="4354920" y="532440"/>
            <a:chExt cx="4457160" cy="5792040"/>
          </a:xfrm>
        </p:grpSpPr>
        <p:sp>
          <p:nvSpPr>
            <p:cNvPr id="112" name=""/>
            <p:cNvSpPr/>
            <p:nvPr/>
          </p:nvSpPr>
          <p:spPr>
            <a:xfrm>
              <a:off x="4354920" y="532440"/>
              <a:ext cx="44571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дом позже (1886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явился вариан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тлиба Даймлер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торый счита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ым в ми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втомобилем, получивши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актическое применение.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5076720" y="3789360"/>
              <a:ext cx="3375000" cy="253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"/>
          <p:cNvGrpSpPr/>
          <p:nvPr/>
        </p:nvGrpSpPr>
        <p:grpSpPr>
          <a:xfrm>
            <a:off x="179280" y="476280"/>
            <a:ext cx="5977080" cy="4831560"/>
            <a:chOff x="179280" y="476280"/>
            <a:chExt cx="5977080" cy="4831560"/>
          </a:xfrm>
        </p:grpSpPr>
        <p:sp>
          <p:nvSpPr>
            <p:cNvPr id="115" name=""/>
            <p:cNvSpPr/>
            <p:nvPr/>
          </p:nvSpPr>
          <p:spPr>
            <a:xfrm>
              <a:off x="179280" y="3385080"/>
              <a:ext cx="5977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ый автомобиль с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ензиновым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вигателе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нутреннего сгорания (ДВС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был создан 1885 году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рлом Бенцом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468360" y="476280"/>
              <a:ext cx="3585960" cy="2397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4280" y="260280"/>
            <a:ext cx="4442040" cy="5404680"/>
            <a:chOff x="44280" y="260280"/>
            <a:chExt cx="4442040" cy="54046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4280" y="260280"/>
              <a:ext cx="429768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24000" y="3925800"/>
              <a:ext cx="4162320" cy="173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94 г. — немецкие конструкторы Хильдебранд и Вольфмюллер создали свой первый мотоци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427640" y="258840"/>
            <a:ext cx="4701960" cy="5158800"/>
            <a:chOff x="4427640" y="258840"/>
            <a:chExt cx="4701960" cy="515880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27640" y="258840"/>
              <a:ext cx="4674960" cy="32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716360" y="3860640"/>
              <a:ext cx="4413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893г. — фирма «Бенц» выпустила первые четырехколесные автомобил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2:43Z</dcterms:created>
  <dc:creator>Натик</dc:creator>
  <dc:description/>
  <dc:language>en-US</dc:language>
  <cp:lastModifiedBy>К</cp:lastModifiedBy>
  <dcterms:modified xsi:type="dcterms:W3CDTF">2016-11-28T16:44:52Z</dcterms:modified>
  <cp:revision>63</cp:revision>
  <dc:subject/>
  <dc:title>Слайд 1</dc:title>
</cp:coreProperties>
</file>