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4.jpeg" ContentType="image/jpe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35.png" ContentType="image/png"/>
  <Override PartName="/ppt/media/image34.png" ContentType="image/png"/>
  <Override PartName="/ppt/media/image33.png" ContentType="image/png"/>
  <Override PartName="/ppt/media/image30.png" ContentType="image/png"/>
  <Override PartName="/ppt/media/image47.png" ContentType="image/png"/>
  <Override PartName="/ppt/media/image10.png" ContentType="image/png"/>
  <Override PartName="/ppt/media/image39.png" ContentType="image/png"/>
  <Override PartName="/ppt/media/image9.png" ContentType="image/png"/>
  <Override PartName="/ppt/media/image86.png" ContentType="image/png"/>
  <Override PartName="/ppt/media/image13.png" ContentType="image/png"/>
  <Override PartName="/ppt/media/image1.png" ContentType="image/png"/>
  <Override PartName="/ppt/media/image38.png" ContentType="image/png"/>
  <Override PartName="/ppt/media/image8.png" ContentType="image/png"/>
  <Override PartName="/ppt/media/image85.png" ContentType="image/png"/>
  <Override PartName="/ppt/media/image49.png" ContentType="image/png"/>
  <Override PartName="/ppt/media/image21.png" ContentType="image/png"/>
  <Override PartName="/ppt/media/image59.png" ContentType="image/png"/>
  <Override PartName="/ppt/media/image22.png" ContentType="image/png"/>
  <Override PartName="/ppt/media/image57.png" ContentType="image/png"/>
  <Override PartName="/ppt/media/image20.png" ContentType="image/png"/>
  <Override PartName="/ppt/media/image23.png" ContentType="image/png"/>
  <Override PartName="/ppt/media/image67.gif" ContentType="image/gif"/>
  <Override PartName="/ppt/media/image60.png" ContentType="image/png"/>
  <Override PartName="/ppt/media/image62.png" ContentType="image/png"/>
  <Override PartName="/ppt/media/image26.png" ContentType="image/png"/>
  <Override PartName="/ppt/media/image63.png" ContentType="image/png"/>
  <Override PartName="/ppt/media/image27.png" ContentType="image/png"/>
  <Override PartName="/ppt/media/image64.png" ContentType="image/png"/>
  <Override PartName="/ppt/media/image28.png" ContentType="image/png"/>
  <Override PartName="/ppt/media/image70.png" ContentType="image/png"/>
  <Override PartName="/ppt/media/image65.png" ContentType="image/png"/>
  <Override PartName="/ppt/media/image66.png" ContentType="image/png"/>
  <Override PartName="/ppt/media/image87.gif" ContentType="image/gif"/>
  <Override PartName="/ppt/media/image79.png" ContentType="image/png"/>
  <Override PartName="/ppt/media/image78.png" ContentType="image/png"/>
  <Override PartName="/ppt/media/image77.png" ContentType="image/png"/>
  <Override PartName="/ppt/media/image40.png" ContentType="image/png"/>
  <Override PartName="/ppt/media/image76.png" ContentType="image/png"/>
  <Override PartName="/ppt/media/image75.png" ContentType="image/png"/>
  <Override PartName="/ppt/media/image74.png" ContentType="image/png"/>
  <Override PartName="/ppt/media/image73.png" ContentType="image/png"/>
  <Override PartName="/ppt/media/image72.png" ContentType="image/png"/>
  <Override PartName="/ppt/media/image58.png" ContentType="image/png"/>
  <Override PartName="/ppt/media/image3.wmf" ContentType="image/x-wmf"/>
  <Override PartName="/ppt/media/image71.png" ContentType="image/png"/>
  <Override PartName="/ppt/media/image29.png" ContentType="image/png"/>
  <Override PartName="/ppt/media/image69.png" ContentType="image/png"/>
  <Override PartName="/ppt/media/image32.png" ContentType="image/png"/>
  <Override PartName="/ppt/media/image68.png" ContentType="image/png"/>
  <Override PartName="/ppt/media/image31.png" ContentType="image/png"/>
  <Override PartName="/ppt/media/image82.png" ContentType="image/png"/>
  <Override PartName="/ppt/media/image17.png" ContentType="image/png"/>
  <Override PartName="/ppt/media/image81.png" ContentType="image/png"/>
  <Override PartName="/ppt/media/image16.png" ContentType="image/png"/>
  <Override PartName="/ppt/media/image80.png" ContentType="image/png"/>
  <Override PartName="/ppt/media/image15.png" ContentType="image/png"/>
  <Override PartName="/ppt/media/image24.png" ContentType="image/png"/>
  <Override PartName="/ppt/media/image25.png" ContentType="image/png"/>
  <Override PartName="/ppt/media/image2.png" ContentType="image/png"/>
  <Override PartName="/ppt/media/image14.png" ContentType="image/png"/>
  <Override PartName="/ppt/media/image61.png" ContentType="image/png"/>
  <Override PartName="/ppt/media/image5.jpeg" ContentType="image/jpeg"/>
  <Override PartName="/ppt/media/image50.png" ContentType="image/png"/>
  <Override PartName="/ppt/media/image18.png" ContentType="image/png"/>
  <Override PartName="/ppt/media/image83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84.png" ContentType="image/png"/>
  <Override PartName="/ppt/media/image7.png" ContentType="image/png"/>
  <Override PartName="/ppt/media/image3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3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77520"/>
            <a:ext cx="4570560" cy="344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4"/>
          </p:nvPr>
        </p:nvSpPr>
        <p:spPr>
          <a:xfrm>
            <a:off x="-360" y="8685000"/>
            <a:ext cx="297036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5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9A9CF31-206C-4F62-A47E-3185E3E87953}" type="slidenum"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37E4432-D00C-42F8-8B73-09B9818982E4}" type="slidenum"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3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6197017-FBF9-43FA-9AF8-21934A85C2FB}" type="slidenum"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6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7D672B3-7D7C-4A60-A3F8-7B11CBE1B3B8}" type="slidenum"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9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CB85EDC-FF85-472E-90B5-3D8E04A6826C}" type="slidenum"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2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F09C4C7-C3BF-4696-BBC9-693E64095CD9}" type="slidenum"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5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E2329DF-9DF4-42DF-B181-BB70322BC39D}" type="slidenum"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8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C2BE257-A48F-4642-A869-6DA47F41781E}" type="slidenum"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1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00ECBFB-BE04-4BF0-BA8F-67C836FC509C}" type="slidenum"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4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9E5E1C6-4650-45BD-8669-FB3EAA3F82A9}" type="slidenum"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7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A135C6F-EA7B-4965-A368-AE6F10BD6227}" type="slidenum"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0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F18CF2A-C45B-4E9C-97BD-9C179DCA7D85}" type="slidenum"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9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66A4B9B-9E43-4319-A2A1-8883ED2117FA}" type="slidenum"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3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F554139-6DA3-4E48-B923-9A027BD2E4FF}" type="slidenum"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6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FB89317-C27F-478A-A320-E02207A04C5E}" type="slidenum"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9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61BB195-5CC8-426F-A6D8-FAE982E5048D}" type="slidenum"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2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4CEB968-BB51-4DB6-AFB4-B2C4D3D32C32}" type="slidenum"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5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0EE61BB-812D-4B4F-8A8A-2AA53FF4FE11}" type="slidenum"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8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42B3E0F-8C35-4135-8EE1-7FAF56D5997D}" type="slidenum"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9A1D790-135B-4E13-BA2D-3F086B9568D1}" type="slidenum"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5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E3E3556-9D92-4FE0-9807-F77AF5BE5B67}" type="slidenum"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8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E52AEE5-9969-48CB-AB8A-8CD2376827DF}" type="slidenum"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1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26CC892-35DE-4086-A4AD-56A389580A39}" type="slidenum"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4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650478E-6EBA-45D8-A758-152ADFEED8BF}" type="slidenum"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7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046F972-D4EC-47D9-9929-FCDF26B60010}" type="slidenum">
              <a:rPr b="0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0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E0FFAE-1453-46B8-8358-4BC50D4470F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512240"/>
            <a:ext cx="82281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FBBD90-ABDC-44AB-90A9-E481FF86C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512240"/>
            <a:ext cx="401508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4512240"/>
            <a:ext cx="401508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566A4C-81FE-4EEF-819A-81288CC21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24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599840"/>
            <a:ext cx="264924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599840"/>
            <a:ext cx="264924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512240"/>
            <a:ext cx="264924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4512240"/>
            <a:ext cx="264924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4512240"/>
            <a:ext cx="264924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8571ED-F5A1-4802-A188-0E2B6A08A91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8160" cy="557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BFAB41-0633-4E77-ACCA-CB6AA6ABA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55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813E09-721D-4F86-8442-DF0778980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55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55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A49F6F-5197-4807-87DD-3C6CC6CBF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4C75A4-CEA9-490B-B8B6-819D4B5E0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-206640"/>
            <a:ext cx="8228160" cy="975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3AC086-786C-4258-ADBA-12C0B07F0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55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512240"/>
            <a:ext cx="401508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A42C08-F470-4021-8453-D03BE3C50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55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4512240"/>
            <a:ext cx="401508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1BADC3-1B1E-4744-9E61-7F14C3F12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512240"/>
            <a:ext cx="82281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443E4A-82C4-4B53-AC87-87691788B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7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55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4360"/>
            <a:ext cx="2131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35472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4360"/>
            <a:ext cx="2132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8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35AB0D3-EF57-4598-8660-678A44611555}" type="slidenum">
              <a:rPr b="0" lang="ru-RU" sz="18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image" Target="../media/image17.png"/><Relationship Id="rId10" Type="http://schemas.openxmlformats.org/officeDocument/2006/relationships/image" Target="../media/image18.png"/><Relationship Id="rId11" Type="http://schemas.openxmlformats.org/officeDocument/2006/relationships/image" Target="../media/image19.png"/><Relationship Id="rId12" Type="http://schemas.openxmlformats.org/officeDocument/2006/relationships/image" Target="../media/image20.png"/><Relationship Id="rId13" Type="http://schemas.openxmlformats.org/officeDocument/2006/relationships/image" Target="../media/image21.png"/><Relationship Id="rId14" Type="http://schemas.openxmlformats.org/officeDocument/2006/relationships/image" Target="../media/image22.png"/><Relationship Id="rId15" Type="http://schemas.openxmlformats.org/officeDocument/2006/relationships/image" Target="../media/image23.png"/><Relationship Id="rId16" Type="http://schemas.openxmlformats.org/officeDocument/2006/relationships/image" Target="../media/image24.png"/><Relationship Id="rId17" Type="http://schemas.openxmlformats.org/officeDocument/2006/relationships/image" Target="../media/image25.png"/><Relationship Id="rId18" Type="http://schemas.openxmlformats.org/officeDocument/2006/relationships/image" Target="../media/image26.png"/><Relationship Id="rId19" Type="http://schemas.openxmlformats.org/officeDocument/2006/relationships/image" Target="../media/image27.png"/><Relationship Id="rId20" Type="http://schemas.openxmlformats.org/officeDocument/2006/relationships/image" Target="../media/image28.png"/><Relationship Id="rId21" Type="http://schemas.openxmlformats.org/officeDocument/2006/relationships/image" Target="../media/image29.png"/><Relationship Id="rId22" Type="http://schemas.openxmlformats.org/officeDocument/2006/relationships/image" Target="../media/image30.png"/><Relationship Id="rId23" Type="http://schemas.openxmlformats.org/officeDocument/2006/relationships/slideLayout" Target="../slideLayouts/slideLayout1.xml"/><Relationship Id="rId2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image" Target="../media/image35.png"/><Relationship Id="rId7" Type="http://schemas.openxmlformats.org/officeDocument/2006/relationships/image" Target="../media/image36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image" Target="../media/image16.png"/><Relationship Id="rId14" Type="http://schemas.openxmlformats.org/officeDocument/2006/relationships/image" Target="../media/image17.png"/><Relationship Id="rId15" Type="http://schemas.openxmlformats.org/officeDocument/2006/relationships/image" Target="../media/image18.png"/><Relationship Id="rId16" Type="http://schemas.openxmlformats.org/officeDocument/2006/relationships/image" Target="../media/image19.png"/><Relationship Id="rId17" Type="http://schemas.openxmlformats.org/officeDocument/2006/relationships/image" Target="../media/image20.png"/><Relationship Id="rId18" Type="http://schemas.openxmlformats.org/officeDocument/2006/relationships/image" Target="../media/image29.png"/><Relationship Id="rId19" Type="http://schemas.openxmlformats.org/officeDocument/2006/relationships/image" Target="../media/image30.png"/><Relationship Id="rId20" Type="http://schemas.openxmlformats.org/officeDocument/2006/relationships/slideLayout" Target="../slideLayouts/slideLayout1.xml"/><Relationship Id="rId21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8.png"/><Relationship Id="rId9" Type="http://schemas.openxmlformats.org/officeDocument/2006/relationships/image" Target="../media/image19.png"/><Relationship Id="rId10" Type="http://schemas.openxmlformats.org/officeDocument/2006/relationships/image" Target="../media/image20.png"/><Relationship Id="rId11" Type="http://schemas.openxmlformats.org/officeDocument/2006/relationships/image" Target="../media/image21.png"/><Relationship Id="rId12" Type="http://schemas.openxmlformats.org/officeDocument/2006/relationships/image" Target="../media/image22.png"/><Relationship Id="rId13" Type="http://schemas.openxmlformats.org/officeDocument/2006/relationships/image" Target="../media/image23.png"/><Relationship Id="rId14" Type="http://schemas.openxmlformats.org/officeDocument/2006/relationships/image" Target="../media/image24.png"/><Relationship Id="rId15" Type="http://schemas.openxmlformats.org/officeDocument/2006/relationships/image" Target="../media/image25.png"/><Relationship Id="rId16" Type="http://schemas.openxmlformats.org/officeDocument/2006/relationships/image" Target="../media/image26.png"/><Relationship Id="rId17" Type="http://schemas.openxmlformats.org/officeDocument/2006/relationships/image" Target="../media/image27.png"/><Relationship Id="rId18" Type="http://schemas.openxmlformats.org/officeDocument/2006/relationships/image" Target="../media/image28.png"/><Relationship Id="rId19" Type="http://schemas.openxmlformats.org/officeDocument/2006/relationships/image" Target="../media/image37.png"/><Relationship Id="rId20" Type="http://schemas.openxmlformats.org/officeDocument/2006/relationships/image" Target="../media/image12.png"/><Relationship Id="rId21" Type="http://schemas.openxmlformats.org/officeDocument/2006/relationships/image" Target="../media/image29.png"/><Relationship Id="rId22" Type="http://schemas.openxmlformats.org/officeDocument/2006/relationships/image" Target="../media/image30.png"/><Relationship Id="rId23" Type="http://schemas.openxmlformats.org/officeDocument/2006/relationships/slideLayout" Target="../slideLayouts/slideLayout1.xml"/><Relationship Id="rId2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image" Target="../media/image17.png"/><Relationship Id="rId10" Type="http://schemas.openxmlformats.org/officeDocument/2006/relationships/image" Target="../media/image18.png"/><Relationship Id="rId11" Type="http://schemas.openxmlformats.org/officeDocument/2006/relationships/image" Target="../media/image19.png"/><Relationship Id="rId12" Type="http://schemas.openxmlformats.org/officeDocument/2006/relationships/image" Target="../media/image41.png"/><Relationship Id="rId13" Type="http://schemas.openxmlformats.org/officeDocument/2006/relationships/image" Target="../media/image21.png"/><Relationship Id="rId14" Type="http://schemas.openxmlformats.org/officeDocument/2006/relationships/image" Target="../media/image22.png"/><Relationship Id="rId15" Type="http://schemas.openxmlformats.org/officeDocument/2006/relationships/image" Target="../media/image23.png"/><Relationship Id="rId16" Type="http://schemas.openxmlformats.org/officeDocument/2006/relationships/image" Target="../media/image24.png"/><Relationship Id="rId17" Type="http://schemas.openxmlformats.org/officeDocument/2006/relationships/image" Target="../media/image25.png"/><Relationship Id="rId18" Type="http://schemas.openxmlformats.org/officeDocument/2006/relationships/image" Target="../media/image26.png"/><Relationship Id="rId19" Type="http://schemas.openxmlformats.org/officeDocument/2006/relationships/image" Target="../media/image27.png"/><Relationship Id="rId20" Type="http://schemas.openxmlformats.org/officeDocument/2006/relationships/image" Target="../media/image42.png"/><Relationship Id="rId21" Type="http://schemas.openxmlformats.org/officeDocument/2006/relationships/image" Target="../media/image43.png"/><Relationship Id="rId22" Type="http://schemas.openxmlformats.org/officeDocument/2006/relationships/image" Target="../media/image44.png"/><Relationship Id="rId23" Type="http://schemas.openxmlformats.org/officeDocument/2006/relationships/slideLayout" Target="../slideLayouts/slideLayout1.xml"/><Relationship Id="rId2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image" Target="../media/image23.png"/><Relationship Id="rId10" Type="http://schemas.openxmlformats.org/officeDocument/2006/relationships/image" Target="../media/image24.png"/><Relationship Id="rId11" Type="http://schemas.openxmlformats.org/officeDocument/2006/relationships/image" Target="../media/image25.png"/><Relationship Id="rId12" Type="http://schemas.openxmlformats.org/officeDocument/2006/relationships/image" Target="../media/image26.png"/><Relationship Id="rId13" Type="http://schemas.openxmlformats.org/officeDocument/2006/relationships/image" Target="../media/image27.png"/><Relationship Id="rId14" Type="http://schemas.openxmlformats.org/officeDocument/2006/relationships/image" Target="../media/image28.png"/><Relationship Id="rId15" Type="http://schemas.openxmlformats.org/officeDocument/2006/relationships/image" Target="../media/image13.png"/><Relationship Id="rId16" Type="http://schemas.openxmlformats.org/officeDocument/2006/relationships/image" Target="../media/image14.png"/><Relationship Id="rId17" Type="http://schemas.openxmlformats.org/officeDocument/2006/relationships/image" Target="../media/image15.png"/><Relationship Id="rId18" Type="http://schemas.openxmlformats.org/officeDocument/2006/relationships/image" Target="../media/image16.png"/><Relationship Id="rId19" Type="http://schemas.openxmlformats.org/officeDocument/2006/relationships/image" Target="../media/image17.png"/><Relationship Id="rId20" Type="http://schemas.openxmlformats.org/officeDocument/2006/relationships/image" Target="../media/image18.png"/><Relationship Id="rId21" Type="http://schemas.openxmlformats.org/officeDocument/2006/relationships/image" Target="../media/image19.png"/><Relationship Id="rId22" Type="http://schemas.openxmlformats.org/officeDocument/2006/relationships/image" Target="../media/image20.png"/><Relationship Id="rId23" Type="http://schemas.openxmlformats.org/officeDocument/2006/relationships/slideLayout" Target="../slideLayouts/slideLayout1.xml"/><Relationship Id="rId2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45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image" Target="../media/image17.png"/><Relationship Id="rId10" Type="http://schemas.openxmlformats.org/officeDocument/2006/relationships/image" Target="../media/image18.png"/><Relationship Id="rId11" Type="http://schemas.openxmlformats.org/officeDocument/2006/relationships/image" Target="../media/image19.png"/><Relationship Id="rId12" Type="http://schemas.openxmlformats.org/officeDocument/2006/relationships/image" Target="../media/image46.png"/><Relationship Id="rId13" Type="http://schemas.openxmlformats.org/officeDocument/2006/relationships/image" Target="../media/image21.png"/><Relationship Id="rId14" Type="http://schemas.openxmlformats.org/officeDocument/2006/relationships/image" Target="../media/image22.png"/><Relationship Id="rId15" Type="http://schemas.openxmlformats.org/officeDocument/2006/relationships/image" Target="../media/image23.png"/><Relationship Id="rId16" Type="http://schemas.openxmlformats.org/officeDocument/2006/relationships/image" Target="../media/image24.png"/><Relationship Id="rId17" Type="http://schemas.openxmlformats.org/officeDocument/2006/relationships/image" Target="../media/image25.png"/><Relationship Id="rId18" Type="http://schemas.openxmlformats.org/officeDocument/2006/relationships/image" Target="../media/image26.png"/><Relationship Id="rId19" Type="http://schemas.openxmlformats.org/officeDocument/2006/relationships/image" Target="../media/image27.png"/><Relationship Id="rId20" Type="http://schemas.openxmlformats.org/officeDocument/2006/relationships/image" Target="../media/image42.png"/><Relationship Id="rId21" Type="http://schemas.openxmlformats.org/officeDocument/2006/relationships/image" Target="../media/image47.png"/><Relationship Id="rId22" Type="http://schemas.openxmlformats.org/officeDocument/2006/relationships/image" Target="../media/image48.png"/><Relationship Id="rId23" Type="http://schemas.openxmlformats.org/officeDocument/2006/relationships/slideLayout" Target="../slideLayouts/slideLayout1.xml"/><Relationship Id="rId2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37.png"/><Relationship Id="rId4" Type="http://schemas.openxmlformats.org/officeDocument/2006/relationships/image" Target="../media/image49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image" Target="../media/image24.png"/><Relationship Id="rId9" Type="http://schemas.openxmlformats.org/officeDocument/2006/relationships/image" Target="../media/image25.png"/><Relationship Id="rId10" Type="http://schemas.openxmlformats.org/officeDocument/2006/relationships/image" Target="../media/image26.png"/><Relationship Id="rId11" Type="http://schemas.openxmlformats.org/officeDocument/2006/relationships/image" Target="../media/image27.png"/><Relationship Id="rId12" Type="http://schemas.openxmlformats.org/officeDocument/2006/relationships/image" Target="../media/image28.png"/><Relationship Id="rId13" Type="http://schemas.openxmlformats.org/officeDocument/2006/relationships/image" Target="../media/image12.png"/><Relationship Id="rId14" Type="http://schemas.openxmlformats.org/officeDocument/2006/relationships/image" Target="../media/image50.png"/><Relationship Id="rId15" Type="http://schemas.openxmlformats.org/officeDocument/2006/relationships/image" Target="../media/image51.png"/><Relationship Id="rId16" Type="http://schemas.openxmlformats.org/officeDocument/2006/relationships/image" Target="../media/image52.png"/><Relationship Id="rId17" Type="http://schemas.openxmlformats.org/officeDocument/2006/relationships/image" Target="../media/image53.png"/><Relationship Id="rId18" Type="http://schemas.openxmlformats.org/officeDocument/2006/relationships/image" Target="../media/image54.png"/><Relationship Id="rId19" Type="http://schemas.openxmlformats.org/officeDocument/2006/relationships/image" Target="../media/image47.png"/><Relationship Id="rId20" Type="http://schemas.openxmlformats.org/officeDocument/2006/relationships/image" Target="../media/image48.png"/><Relationship Id="rId21" Type="http://schemas.openxmlformats.org/officeDocument/2006/relationships/slideLayout" Target="../slideLayouts/slideLayout1.xml"/><Relationship Id="rId2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56.png"/><Relationship Id="rId3" Type="http://schemas.openxmlformats.org/officeDocument/2006/relationships/image" Target="../media/image11.png"/><Relationship Id="rId4" Type="http://schemas.openxmlformats.org/officeDocument/2006/relationships/image" Target="../media/image57.png"/><Relationship Id="rId5" Type="http://schemas.openxmlformats.org/officeDocument/2006/relationships/image" Target="../media/image58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image" Target="../media/image23.png"/><Relationship Id="rId9" Type="http://schemas.openxmlformats.org/officeDocument/2006/relationships/image" Target="../media/image24.png"/><Relationship Id="rId10" Type="http://schemas.openxmlformats.org/officeDocument/2006/relationships/image" Target="../media/image25.png"/><Relationship Id="rId11" Type="http://schemas.openxmlformats.org/officeDocument/2006/relationships/image" Target="../media/image26.png"/><Relationship Id="rId12" Type="http://schemas.openxmlformats.org/officeDocument/2006/relationships/image" Target="../media/image27.png"/><Relationship Id="rId13" Type="http://schemas.openxmlformats.org/officeDocument/2006/relationships/image" Target="../media/image59.png"/><Relationship Id="rId14" Type="http://schemas.openxmlformats.org/officeDocument/2006/relationships/image" Target="../media/image60.png"/><Relationship Id="rId15" Type="http://schemas.openxmlformats.org/officeDocument/2006/relationships/image" Target="../media/image61.png"/><Relationship Id="rId16" Type="http://schemas.openxmlformats.org/officeDocument/2006/relationships/image" Target="../media/image62.png"/><Relationship Id="rId17" Type="http://schemas.openxmlformats.org/officeDocument/2006/relationships/image" Target="../media/image63.png"/><Relationship Id="rId18" Type="http://schemas.openxmlformats.org/officeDocument/2006/relationships/image" Target="../media/image64.png"/><Relationship Id="rId19" Type="http://schemas.openxmlformats.org/officeDocument/2006/relationships/image" Target="../media/image65.png"/><Relationship Id="rId20" Type="http://schemas.openxmlformats.org/officeDocument/2006/relationships/image" Target="../media/image66.png"/><Relationship Id="rId21" Type="http://schemas.openxmlformats.org/officeDocument/2006/relationships/slideLayout" Target="../slideLayouts/slideLayout1.xml"/><Relationship Id="rId2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image" Target="../media/image66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image" Target="../media/image16.png"/><Relationship Id="rId11" Type="http://schemas.openxmlformats.org/officeDocument/2006/relationships/image" Target="../media/image17.png"/><Relationship Id="rId12" Type="http://schemas.openxmlformats.org/officeDocument/2006/relationships/image" Target="../media/image18.png"/><Relationship Id="rId13" Type="http://schemas.openxmlformats.org/officeDocument/2006/relationships/image" Target="../media/image19.png"/><Relationship Id="rId14" Type="http://schemas.openxmlformats.org/officeDocument/2006/relationships/image" Target="../media/image20.png"/><Relationship Id="rId15" Type="http://schemas.openxmlformats.org/officeDocument/2006/relationships/image" Target="../media/image21.png"/><Relationship Id="rId16" Type="http://schemas.openxmlformats.org/officeDocument/2006/relationships/image" Target="../media/image22.png"/><Relationship Id="rId17" Type="http://schemas.openxmlformats.org/officeDocument/2006/relationships/image" Target="../media/image23.png"/><Relationship Id="rId18" Type="http://schemas.openxmlformats.org/officeDocument/2006/relationships/image" Target="../media/image24.png"/><Relationship Id="rId19" Type="http://schemas.openxmlformats.org/officeDocument/2006/relationships/image" Target="../media/image25.png"/><Relationship Id="rId20" Type="http://schemas.openxmlformats.org/officeDocument/2006/relationships/image" Target="../media/image26.png"/><Relationship Id="rId21" Type="http://schemas.openxmlformats.org/officeDocument/2006/relationships/image" Target="../media/image27.png"/><Relationship Id="rId22" Type="http://schemas.openxmlformats.org/officeDocument/2006/relationships/image" Target="../media/image28.png"/><Relationship Id="rId23" Type="http://schemas.openxmlformats.org/officeDocument/2006/relationships/slideLayout" Target="../slideLayouts/slideLayout1.xml"/><Relationship Id="rId2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7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image" Target="../media/image69.png"/><Relationship Id="rId3" Type="http://schemas.openxmlformats.org/officeDocument/2006/relationships/image" Target="../media/image70.png"/><Relationship Id="rId4" Type="http://schemas.openxmlformats.org/officeDocument/2006/relationships/image" Target="../media/image71.png"/><Relationship Id="rId5" Type="http://schemas.openxmlformats.org/officeDocument/2006/relationships/image" Target="../media/image72.png"/><Relationship Id="rId6" Type="http://schemas.openxmlformats.org/officeDocument/2006/relationships/image" Target="../media/image73.png"/><Relationship Id="rId7" Type="http://schemas.openxmlformats.org/officeDocument/2006/relationships/image" Target="../media/image74.png"/><Relationship Id="rId8" Type="http://schemas.openxmlformats.org/officeDocument/2006/relationships/image" Target="../media/image75.png"/><Relationship Id="rId9" Type="http://schemas.openxmlformats.org/officeDocument/2006/relationships/image" Target="../media/image76.png"/><Relationship Id="rId10" Type="http://schemas.openxmlformats.org/officeDocument/2006/relationships/image" Target="../media/image77.png"/><Relationship Id="rId11" Type="http://schemas.openxmlformats.org/officeDocument/2006/relationships/image" Target="../media/image78.png"/><Relationship Id="rId12" Type="http://schemas.openxmlformats.org/officeDocument/2006/relationships/image" Target="../media/image79.png"/><Relationship Id="rId13" Type="http://schemas.openxmlformats.org/officeDocument/2006/relationships/image" Target="../media/image80.png"/><Relationship Id="rId14" Type="http://schemas.openxmlformats.org/officeDocument/2006/relationships/image" Target="../media/image81.png"/><Relationship Id="rId15" Type="http://schemas.openxmlformats.org/officeDocument/2006/relationships/image" Target="../media/image78.png"/><Relationship Id="rId16" Type="http://schemas.openxmlformats.org/officeDocument/2006/relationships/image" Target="../media/image79.png"/><Relationship Id="rId17" Type="http://schemas.openxmlformats.org/officeDocument/2006/relationships/image" Target="../media/image82.png"/><Relationship Id="rId18" Type="http://schemas.openxmlformats.org/officeDocument/2006/relationships/image" Target="../media/image74.png"/><Relationship Id="rId19" Type="http://schemas.openxmlformats.org/officeDocument/2006/relationships/image" Target="../media/image75.png"/><Relationship Id="rId20" Type="http://schemas.openxmlformats.org/officeDocument/2006/relationships/image" Target="../media/image83.png"/><Relationship Id="rId21" Type="http://schemas.openxmlformats.org/officeDocument/2006/relationships/image" Target="../media/image84.png"/><Relationship Id="rId22" Type="http://schemas.openxmlformats.org/officeDocument/2006/relationships/image" Target="../media/image80.png"/><Relationship Id="rId23" Type="http://schemas.openxmlformats.org/officeDocument/2006/relationships/image" Target="../media/image84.png"/><Relationship Id="rId24" Type="http://schemas.openxmlformats.org/officeDocument/2006/relationships/image" Target="../media/image85.png"/><Relationship Id="rId25" Type="http://schemas.openxmlformats.org/officeDocument/2006/relationships/image" Target="../media/image86.png"/><Relationship Id="rId26" Type="http://schemas.openxmlformats.org/officeDocument/2006/relationships/slideLayout" Target="../slideLayouts/slideLayout1.xml"/><Relationship Id="rId2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7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image.mp4" descr=""/>
          <p:cNvPicPr/>
          <p:nvPr/>
        </p:nvPicPr>
        <p:blipFill>
          <a:blip r:embed="rId1"/>
          <a:stretch/>
        </p:blipFill>
        <p:spPr>
          <a:xfrm>
            <a:off x="-34920" y="1484280"/>
            <a:ext cx="921384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9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9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1" descr=""/>
          <p:cNvPicPr/>
          <p:nvPr/>
        </p:nvPicPr>
        <p:blipFill>
          <a:blip r:embed="rId1"/>
          <a:stretch/>
        </p:blipFill>
        <p:spPr>
          <a:xfrm>
            <a:off x="0" y="1447920"/>
            <a:ext cx="3100320" cy="51958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2" descr=""/>
          <p:cNvPicPr/>
          <p:nvPr/>
        </p:nvPicPr>
        <p:blipFill>
          <a:blip r:embed="rId2"/>
          <a:stretch/>
        </p:blipFill>
        <p:spPr>
          <a:xfrm>
            <a:off x="6043680" y="1366920"/>
            <a:ext cx="3100320" cy="54910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3" descr=""/>
          <p:cNvPicPr/>
          <p:nvPr/>
        </p:nvPicPr>
        <p:blipFill>
          <a:blip r:embed="rId3"/>
          <a:stretch/>
        </p:blipFill>
        <p:spPr>
          <a:xfrm>
            <a:off x="-6480" y="-109440"/>
            <a:ext cx="9156960" cy="822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1"/>
          <p:cNvSpPr/>
          <p:nvPr/>
        </p:nvSpPr>
        <p:spPr>
          <a:xfrm>
            <a:off x="1571760" y="1143000"/>
            <a:ext cx="2428920" cy="2786040"/>
          </a:xfrm>
          <a:prstGeom prst="rect">
            <a:avLst/>
          </a:prstGeom>
          <a:solidFill>
            <a:srgbClr val="004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5" name="Group 2"/>
          <p:cNvGrpSpPr/>
          <p:nvPr/>
        </p:nvGrpSpPr>
        <p:grpSpPr>
          <a:xfrm>
            <a:off x="2639880" y="1279440"/>
            <a:ext cx="1436760" cy="2657520"/>
            <a:chOff x="2639880" y="1279440"/>
            <a:chExt cx="1436760" cy="2657520"/>
          </a:xfrm>
        </p:grpSpPr>
        <p:pic>
          <p:nvPicPr>
            <p:cNvPr id="116" name="Picture 3" descr=""/>
            <p:cNvPicPr/>
            <p:nvPr/>
          </p:nvPicPr>
          <p:blipFill>
            <a:blip r:embed="rId1"/>
            <a:stretch/>
          </p:blipFill>
          <p:spPr>
            <a:xfrm>
              <a:off x="2639880" y="1279440"/>
              <a:ext cx="1436760" cy="265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Text Box 4"/>
            <p:cNvSpPr/>
            <p:nvPr/>
          </p:nvSpPr>
          <p:spPr>
            <a:xfrm>
              <a:off x="2643120" y="1285920"/>
              <a:ext cx="1427400" cy="264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8" name="Group 5"/>
          <p:cNvGrpSpPr/>
          <p:nvPr/>
        </p:nvGrpSpPr>
        <p:grpSpPr>
          <a:xfrm>
            <a:off x="928800" y="428760"/>
            <a:ext cx="3713040" cy="923760"/>
            <a:chOff x="928800" y="428760"/>
            <a:chExt cx="3713040" cy="923760"/>
          </a:xfrm>
        </p:grpSpPr>
        <p:sp>
          <p:nvSpPr>
            <p:cNvPr id="119" name="AutoShape 6"/>
            <p:cNvSpPr/>
            <p:nvPr/>
          </p:nvSpPr>
          <p:spPr>
            <a:xfrm>
              <a:off x="1006560" y="612720"/>
              <a:ext cx="1031760" cy="568440"/>
            </a:xfrm>
            <a:custGeom>
              <a:avLst/>
              <a:gdLst>
                <a:gd name="textAreaLeft" fmla="*/ 0 w 1031760"/>
                <a:gd name="textAreaRight" fmla="*/ 1032120 w 1031760"/>
                <a:gd name="textAreaTop" fmla="*/ 0 h 568440"/>
                <a:gd name="textAreaBottom" fmla="*/ 568800 h 568440"/>
              </a:gdLst>
              <a:ahLst/>
              <a:rect l="textAreaLeft" t="textAreaTop" r="textAreaRight" b="textAreaBottom"/>
              <a:pathLst>
                <a:path w="1482437" h="817418">
                  <a:moveTo>
                    <a:pt x="0" y="0"/>
                  </a:moveTo>
                  <a:lnTo>
                    <a:pt x="512618" y="0"/>
                  </a:lnTo>
                  <a:lnTo>
                    <a:pt x="1052946" y="263237"/>
                  </a:lnTo>
                  <a:lnTo>
                    <a:pt x="1482437" y="817418"/>
                  </a:lnTo>
                  <a:lnTo>
                    <a:pt x="872837" y="789709"/>
                  </a:lnTo>
                  <a:lnTo>
                    <a:pt x="595746" y="526473"/>
                  </a:lnTo>
                  <a:lnTo>
                    <a:pt x="13855" y="48490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Rectangle 7"/>
            <p:cNvSpPr/>
            <p:nvPr/>
          </p:nvSpPr>
          <p:spPr>
            <a:xfrm>
              <a:off x="928800" y="428760"/>
              <a:ext cx="147600" cy="247680"/>
            </a:xfrm>
            <a:prstGeom prst="rect">
              <a:avLst/>
            </a:prstGeom>
            <a:solidFill>
              <a:srgbClr val="fac090"/>
            </a:solidFill>
            <a:ln w="57240">
              <a:solidFill>
                <a:srgbClr val="fac0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Rectangle 8"/>
            <p:cNvSpPr/>
            <p:nvPr/>
          </p:nvSpPr>
          <p:spPr>
            <a:xfrm>
              <a:off x="928800" y="876240"/>
              <a:ext cx="196560" cy="247680"/>
            </a:xfrm>
            <a:prstGeom prst="rect">
              <a:avLst/>
            </a:prstGeom>
            <a:solidFill>
              <a:srgbClr val="fac090"/>
            </a:solidFill>
            <a:ln w="57240">
              <a:solidFill>
                <a:srgbClr val="fac0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AutoShape 9"/>
            <p:cNvSpPr/>
            <p:nvPr/>
          </p:nvSpPr>
          <p:spPr>
            <a:xfrm>
              <a:off x="977760" y="477720"/>
              <a:ext cx="1176480" cy="743040"/>
            </a:xfrm>
            <a:custGeom>
              <a:avLst/>
              <a:gdLst>
                <a:gd name="textAreaLeft" fmla="*/ 0 w 1176480"/>
                <a:gd name="textAreaRight" fmla="*/ 1176840 w 1176480"/>
                <a:gd name="textAreaTop" fmla="*/ 0 h 743040"/>
                <a:gd name="textAreaBottom" fmla="*/ 743400 h 743040"/>
              </a:gdLst>
              <a:ahLst/>
              <a:rect l="textAreaLeft" t="textAreaTop" r="textAreaRight" b="textAreaBottom"/>
              <a:pathLst>
                <a:path w="1690255" h="1066800">
                  <a:moveTo>
                    <a:pt x="27709" y="32015"/>
                  </a:moveTo>
                  <a:lnTo>
                    <a:pt x="13855" y="27709"/>
                  </a:lnTo>
                  <a:lnTo>
                    <a:pt x="471055" y="27709"/>
                  </a:lnTo>
                  <a:lnTo>
                    <a:pt x="803564" y="124691"/>
                  </a:lnTo>
                  <a:lnTo>
                    <a:pt x="1108364" y="290945"/>
                  </a:lnTo>
                  <a:lnTo>
                    <a:pt x="1246909" y="207818"/>
                  </a:lnTo>
                  <a:lnTo>
                    <a:pt x="1690255" y="152400"/>
                  </a:lnTo>
                  <a:lnTo>
                    <a:pt x="1690255" y="415636"/>
                  </a:lnTo>
                  <a:lnTo>
                    <a:pt x="1537855" y="374073"/>
                  </a:lnTo>
                  <a:lnTo>
                    <a:pt x="1343891" y="387927"/>
                  </a:lnTo>
                  <a:lnTo>
                    <a:pt x="1274619" y="484909"/>
                  </a:lnTo>
                  <a:lnTo>
                    <a:pt x="1274619" y="623454"/>
                  </a:lnTo>
                  <a:lnTo>
                    <a:pt x="1648691" y="942109"/>
                  </a:lnTo>
                  <a:lnTo>
                    <a:pt x="1648691" y="1066800"/>
                  </a:lnTo>
                  <a:lnTo>
                    <a:pt x="1468582" y="1039091"/>
                  </a:lnTo>
                  <a:lnTo>
                    <a:pt x="1025237" y="651163"/>
                  </a:lnTo>
                  <a:lnTo>
                    <a:pt x="997528" y="484909"/>
                  </a:lnTo>
                  <a:lnTo>
                    <a:pt x="748146" y="346363"/>
                  </a:lnTo>
                  <a:lnTo>
                    <a:pt x="457200" y="249382"/>
                  </a:lnTo>
                  <a:lnTo>
                    <a:pt x="13855" y="235527"/>
                  </a:lnTo>
                  <a:lnTo>
                    <a:pt x="0" y="0"/>
                  </a:lnTo>
                  <a:lnTo>
                    <a:pt x="27709" y="32015"/>
                  </a:lnTo>
                  <a:close/>
                </a:path>
              </a:pathLst>
            </a:custGeom>
            <a:solidFill>
              <a:srgbClr val="fac090"/>
            </a:solidFill>
            <a:ln w="25560">
              <a:solidFill>
                <a:srgbClr val="fac0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AutoShape 10"/>
            <p:cNvSpPr/>
            <p:nvPr/>
          </p:nvSpPr>
          <p:spPr>
            <a:xfrm>
              <a:off x="1084320" y="863640"/>
              <a:ext cx="606240" cy="307800"/>
            </a:xfrm>
            <a:custGeom>
              <a:avLst/>
              <a:gdLst>
                <a:gd name="textAreaLeft" fmla="*/ 0 w 606240"/>
                <a:gd name="textAreaRight" fmla="*/ 606600 w 606240"/>
                <a:gd name="textAreaTop" fmla="*/ 0 h 307800"/>
                <a:gd name="textAreaBottom" fmla="*/ 308160 h 307800"/>
              </a:gdLst>
              <a:ahLst/>
              <a:rect l="textAreaLeft" t="textAreaTop" r="textAreaRight" b="textAreaBottom"/>
              <a:pathLst>
                <a:path w="872836" h="443346">
                  <a:moveTo>
                    <a:pt x="0" y="0"/>
                  </a:moveTo>
                  <a:lnTo>
                    <a:pt x="263236" y="0"/>
                  </a:lnTo>
                  <a:lnTo>
                    <a:pt x="512618" y="69273"/>
                  </a:lnTo>
                  <a:lnTo>
                    <a:pt x="803563" y="263237"/>
                  </a:lnTo>
                  <a:lnTo>
                    <a:pt x="872836" y="443346"/>
                  </a:lnTo>
                  <a:lnTo>
                    <a:pt x="651163" y="443346"/>
                  </a:lnTo>
                  <a:lnTo>
                    <a:pt x="568036" y="304800"/>
                  </a:lnTo>
                  <a:lnTo>
                    <a:pt x="332509" y="193964"/>
                  </a:lnTo>
                  <a:lnTo>
                    <a:pt x="13854" y="16625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c090"/>
            </a:solidFill>
            <a:ln w="25560">
              <a:solidFill>
                <a:srgbClr val="fac0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AutoShape 11"/>
            <p:cNvSpPr/>
            <p:nvPr/>
          </p:nvSpPr>
          <p:spPr>
            <a:xfrm flipH="1">
              <a:off x="3537720" y="612720"/>
              <a:ext cx="1032120" cy="568440"/>
            </a:xfrm>
            <a:custGeom>
              <a:avLst/>
              <a:gdLst>
                <a:gd name="textAreaLeft" fmla="*/ -360 w 1032120"/>
                <a:gd name="textAreaRight" fmla="*/ 1032120 w 1032120"/>
                <a:gd name="textAreaTop" fmla="*/ 0 h 568440"/>
                <a:gd name="textAreaBottom" fmla="*/ 568800 h 568440"/>
              </a:gdLst>
              <a:ahLst/>
              <a:rect l="textAreaLeft" t="textAreaTop" r="textAreaRight" b="textAreaBottom"/>
              <a:pathLst>
                <a:path w="1482437" h="817418">
                  <a:moveTo>
                    <a:pt x="0" y="0"/>
                  </a:moveTo>
                  <a:lnTo>
                    <a:pt x="512618" y="0"/>
                  </a:lnTo>
                  <a:lnTo>
                    <a:pt x="1052946" y="263237"/>
                  </a:lnTo>
                  <a:lnTo>
                    <a:pt x="1482437" y="817418"/>
                  </a:lnTo>
                  <a:lnTo>
                    <a:pt x="872837" y="789709"/>
                  </a:lnTo>
                  <a:lnTo>
                    <a:pt x="595746" y="526473"/>
                  </a:lnTo>
                  <a:lnTo>
                    <a:pt x="13855" y="48490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Rectangle 12"/>
            <p:cNvSpPr/>
            <p:nvPr/>
          </p:nvSpPr>
          <p:spPr>
            <a:xfrm flipH="1">
              <a:off x="4494240" y="428760"/>
              <a:ext cx="147600" cy="247680"/>
            </a:xfrm>
            <a:prstGeom prst="rect">
              <a:avLst/>
            </a:prstGeom>
            <a:solidFill>
              <a:srgbClr val="fac090"/>
            </a:solidFill>
            <a:ln w="57240">
              <a:solidFill>
                <a:srgbClr val="fac0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Rectangle 13"/>
            <p:cNvSpPr/>
            <p:nvPr/>
          </p:nvSpPr>
          <p:spPr>
            <a:xfrm flipH="1">
              <a:off x="4442760" y="876240"/>
              <a:ext cx="196920" cy="247680"/>
            </a:xfrm>
            <a:prstGeom prst="rect">
              <a:avLst/>
            </a:prstGeom>
            <a:solidFill>
              <a:srgbClr val="fac090"/>
            </a:solidFill>
            <a:ln w="57240">
              <a:solidFill>
                <a:srgbClr val="fac0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AutoShape 14"/>
            <p:cNvSpPr/>
            <p:nvPr/>
          </p:nvSpPr>
          <p:spPr>
            <a:xfrm flipH="1">
              <a:off x="3415680" y="477720"/>
              <a:ext cx="1176120" cy="743040"/>
            </a:xfrm>
            <a:custGeom>
              <a:avLst/>
              <a:gdLst>
                <a:gd name="textAreaLeft" fmla="*/ -360 w 1176120"/>
                <a:gd name="textAreaRight" fmla="*/ 1176120 w 1176120"/>
                <a:gd name="textAreaTop" fmla="*/ 0 h 743040"/>
                <a:gd name="textAreaBottom" fmla="*/ 743400 h 743040"/>
              </a:gdLst>
              <a:ahLst/>
              <a:rect l="textAreaLeft" t="textAreaTop" r="textAreaRight" b="textAreaBottom"/>
              <a:pathLst>
                <a:path w="1690255" h="1066800">
                  <a:moveTo>
                    <a:pt x="27709" y="32015"/>
                  </a:moveTo>
                  <a:lnTo>
                    <a:pt x="13855" y="27709"/>
                  </a:lnTo>
                  <a:lnTo>
                    <a:pt x="471055" y="27709"/>
                  </a:lnTo>
                  <a:lnTo>
                    <a:pt x="803564" y="124691"/>
                  </a:lnTo>
                  <a:lnTo>
                    <a:pt x="1108364" y="290945"/>
                  </a:lnTo>
                  <a:lnTo>
                    <a:pt x="1246909" y="207818"/>
                  </a:lnTo>
                  <a:lnTo>
                    <a:pt x="1690255" y="152400"/>
                  </a:lnTo>
                  <a:lnTo>
                    <a:pt x="1690255" y="415636"/>
                  </a:lnTo>
                  <a:lnTo>
                    <a:pt x="1537855" y="374073"/>
                  </a:lnTo>
                  <a:lnTo>
                    <a:pt x="1343891" y="387927"/>
                  </a:lnTo>
                  <a:lnTo>
                    <a:pt x="1274619" y="484909"/>
                  </a:lnTo>
                  <a:lnTo>
                    <a:pt x="1274619" y="623454"/>
                  </a:lnTo>
                  <a:lnTo>
                    <a:pt x="1648691" y="942109"/>
                  </a:lnTo>
                  <a:lnTo>
                    <a:pt x="1648691" y="1066800"/>
                  </a:lnTo>
                  <a:lnTo>
                    <a:pt x="1468582" y="1039091"/>
                  </a:lnTo>
                  <a:lnTo>
                    <a:pt x="1025237" y="651163"/>
                  </a:lnTo>
                  <a:lnTo>
                    <a:pt x="997528" y="484909"/>
                  </a:lnTo>
                  <a:lnTo>
                    <a:pt x="748146" y="346363"/>
                  </a:lnTo>
                  <a:lnTo>
                    <a:pt x="457200" y="249382"/>
                  </a:lnTo>
                  <a:lnTo>
                    <a:pt x="13855" y="235527"/>
                  </a:lnTo>
                  <a:lnTo>
                    <a:pt x="0" y="0"/>
                  </a:lnTo>
                  <a:lnTo>
                    <a:pt x="27709" y="32015"/>
                  </a:lnTo>
                  <a:close/>
                </a:path>
              </a:pathLst>
            </a:custGeom>
            <a:solidFill>
              <a:srgbClr val="fac090"/>
            </a:solidFill>
            <a:ln w="25560">
              <a:solidFill>
                <a:srgbClr val="fac0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AutoShape 15"/>
            <p:cNvSpPr/>
            <p:nvPr/>
          </p:nvSpPr>
          <p:spPr>
            <a:xfrm flipH="1">
              <a:off x="3879000" y="863640"/>
              <a:ext cx="606600" cy="307800"/>
            </a:xfrm>
            <a:custGeom>
              <a:avLst/>
              <a:gdLst>
                <a:gd name="textAreaLeft" fmla="*/ -360 w 606600"/>
                <a:gd name="textAreaRight" fmla="*/ 606600 w 606600"/>
                <a:gd name="textAreaTop" fmla="*/ 0 h 307800"/>
                <a:gd name="textAreaBottom" fmla="*/ 308160 h 307800"/>
              </a:gdLst>
              <a:ahLst/>
              <a:rect l="textAreaLeft" t="textAreaTop" r="textAreaRight" b="textAreaBottom"/>
              <a:pathLst>
                <a:path w="872836" h="443346">
                  <a:moveTo>
                    <a:pt x="0" y="0"/>
                  </a:moveTo>
                  <a:lnTo>
                    <a:pt x="263236" y="0"/>
                  </a:lnTo>
                  <a:lnTo>
                    <a:pt x="512618" y="69273"/>
                  </a:lnTo>
                  <a:lnTo>
                    <a:pt x="803563" y="263237"/>
                  </a:lnTo>
                  <a:lnTo>
                    <a:pt x="872836" y="443346"/>
                  </a:lnTo>
                  <a:lnTo>
                    <a:pt x="651163" y="443346"/>
                  </a:lnTo>
                  <a:lnTo>
                    <a:pt x="568036" y="304800"/>
                  </a:lnTo>
                  <a:lnTo>
                    <a:pt x="332509" y="193964"/>
                  </a:lnTo>
                  <a:lnTo>
                    <a:pt x="13854" y="16625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c090"/>
            </a:solidFill>
            <a:ln w="25560">
              <a:solidFill>
                <a:srgbClr val="fac0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AutoShape 16"/>
            <p:cNvSpPr/>
            <p:nvPr/>
          </p:nvSpPr>
          <p:spPr>
            <a:xfrm>
              <a:off x="2023920" y="1143000"/>
              <a:ext cx="1617840" cy="209520"/>
            </a:xfrm>
            <a:prstGeom prst="roundRect">
              <a:avLst>
                <a:gd name="adj" fmla="val 16667"/>
              </a:avLst>
            </a:prstGeom>
            <a:solidFill>
              <a:srgbClr val="fac090"/>
            </a:solidFill>
            <a:ln w="25560">
              <a:solidFill>
                <a:srgbClr val="fac0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0" name="Group 17"/>
          <p:cNvGrpSpPr/>
          <p:nvPr/>
        </p:nvGrpSpPr>
        <p:grpSpPr>
          <a:xfrm>
            <a:off x="1663560" y="4384080"/>
            <a:ext cx="2241720" cy="2242080"/>
            <a:chOff x="1663560" y="4384080"/>
            <a:chExt cx="2241720" cy="2242080"/>
          </a:xfrm>
        </p:grpSpPr>
        <p:grpSp>
          <p:nvGrpSpPr>
            <p:cNvPr id="131" name="Group 18"/>
            <p:cNvGrpSpPr/>
            <p:nvPr/>
          </p:nvGrpSpPr>
          <p:grpSpPr>
            <a:xfrm>
              <a:off x="1728720" y="4444920"/>
              <a:ext cx="2112480" cy="2112480"/>
              <a:chOff x="1728720" y="4444920"/>
              <a:chExt cx="2112480" cy="2112480"/>
            </a:xfrm>
          </p:grpSpPr>
          <p:pic>
            <p:nvPicPr>
              <p:cNvPr id="132" name="Picture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1728720" y="4444920"/>
                <a:ext cx="2112480" cy="2112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3" name="Text Box 20"/>
              <p:cNvSpPr/>
              <p:nvPr/>
            </p:nvSpPr>
            <p:spPr>
              <a:xfrm>
                <a:off x="2050920" y="4770000"/>
                <a:ext cx="1466640" cy="1466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34" name="AutoShape 21"/>
            <p:cNvSpPr/>
            <p:nvPr/>
          </p:nvSpPr>
          <p:spPr>
            <a:xfrm rot="20520000">
              <a:off x="1894680" y="4615200"/>
              <a:ext cx="1778760" cy="1779480"/>
            </a:xfrm>
            <a:custGeom>
              <a:avLst/>
              <a:gdLst>
                <a:gd name="textAreaLeft" fmla="*/ 818640 w 1778760"/>
                <a:gd name="textAreaRight" fmla="*/ 960120 w 1778760"/>
                <a:gd name="textAreaTop" fmla="*/ 819000 h 1779480"/>
                <a:gd name="textAreaBottom" fmla="*/ 960480 h 177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9941" y="9941"/>
                  </a:lnTo>
                  <a:lnTo>
                    <a:pt x="10800" y="0"/>
                  </a:lnTo>
                  <a:lnTo>
                    <a:pt x="11659" y="9941"/>
                  </a:lnTo>
                  <a:lnTo>
                    <a:pt x="21600" y="10800"/>
                  </a:lnTo>
                  <a:lnTo>
                    <a:pt x="11659" y="11659"/>
                  </a:lnTo>
                  <a:lnTo>
                    <a:pt x="10800" y="21600"/>
                  </a:lnTo>
                  <a:lnTo>
                    <a:pt x="9941" y="11659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ebf1de"/>
            </a:solidFill>
            <a:ln w="25560">
              <a:solidFill>
                <a:srgbClr val="ebf1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Oval 22"/>
            <p:cNvSpPr/>
            <p:nvPr/>
          </p:nvSpPr>
          <p:spPr>
            <a:xfrm>
              <a:off x="2638080" y="5356080"/>
              <a:ext cx="295200" cy="295200"/>
            </a:xfrm>
            <a:prstGeom prst="ellipse">
              <a:avLst/>
            </a:prstGeom>
            <a:gradFill rotWithShape="0">
              <a:gsLst>
                <a:gs pos="0">
                  <a:srgbClr val="156b13"/>
                </a:gs>
                <a:gs pos="100000">
                  <a:srgbClr val="63252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6" name="Group 23"/>
          <p:cNvGrpSpPr/>
          <p:nvPr/>
        </p:nvGrpSpPr>
        <p:grpSpPr>
          <a:xfrm>
            <a:off x="1869840" y="4365360"/>
            <a:ext cx="1871640" cy="1297440"/>
            <a:chOff x="1869840" y="4365360"/>
            <a:chExt cx="1871640" cy="1297440"/>
          </a:xfrm>
        </p:grpSpPr>
        <p:sp>
          <p:nvSpPr>
            <p:cNvPr id="137" name="AutoShape 24"/>
            <p:cNvSpPr/>
            <p:nvPr/>
          </p:nvSpPr>
          <p:spPr>
            <a:xfrm rot="21420000">
              <a:off x="1900080" y="4411800"/>
              <a:ext cx="1811160" cy="1204560"/>
            </a:xfrm>
            <a:custGeom>
              <a:avLst/>
              <a:gdLst>
                <a:gd name="textAreaLeft" fmla="*/ 37440 w 1811160"/>
                <a:gd name="textAreaRight" fmla="*/ 1811520 w 1811160"/>
                <a:gd name="textAreaTop" fmla="*/ 0 h 1204560"/>
                <a:gd name="textAreaBottom" fmla="*/ 603000 h 1204560"/>
              </a:gdLst>
              <a:ahLst/>
              <a:rect l="textAreaLeft" t="textAreaTop" r="textAreaRight" b="textAreaBottom"/>
              <a:pathLst>
                <a:path w="1755053" h="1113994">
                  <a:moveTo>
                    <a:pt x="36404" y="398230"/>
                  </a:moveTo>
                  <a:lnTo>
                    <a:pt x="36403" y="398229"/>
                  </a:lnTo>
                  <a:cubicBezTo>
                    <a:pt x="147086" y="161984"/>
                    <a:pt x="489222" y="-1"/>
                    <a:pt x="877527" y="0"/>
                  </a:cubicBezTo>
                  <a:cubicBezTo>
                    <a:pt x="1362171" y="0"/>
                    <a:pt x="1755054" y="249376"/>
                    <a:pt x="1755054" y="556997"/>
                  </a:cubicBezTo>
                  <a:cubicBezTo>
                    <a:pt x="1755054" y="556997"/>
                    <a:pt x="1755053" y="556998"/>
                    <a:pt x="1755053" y="556998"/>
                  </a:cubicBezTo>
                  <a:lnTo>
                    <a:pt x="1476555" y="556997"/>
                  </a:lnTo>
                  <a:cubicBezTo>
                    <a:pt x="1476555" y="403186"/>
                    <a:pt x="1208361" y="278498"/>
                    <a:pt x="877527" y="278498"/>
                  </a:cubicBezTo>
                  <a:cubicBezTo>
                    <a:pt x="633707" y="278497"/>
                    <a:pt x="414216" y="347203"/>
                    <a:pt x="322498" y="452233"/>
                  </a:cubicBezTo>
                  <a:close/>
                </a:path>
              </a:pathLst>
            </a:custGeom>
            <a:gradFill rotWithShape="0">
              <a:gsLst>
                <a:gs pos="0">
                  <a:srgbClr val="156b13"/>
                </a:gs>
                <a:gs pos="100000">
                  <a:srgbClr val="ddebcf"/>
                </a:gs>
              </a:gsLst>
              <a:lin ang="5400000"/>
            </a:gradFill>
            <a:ln w="255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Oval 25"/>
            <p:cNvSpPr/>
            <p:nvPr/>
          </p:nvSpPr>
          <p:spPr>
            <a:xfrm>
              <a:off x="3408120" y="4647240"/>
              <a:ext cx="278280" cy="290160"/>
            </a:xfrm>
            <a:prstGeom prst="ellipse">
              <a:avLst/>
            </a:prstGeom>
            <a:gradFill rotWithShape="0">
              <a:gsLst>
                <a:gs pos="0">
                  <a:srgbClr val="156b13"/>
                </a:gs>
                <a:gs pos="100000">
                  <a:srgbClr val="63252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Oval 26"/>
            <p:cNvSpPr/>
            <p:nvPr/>
          </p:nvSpPr>
          <p:spPr>
            <a:xfrm>
              <a:off x="1989720" y="4664160"/>
              <a:ext cx="277200" cy="290160"/>
            </a:xfrm>
            <a:prstGeom prst="ellipse">
              <a:avLst/>
            </a:prstGeom>
            <a:gradFill rotWithShape="0">
              <a:gsLst>
                <a:gs pos="0">
                  <a:srgbClr val="156b13"/>
                </a:gs>
                <a:gs pos="100000">
                  <a:srgbClr val="63252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0" name="Group 27"/>
          <p:cNvGrpSpPr/>
          <p:nvPr/>
        </p:nvGrpSpPr>
        <p:grpSpPr>
          <a:xfrm>
            <a:off x="1526040" y="2122560"/>
            <a:ext cx="2438280" cy="2741400"/>
            <a:chOff x="1526040" y="2122560"/>
            <a:chExt cx="2438280" cy="2741400"/>
          </a:xfrm>
        </p:grpSpPr>
        <p:sp>
          <p:nvSpPr>
            <p:cNvPr id="141" name="AutoShape 28"/>
            <p:cNvSpPr/>
            <p:nvPr/>
          </p:nvSpPr>
          <p:spPr>
            <a:xfrm rot="1260000">
              <a:off x="1874520" y="2359080"/>
              <a:ext cx="1740960" cy="2268000"/>
            </a:xfrm>
            <a:custGeom>
              <a:avLst/>
              <a:gdLst>
                <a:gd name="textAreaLeft" fmla="*/ 0 w 1740960"/>
                <a:gd name="textAreaRight" fmla="*/ 1741320 w 1740960"/>
                <a:gd name="textAreaTop" fmla="*/ 0 h 2268000"/>
                <a:gd name="textAreaBottom" fmla="*/ 2268360 h 2268000"/>
              </a:gdLst>
              <a:ahLst/>
              <a:rect l="textAreaLeft" t="textAreaTop" r="textAreaRight" b="textAreaBottom"/>
              <a:pathLst>
                <a:path w="1066800" h="2105891">
                  <a:moveTo>
                    <a:pt x="0" y="0"/>
                  </a:moveTo>
                  <a:lnTo>
                    <a:pt x="249382" y="0"/>
                  </a:lnTo>
                  <a:lnTo>
                    <a:pt x="1066800" y="2105891"/>
                  </a:lnTo>
                  <a:lnTo>
                    <a:pt x="831273" y="2105891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3"/>
              <a:srcRect/>
              <a:stretch/>
            </a:blipFill>
            <a:ln w="25560">
              <a:solidFill>
                <a:srgbClr val="77933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Oval 29"/>
            <p:cNvSpPr/>
            <p:nvPr/>
          </p:nvSpPr>
          <p:spPr>
            <a:xfrm rot="1260000">
              <a:off x="2512440" y="4377240"/>
              <a:ext cx="581400" cy="383400"/>
            </a:xfrm>
            <a:prstGeom prst="ellipse">
              <a:avLst/>
            </a:prstGeom>
            <a:gradFill rotWithShape="0">
              <a:gsLst>
                <a:gs pos="0">
                  <a:srgbClr val="156b13"/>
                </a:gs>
                <a:gs pos="100000">
                  <a:srgbClr val="d7e4b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3" name="Group 30"/>
          <p:cNvGrpSpPr/>
          <p:nvPr/>
        </p:nvGrpSpPr>
        <p:grpSpPr>
          <a:xfrm>
            <a:off x="2500200" y="642960"/>
            <a:ext cx="641520" cy="712800"/>
            <a:chOff x="2500200" y="642960"/>
            <a:chExt cx="641520" cy="712800"/>
          </a:xfrm>
        </p:grpSpPr>
        <p:sp>
          <p:nvSpPr>
            <p:cNvPr id="144" name="AutoShape 31"/>
            <p:cNvSpPr/>
            <p:nvPr/>
          </p:nvSpPr>
          <p:spPr>
            <a:xfrm>
              <a:off x="2571840" y="642960"/>
              <a:ext cx="498240" cy="712800"/>
            </a:xfrm>
            <a:prstGeom prst="flowChartExtract">
              <a:avLst/>
            </a:prstGeom>
            <a:gradFill rotWithShape="0">
              <a:gsLst>
                <a:gs pos="0">
                  <a:srgbClr val="e6e6e6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AutoShape 32"/>
            <p:cNvSpPr/>
            <p:nvPr/>
          </p:nvSpPr>
          <p:spPr>
            <a:xfrm>
              <a:off x="2500200" y="1143000"/>
              <a:ext cx="641520" cy="1411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AutoShape 33"/>
            <p:cNvSpPr/>
            <p:nvPr/>
          </p:nvSpPr>
          <p:spPr>
            <a:xfrm>
              <a:off x="2652840" y="785880"/>
              <a:ext cx="345960" cy="1411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7" name="Group 34"/>
          <p:cNvGrpSpPr/>
          <p:nvPr/>
        </p:nvGrpSpPr>
        <p:grpSpPr>
          <a:xfrm>
            <a:off x="1542960" y="1468440"/>
            <a:ext cx="2478240" cy="1200240"/>
            <a:chOff x="1542960" y="1468440"/>
            <a:chExt cx="2478240" cy="1200240"/>
          </a:xfrm>
        </p:grpSpPr>
        <p:pic>
          <p:nvPicPr>
            <p:cNvPr id="148" name="Picture 35" descr=""/>
            <p:cNvPicPr/>
            <p:nvPr/>
          </p:nvPicPr>
          <p:blipFill>
            <a:blip r:embed="rId4"/>
            <a:stretch/>
          </p:blipFill>
          <p:spPr>
            <a:xfrm>
              <a:off x="1542960" y="1468440"/>
              <a:ext cx="2478240" cy="120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Text Box 36"/>
            <p:cNvSpPr/>
            <p:nvPr/>
          </p:nvSpPr>
          <p:spPr>
            <a:xfrm>
              <a:off x="1571760" y="1500120"/>
              <a:ext cx="2427120" cy="114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0" name="Group 37"/>
          <p:cNvGrpSpPr/>
          <p:nvPr/>
        </p:nvGrpSpPr>
        <p:grpSpPr>
          <a:xfrm>
            <a:off x="4000680" y="1143000"/>
            <a:ext cx="285120" cy="2784600"/>
            <a:chOff x="4000680" y="1143000"/>
            <a:chExt cx="285120" cy="2784600"/>
          </a:xfrm>
        </p:grpSpPr>
        <p:grpSp>
          <p:nvGrpSpPr>
            <p:cNvPr id="151" name="Group 38"/>
            <p:cNvGrpSpPr/>
            <p:nvPr/>
          </p:nvGrpSpPr>
          <p:grpSpPr>
            <a:xfrm>
              <a:off x="4003560" y="1143000"/>
              <a:ext cx="282240" cy="2498760"/>
              <a:chOff x="4003560" y="1143000"/>
              <a:chExt cx="282240" cy="2498760"/>
            </a:xfrm>
          </p:grpSpPr>
          <p:sp>
            <p:nvSpPr>
              <p:cNvPr id="152" name="AutoShape 39"/>
              <p:cNvSpPr/>
              <p:nvPr/>
            </p:nvSpPr>
            <p:spPr>
              <a:xfrm>
                <a:off x="4003560" y="1143000"/>
                <a:ext cx="282240" cy="2498760"/>
              </a:xfrm>
              <a:custGeom>
                <a:avLst/>
                <a:gdLst>
                  <a:gd name="textAreaLeft" fmla="*/ 13680 w 282240"/>
                  <a:gd name="textAreaRight" fmla="*/ 268560 w 282240"/>
                  <a:gd name="textAreaTop" fmla="*/ 13680 h 2498760"/>
                  <a:gd name="textAreaBottom" fmla="*/ 2485080 h 2498760"/>
                </a:gdLst>
                <a:ahLst/>
                <a:rect l="textAreaLeft" t="textAreaTop" r="textAreaRight" b="textAreaBottom"/>
                <a:pathLst>
                  <a:path w="21600" h="191016">
                    <a:moveTo>
                      <a:pt x="3600" y="0"/>
                    </a:moveTo>
                    <a:arcTo wR="3600" hR="3600" stAng="16200000" swAng="-5400000"/>
                    <a:lnTo>
                      <a:pt x="0" y="187416"/>
                    </a:lnTo>
                    <a:arcTo wR="3600" hR="3600" stAng="10800000" swAng="-5400000"/>
                    <a:lnTo>
                      <a:pt x="18000" y="191016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ac090"/>
              </a:solidFill>
              <a:ln w="25560">
                <a:solidFill>
                  <a:srgbClr val="fac09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AutoShape 40"/>
              <p:cNvSpPr/>
              <p:nvPr/>
            </p:nvSpPr>
            <p:spPr>
              <a:xfrm>
                <a:off x="4074120" y="1276200"/>
                <a:ext cx="140400" cy="2293920"/>
              </a:xfrm>
              <a:custGeom>
                <a:avLst/>
                <a:gdLst>
                  <a:gd name="textAreaLeft" fmla="*/ 6840 w 140400"/>
                  <a:gd name="textAreaRight" fmla="*/ 133560 w 140400"/>
                  <a:gd name="textAreaTop" fmla="*/ 6840 h 2293920"/>
                  <a:gd name="textAreaBottom" fmla="*/ 2287080 h 2293920"/>
                </a:gdLst>
                <a:ahLst/>
                <a:rect l="textAreaLeft" t="textAreaTop" r="textAreaRight" b="textAreaBottom"/>
                <a:pathLst>
                  <a:path w="21600" h="352063">
                    <a:moveTo>
                      <a:pt x="3600" y="0"/>
                    </a:moveTo>
                    <a:arcTo wR="3600" hR="3600" stAng="16200000" swAng="-5400000"/>
                    <a:lnTo>
                      <a:pt x="0" y="348463"/>
                    </a:lnTo>
                    <a:arcTo wR="3600" hR="3600" stAng="10800000" swAng="-5400000"/>
                    <a:lnTo>
                      <a:pt x="18000" y="352063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54" name="Line 41"/>
            <p:cNvSpPr/>
            <p:nvPr/>
          </p:nvSpPr>
          <p:spPr>
            <a:xfrm flipH="1">
              <a:off x="4000680" y="1143000"/>
              <a:ext cx="2880" cy="2784600"/>
            </a:xfrm>
            <a:prstGeom prst="line">
              <a:avLst/>
            </a:prstGeom>
            <a:ln w="101520">
              <a:solidFill>
                <a:srgbClr val="fac0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5" name="Group 42"/>
          <p:cNvGrpSpPr/>
          <p:nvPr/>
        </p:nvGrpSpPr>
        <p:grpSpPr>
          <a:xfrm>
            <a:off x="1285920" y="1143000"/>
            <a:ext cx="283680" cy="2786040"/>
            <a:chOff x="1285920" y="1143000"/>
            <a:chExt cx="283680" cy="2786040"/>
          </a:xfrm>
        </p:grpSpPr>
        <p:grpSp>
          <p:nvGrpSpPr>
            <p:cNvPr id="156" name="Group 43"/>
            <p:cNvGrpSpPr/>
            <p:nvPr/>
          </p:nvGrpSpPr>
          <p:grpSpPr>
            <a:xfrm>
              <a:off x="1285920" y="1143000"/>
              <a:ext cx="282240" cy="2498760"/>
              <a:chOff x="1285920" y="1143000"/>
              <a:chExt cx="282240" cy="2498760"/>
            </a:xfrm>
          </p:grpSpPr>
          <p:sp>
            <p:nvSpPr>
              <p:cNvPr id="157" name="AutoShape 44"/>
              <p:cNvSpPr/>
              <p:nvPr/>
            </p:nvSpPr>
            <p:spPr>
              <a:xfrm>
                <a:off x="1285920" y="1143000"/>
                <a:ext cx="282240" cy="2498760"/>
              </a:xfrm>
              <a:custGeom>
                <a:avLst/>
                <a:gdLst>
                  <a:gd name="textAreaLeft" fmla="*/ 13680 w 282240"/>
                  <a:gd name="textAreaRight" fmla="*/ 268560 w 282240"/>
                  <a:gd name="textAreaTop" fmla="*/ 13680 h 2498760"/>
                  <a:gd name="textAreaBottom" fmla="*/ 2485080 h 2498760"/>
                </a:gdLst>
                <a:ahLst/>
                <a:rect l="textAreaLeft" t="textAreaTop" r="textAreaRight" b="textAreaBottom"/>
                <a:pathLst>
                  <a:path w="21600" h="191016">
                    <a:moveTo>
                      <a:pt x="3600" y="0"/>
                    </a:moveTo>
                    <a:arcTo wR="3600" hR="3600" stAng="16200000" swAng="-5400000"/>
                    <a:lnTo>
                      <a:pt x="0" y="187416"/>
                    </a:lnTo>
                    <a:arcTo wR="3600" hR="3600" stAng="10800000" swAng="-5400000"/>
                    <a:lnTo>
                      <a:pt x="18000" y="191016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ac090"/>
              </a:solidFill>
              <a:ln w="25560">
                <a:solidFill>
                  <a:srgbClr val="fac09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" name="AutoShape 45"/>
              <p:cNvSpPr/>
              <p:nvPr/>
            </p:nvSpPr>
            <p:spPr>
              <a:xfrm>
                <a:off x="1355040" y="1276200"/>
                <a:ext cx="137160" cy="2293920"/>
              </a:xfrm>
              <a:custGeom>
                <a:avLst/>
                <a:gdLst>
                  <a:gd name="textAreaLeft" fmla="*/ 6480 w 137160"/>
                  <a:gd name="textAreaRight" fmla="*/ 130680 w 137160"/>
                  <a:gd name="textAreaTop" fmla="*/ 6480 h 2293920"/>
                  <a:gd name="textAreaBottom" fmla="*/ 2287440 h 2293920"/>
                </a:gdLst>
                <a:ahLst/>
                <a:rect l="textAreaLeft" t="textAreaTop" r="textAreaRight" b="textAreaBottom"/>
                <a:pathLst>
                  <a:path w="21600" h="360358">
                    <a:moveTo>
                      <a:pt x="3600" y="0"/>
                    </a:moveTo>
                    <a:arcTo wR="3600" hR="3600" stAng="16200000" swAng="-5400000"/>
                    <a:lnTo>
                      <a:pt x="0" y="356758"/>
                    </a:lnTo>
                    <a:arcTo wR="3600" hR="3600" stAng="10800000" swAng="-5400000"/>
                    <a:lnTo>
                      <a:pt x="18000" y="36035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59" name="Line 46"/>
            <p:cNvSpPr/>
            <p:nvPr/>
          </p:nvSpPr>
          <p:spPr>
            <a:xfrm flipH="1">
              <a:off x="1566720" y="1144440"/>
              <a:ext cx="2880" cy="2784600"/>
            </a:xfrm>
            <a:prstGeom prst="line">
              <a:avLst/>
            </a:prstGeom>
            <a:ln w="101520">
              <a:solidFill>
                <a:srgbClr val="fac0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0" name="Group 47"/>
          <p:cNvGrpSpPr/>
          <p:nvPr/>
        </p:nvGrpSpPr>
        <p:grpSpPr>
          <a:xfrm>
            <a:off x="3473280" y="214200"/>
            <a:ext cx="525600" cy="1212840"/>
            <a:chOff x="3473280" y="214200"/>
            <a:chExt cx="525600" cy="1212840"/>
          </a:xfrm>
        </p:grpSpPr>
        <p:pic>
          <p:nvPicPr>
            <p:cNvPr id="161" name="Picture 48" descr=""/>
            <p:cNvPicPr/>
            <p:nvPr/>
          </p:nvPicPr>
          <p:blipFill>
            <a:blip r:embed="rId5"/>
            <a:stretch/>
          </p:blipFill>
          <p:spPr>
            <a:xfrm>
              <a:off x="3681360" y="281160"/>
              <a:ext cx="128520" cy="10555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62" name="Group 49"/>
            <p:cNvGrpSpPr/>
            <p:nvPr/>
          </p:nvGrpSpPr>
          <p:grpSpPr>
            <a:xfrm>
              <a:off x="3473280" y="214200"/>
              <a:ext cx="509760" cy="412920"/>
              <a:chOff x="3473280" y="214200"/>
              <a:chExt cx="509760" cy="412920"/>
            </a:xfrm>
          </p:grpSpPr>
          <p:grpSp>
            <p:nvGrpSpPr>
              <p:cNvPr id="163" name="Group 50"/>
              <p:cNvGrpSpPr/>
              <p:nvPr/>
            </p:nvGrpSpPr>
            <p:grpSpPr>
              <a:xfrm>
                <a:off x="3530520" y="318960"/>
                <a:ext cx="414360" cy="155880"/>
                <a:chOff x="3530520" y="318960"/>
                <a:chExt cx="414360" cy="155880"/>
              </a:xfrm>
            </p:grpSpPr>
            <p:pic>
              <p:nvPicPr>
                <p:cNvPr id="164" name="Picture 51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3530520" y="318960"/>
                  <a:ext cx="414360" cy="155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5" name="Text Box 52"/>
                <p:cNvSpPr/>
                <p:nvPr/>
              </p:nvSpPr>
              <p:spPr>
                <a:xfrm>
                  <a:off x="3584520" y="351000"/>
                  <a:ext cx="311040" cy="5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6" name="Group 53"/>
              <p:cNvGrpSpPr/>
              <p:nvPr/>
            </p:nvGrpSpPr>
            <p:grpSpPr>
              <a:xfrm>
                <a:off x="3530520" y="392040"/>
                <a:ext cx="414360" cy="160560"/>
                <a:chOff x="3530520" y="392040"/>
                <a:chExt cx="414360" cy="160560"/>
              </a:xfrm>
            </p:grpSpPr>
            <p:pic>
              <p:nvPicPr>
                <p:cNvPr id="167" name="Picture 54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3530520" y="392040"/>
                  <a:ext cx="414360" cy="160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8" name="Text Box 55"/>
                <p:cNvSpPr/>
                <p:nvPr/>
              </p:nvSpPr>
              <p:spPr>
                <a:xfrm>
                  <a:off x="3584520" y="426960"/>
                  <a:ext cx="311040" cy="54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9" name="Group 56"/>
              <p:cNvGrpSpPr/>
              <p:nvPr/>
            </p:nvGrpSpPr>
            <p:grpSpPr>
              <a:xfrm>
                <a:off x="3473280" y="214200"/>
                <a:ext cx="509760" cy="203400"/>
                <a:chOff x="3473280" y="214200"/>
                <a:chExt cx="509760" cy="203400"/>
              </a:xfrm>
            </p:grpSpPr>
            <p:pic>
              <p:nvPicPr>
                <p:cNvPr id="170" name="Picture 57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3473280" y="214200"/>
                  <a:ext cx="509760" cy="203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1" name="Text Box 58"/>
                <p:cNvSpPr/>
                <p:nvPr/>
              </p:nvSpPr>
              <p:spPr>
                <a:xfrm>
                  <a:off x="3530520" y="250920"/>
                  <a:ext cx="399960" cy="9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2" name="Group 59"/>
              <p:cNvGrpSpPr/>
              <p:nvPr/>
            </p:nvGrpSpPr>
            <p:grpSpPr>
              <a:xfrm>
                <a:off x="3530520" y="366840"/>
                <a:ext cx="414360" cy="160200"/>
                <a:chOff x="3530520" y="366840"/>
                <a:chExt cx="414360" cy="160200"/>
              </a:xfrm>
            </p:grpSpPr>
            <p:pic>
              <p:nvPicPr>
                <p:cNvPr id="173" name="Picture 60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3530520" y="366840"/>
                  <a:ext cx="414360" cy="160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4" name="Text Box 61"/>
                <p:cNvSpPr/>
                <p:nvPr/>
              </p:nvSpPr>
              <p:spPr>
                <a:xfrm>
                  <a:off x="3584520" y="401760"/>
                  <a:ext cx="311040" cy="54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5" name="Group 62"/>
              <p:cNvGrpSpPr/>
              <p:nvPr/>
            </p:nvGrpSpPr>
            <p:grpSpPr>
              <a:xfrm>
                <a:off x="3530520" y="419040"/>
                <a:ext cx="414360" cy="155520"/>
                <a:chOff x="3530520" y="419040"/>
                <a:chExt cx="414360" cy="155520"/>
              </a:xfrm>
            </p:grpSpPr>
            <p:pic>
              <p:nvPicPr>
                <p:cNvPr id="176" name="Picture 63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3530520" y="419040"/>
                  <a:ext cx="414360" cy="155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Text Box 64"/>
                <p:cNvSpPr/>
                <p:nvPr/>
              </p:nvSpPr>
              <p:spPr>
                <a:xfrm>
                  <a:off x="3584520" y="452520"/>
                  <a:ext cx="311040" cy="54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8" name="Group 65"/>
              <p:cNvGrpSpPr/>
              <p:nvPr/>
            </p:nvGrpSpPr>
            <p:grpSpPr>
              <a:xfrm>
                <a:off x="3530520" y="471600"/>
                <a:ext cx="414360" cy="155520"/>
                <a:chOff x="3530520" y="471600"/>
                <a:chExt cx="414360" cy="155520"/>
              </a:xfrm>
            </p:grpSpPr>
            <p:pic>
              <p:nvPicPr>
                <p:cNvPr id="179" name="Picture 66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3530520" y="471600"/>
                  <a:ext cx="414360" cy="155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0" name="Text Box 67"/>
                <p:cNvSpPr/>
                <p:nvPr/>
              </p:nvSpPr>
              <p:spPr>
                <a:xfrm>
                  <a:off x="3584520" y="503280"/>
                  <a:ext cx="311040" cy="54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81" name="Group 68"/>
            <p:cNvGrpSpPr/>
            <p:nvPr/>
          </p:nvGrpSpPr>
          <p:grpSpPr>
            <a:xfrm>
              <a:off x="3503520" y="1042920"/>
              <a:ext cx="495360" cy="384120"/>
              <a:chOff x="3503520" y="1042920"/>
              <a:chExt cx="495360" cy="384120"/>
            </a:xfrm>
          </p:grpSpPr>
          <p:pic>
            <p:nvPicPr>
              <p:cNvPr id="182" name="Picture 69" descr=""/>
              <p:cNvPicPr/>
              <p:nvPr/>
            </p:nvPicPr>
            <p:blipFill>
              <a:blip r:embed="rId12"/>
              <a:stretch/>
            </p:blipFill>
            <p:spPr>
              <a:xfrm>
                <a:off x="3503520" y="1042920"/>
                <a:ext cx="495360" cy="384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3" name="Text Box 70"/>
              <p:cNvSpPr/>
              <p:nvPr/>
            </p:nvSpPr>
            <p:spPr>
              <a:xfrm>
                <a:off x="3581280" y="1092240"/>
                <a:ext cx="344520" cy="237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84" name="Group 71"/>
          <p:cNvGrpSpPr/>
          <p:nvPr/>
        </p:nvGrpSpPr>
        <p:grpSpPr>
          <a:xfrm>
            <a:off x="1544760" y="214200"/>
            <a:ext cx="525240" cy="1212840"/>
            <a:chOff x="1544760" y="214200"/>
            <a:chExt cx="525240" cy="1212840"/>
          </a:xfrm>
        </p:grpSpPr>
        <p:pic>
          <p:nvPicPr>
            <p:cNvPr id="185" name="Picture 72" descr=""/>
            <p:cNvPicPr/>
            <p:nvPr/>
          </p:nvPicPr>
          <p:blipFill>
            <a:blip r:embed="rId13"/>
            <a:stretch/>
          </p:blipFill>
          <p:spPr>
            <a:xfrm>
              <a:off x="1754280" y="281160"/>
              <a:ext cx="127080" cy="10555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86" name="Group 73"/>
            <p:cNvGrpSpPr/>
            <p:nvPr/>
          </p:nvGrpSpPr>
          <p:grpSpPr>
            <a:xfrm>
              <a:off x="1544760" y="214200"/>
              <a:ext cx="506160" cy="412920"/>
              <a:chOff x="1544760" y="214200"/>
              <a:chExt cx="506160" cy="412920"/>
            </a:xfrm>
          </p:grpSpPr>
          <p:grpSp>
            <p:nvGrpSpPr>
              <p:cNvPr id="187" name="Group 74"/>
              <p:cNvGrpSpPr/>
              <p:nvPr/>
            </p:nvGrpSpPr>
            <p:grpSpPr>
              <a:xfrm>
                <a:off x="1601640" y="318960"/>
                <a:ext cx="412920" cy="155880"/>
                <a:chOff x="1601640" y="318960"/>
                <a:chExt cx="412920" cy="155880"/>
              </a:xfrm>
            </p:grpSpPr>
            <p:pic>
              <p:nvPicPr>
                <p:cNvPr id="188" name="Picture 75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1601640" y="318960"/>
                  <a:ext cx="412920" cy="155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9" name="Text Box 76"/>
                <p:cNvSpPr/>
                <p:nvPr/>
              </p:nvSpPr>
              <p:spPr>
                <a:xfrm>
                  <a:off x="1657440" y="351000"/>
                  <a:ext cx="306360" cy="5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0" name="Group 77"/>
              <p:cNvGrpSpPr/>
              <p:nvPr/>
            </p:nvGrpSpPr>
            <p:grpSpPr>
              <a:xfrm>
                <a:off x="1601640" y="392040"/>
                <a:ext cx="412920" cy="160560"/>
                <a:chOff x="1601640" y="392040"/>
                <a:chExt cx="412920" cy="160560"/>
              </a:xfrm>
            </p:grpSpPr>
            <p:pic>
              <p:nvPicPr>
                <p:cNvPr id="191" name="Picture 78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1601640" y="392040"/>
                  <a:ext cx="412920" cy="160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92" name="Text Box 79"/>
                <p:cNvSpPr/>
                <p:nvPr/>
              </p:nvSpPr>
              <p:spPr>
                <a:xfrm>
                  <a:off x="1657440" y="426960"/>
                  <a:ext cx="306360" cy="54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3" name="Group 80"/>
              <p:cNvGrpSpPr/>
              <p:nvPr/>
            </p:nvGrpSpPr>
            <p:grpSpPr>
              <a:xfrm>
                <a:off x="1544760" y="214200"/>
                <a:ext cx="506160" cy="203400"/>
                <a:chOff x="1544760" y="214200"/>
                <a:chExt cx="506160" cy="203400"/>
              </a:xfrm>
            </p:grpSpPr>
            <p:pic>
              <p:nvPicPr>
                <p:cNvPr id="194" name="Picture 81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1544760" y="214200"/>
                  <a:ext cx="506160" cy="203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95" name="Text Box 82"/>
                <p:cNvSpPr/>
                <p:nvPr/>
              </p:nvSpPr>
              <p:spPr>
                <a:xfrm>
                  <a:off x="1603440" y="250920"/>
                  <a:ext cx="393480" cy="9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6" name="Group 83"/>
              <p:cNvGrpSpPr/>
              <p:nvPr/>
            </p:nvGrpSpPr>
            <p:grpSpPr>
              <a:xfrm>
                <a:off x="1601640" y="366840"/>
                <a:ext cx="412920" cy="160200"/>
                <a:chOff x="1601640" y="366840"/>
                <a:chExt cx="412920" cy="160200"/>
              </a:xfrm>
            </p:grpSpPr>
            <p:pic>
              <p:nvPicPr>
                <p:cNvPr id="197" name="Picture 8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1601640" y="366840"/>
                  <a:ext cx="412920" cy="160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98" name="Text Box 85"/>
                <p:cNvSpPr/>
                <p:nvPr/>
              </p:nvSpPr>
              <p:spPr>
                <a:xfrm>
                  <a:off x="1657440" y="401760"/>
                  <a:ext cx="306360" cy="54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9" name="Group 86"/>
              <p:cNvGrpSpPr/>
              <p:nvPr/>
            </p:nvGrpSpPr>
            <p:grpSpPr>
              <a:xfrm>
                <a:off x="1601640" y="419040"/>
                <a:ext cx="412920" cy="155520"/>
                <a:chOff x="1601640" y="419040"/>
                <a:chExt cx="412920" cy="155520"/>
              </a:xfrm>
            </p:grpSpPr>
            <p:pic>
              <p:nvPicPr>
                <p:cNvPr id="200" name="Picture 87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1601640" y="419040"/>
                  <a:ext cx="412920" cy="155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01" name="Text Box 88"/>
                <p:cNvSpPr/>
                <p:nvPr/>
              </p:nvSpPr>
              <p:spPr>
                <a:xfrm>
                  <a:off x="1657440" y="452520"/>
                  <a:ext cx="306360" cy="54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2" name="Group 89"/>
              <p:cNvGrpSpPr/>
              <p:nvPr/>
            </p:nvGrpSpPr>
            <p:grpSpPr>
              <a:xfrm>
                <a:off x="1601640" y="471600"/>
                <a:ext cx="412920" cy="155520"/>
                <a:chOff x="1601640" y="471600"/>
                <a:chExt cx="412920" cy="155520"/>
              </a:xfrm>
            </p:grpSpPr>
            <p:pic>
              <p:nvPicPr>
                <p:cNvPr id="203" name="Picture 90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1601640" y="471600"/>
                  <a:ext cx="412920" cy="155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04" name="Text Box 91"/>
                <p:cNvSpPr/>
                <p:nvPr/>
              </p:nvSpPr>
              <p:spPr>
                <a:xfrm>
                  <a:off x="1657440" y="503280"/>
                  <a:ext cx="306360" cy="54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05" name="Group 92"/>
            <p:cNvGrpSpPr/>
            <p:nvPr/>
          </p:nvGrpSpPr>
          <p:grpSpPr>
            <a:xfrm>
              <a:off x="1577880" y="1042920"/>
              <a:ext cx="492120" cy="384120"/>
              <a:chOff x="1577880" y="1042920"/>
              <a:chExt cx="492120" cy="384120"/>
            </a:xfrm>
          </p:grpSpPr>
          <p:pic>
            <p:nvPicPr>
              <p:cNvPr id="206" name="Picture 93" descr=""/>
              <p:cNvPicPr/>
              <p:nvPr/>
            </p:nvPicPr>
            <p:blipFill>
              <a:blip r:embed="rId20"/>
              <a:stretch/>
            </p:blipFill>
            <p:spPr>
              <a:xfrm>
                <a:off x="1577880" y="1042920"/>
                <a:ext cx="492120" cy="384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7" name="Text Box 94"/>
              <p:cNvSpPr/>
              <p:nvPr/>
            </p:nvSpPr>
            <p:spPr>
              <a:xfrm>
                <a:off x="1652760" y="1092240"/>
                <a:ext cx="342720" cy="237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pic>
        <p:nvPicPr>
          <p:cNvPr id="208" name="Picture 95" descr=""/>
          <p:cNvPicPr/>
          <p:nvPr/>
        </p:nvPicPr>
        <p:blipFill>
          <a:blip r:embed="rId21"/>
          <a:stretch/>
        </p:blipFill>
        <p:spPr>
          <a:xfrm>
            <a:off x="5389560" y="-208080"/>
            <a:ext cx="3535200" cy="2017800"/>
          </a:xfrm>
          <a:prstGeom prst="rect">
            <a:avLst/>
          </a:prstGeom>
          <a:ln w="0">
            <a:noFill/>
          </a:ln>
        </p:spPr>
      </p:pic>
      <p:sp>
        <p:nvSpPr>
          <p:cNvPr id="209" name="AutoShape 96"/>
          <p:cNvSpPr/>
          <p:nvPr/>
        </p:nvSpPr>
        <p:spPr>
          <a:xfrm rot="20100000">
            <a:off x="3195720" y="4010040"/>
            <a:ext cx="530280" cy="996840"/>
          </a:xfrm>
          <a:custGeom>
            <a:avLst/>
            <a:gdLst>
              <a:gd name="textAreaLeft" fmla="*/ 0 w 530280"/>
              <a:gd name="textAreaRight" fmla="*/ 530640 w 530280"/>
              <a:gd name="textAreaTop" fmla="*/ 0 h 996840"/>
              <a:gd name="textAreaBottom" fmla="*/ 997200 h 996840"/>
            </a:gdLst>
            <a:ahLst/>
            <a:rect l="textAreaLeft" t="textAreaTop" r="textAreaRight" b="textAreaBottom"/>
            <a:pathLst>
              <a:path w="327890" h="942109">
                <a:moveTo>
                  <a:pt x="0" y="0"/>
                </a:moveTo>
                <a:cubicBezTo>
                  <a:pt x="98136" y="105063"/>
                  <a:pt x="196273" y="210127"/>
                  <a:pt x="249382" y="346363"/>
                </a:cubicBezTo>
                <a:cubicBezTo>
                  <a:pt x="302491" y="482599"/>
                  <a:pt x="309418" y="718127"/>
                  <a:pt x="318654" y="817418"/>
                </a:cubicBezTo>
                <a:cubicBezTo>
                  <a:pt x="327890" y="916709"/>
                  <a:pt x="316345" y="929409"/>
                  <a:pt x="304800" y="942109"/>
                </a:cubicBezTo>
              </a:path>
            </a:pathLst>
          </a:custGeom>
          <a:noFill/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0" name="Picture 97" descr=""/>
          <p:cNvPicPr/>
          <p:nvPr/>
        </p:nvPicPr>
        <p:blipFill>
          <a:blip r:embed="rId22"/>
          <a:stretch/>
        </p:blipFill>
        <p:spPr>
          <a:xfrm>
            <a:off x="4468680" y="1163520"/>
            <a:ext cx="5181840" cy="1592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1"/>
          <p:cNvSpPr/>
          <p:nvPr/>
        </p:nvSpPr>
        <p:spPr>
          <a:xfrm>
            <a:off x="1571760" y="1143000"/>
            <a:ext cx="2428920" cy="2786040"/>
          </a:xfrm>
          <a:prstGeom prst="rect">
            <a:avLst/>
          </a:prstGeom>
          <a:solidFill>
            <a:srgbClr val="004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2" name="Group 2"/>
          <p:cNvGrpSpPr/>
          <p:nvPr/>
        </p:nvGrpSpPr>
        <p:grpSpPr>
          <a:xfrm>
            <a:off x="2639880" y="1279440"/>
            <a:ext cx="1436760" cy="2657520"/>
            <a:chOff x="2639880" y="1279440"/>
            <a:chExt cx="1436760" cy="2657520"/>
          </a:xfrm>
        </p:grpSpPr>
        <p:pic>
          <p:nvPicPr>
            <p:cNvPr id="213" name="Picture 3" descr=""/>
            <p:cNvPicPr/>
            <p:nvPr/>
          </p:nvPicPr>
          <p:blipFill>
            <a:blip r:embed="rId1"/>
            <a:stretch/>
          </p:blipFill>
          <p:spPr>
            <a:xfrm>
              <a:off x="2639880" y="1279440"/>
              <a:ext cx="1436760" cy="265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Text Box 4"/>
            <p:cNvSpPr/>
            <p:nvPr/>
          </p:nvSpPr>
          <p:spPr>
            <a:xfrm>
              <a:off x="2643120" y="1285920"/>
              <a:ext cx="1427400" cy="264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5" name="Group 5"/>
          <p:cNvGrpSpPr/>
          <p:nvPr/>
        </p:nvGrpSpPr>
        <p:grpSpPr>
          <a:xfrm>
            <a:off x="928800" y="428760"/>
            <a:ext cx="3713040" cy="923760"/>
            <a:chOff x="928800" y="428760"/>
            <a:chExt cx="3713040" cy="923760"/>
          </a:xfrm>
        </p:grpSpPr>
        <p:sp>
          <p:nvSpPr>
            <p:cNvPr id="216" name="AutoShape 6"/>
            <p:cNvSpPr/>
            <p:nvPr/>
          </p:nvSpPr>
          <p:spPr>
            <a:xfrm>
              <a:off x="1006560" y="612720"/>
              <a:ext cx="1031760" cy="568440"/>
            </a:xfrm>
            <a:custGeom>
              <a:avLst/>
              <a:gdLst>
                <a:gd name="textAreaLeft" fmla="*/ 0 w 1031760"/>
                <a:gd name="textAreaRight" fmla="*/ 1032120 w 1031760"/>
                <a:gd name="textAreaTop" fmla="*/ 0 h 568440"/>
                <a:gd name="textAreaBottom" fmla="*/ 568800 h 568440"/>
              </a:gdLst>
              <a:ahLst/>
              <a:rect l="textAreaLeft" t="textAreaTop" r="textAreaRight" b="textAreaBottom"/>
              <a:pathLst>
                <a:path w="1482437" h="817418">
                  <a:moveTo>
                    <a:pt x="0" y="0"/>
                  </a:moveTo>
                  <a:lnTo>
                    <a:pt x="512618" y="0"/>
                  </a:lnTo>
                  <a:lnTo>
                    <a:pt x="1052946" y="263237"/>
                  </a:lnTo>
                  <a:lnTo>
                    <a:pt x="1482437" y="817418"/>
                  </a:lnTo>
                  <a:lnTo>
                    <a:pt x="872837" y="789709"/>
                  </a:lnTo>
                  <a:lnTo>
                    <a:pt x="595746" y="526473"/>
                  </a:lnTo>
                  <a:lnTo>
                    <a:pt x="13855" y="48490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Rectangle 7"/>
            <p:cNvSpPr/>
            <p:nvPr/>
          </p:nvSpPr>
          <p:spPr>
            <a:xfrm>
              <a:off x="928800" y="428760"/>
              <a:ext cx="147600" cy="247680"/>
            </a:xfrm>
            <a:prstGeom prst="rect">
              <a:avLst/>
            </a:prstGeom>
            <a:solidFill>
              <a:srgbClr val="fac090"/>
            </a:solidFill>
            <a:ln w="57240">
              <a:solidFill>
                <a:srgbClr val="fac0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Rectangle 8"/>
            <p:cNvSpPr/>
            <p:nvPr/>
          </p:nvSpPr>
          <p:spPr>
            <a:xfrm>
              <a:off x="928800" y="876240"/>
              <a:ext cx="196560" cy="247680"/>
            </a:xfrm>
            <a:prstGeom prst="rect">
              <a:avLst/>
            </a:prstGeom>
            <a:solidFill>
              <a:srgbClr val="fac090"/>
            </a:solidFill>
            <a:ln w="57240">
              <a:solidFill>
                <a:srgbClr val="fac0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AutoShape 9"/>
            <p:cNvSpPr/>
            <p:nvPr/>
          </p:nvSpPr>
          <p:spPr>
            <a:xfrm>
              <a:off x="977760" y="477720"/>
              <a:ext cx="1176480" cy="743040"/>
            </a:xfrm>
            <a:custGeom>
              <a:avLst/>
              <a:gdLst>
                <a:gd name="textAreaLeft" fmla="*/ 0 w 1176480"/>
                <a:gd name="textAreaRight" fmla="*/ 1176840 w 1176480"/>
                <a:gd name="textAreaTop" fmla="*/ 0 h 743040"/>
                <a:gd name="textAreaBottom" fmla="*/ 743400 h 743040"/>
              </a:gdLst>
              <a:ahLst/>
              <a:rect l="textAreaLeft" t="textAreaTop" r="textAreaRight" b="textAreaBottom"/>
              <a:pathLst>
                <a:path w="1690255" h="1066800">
                  <a:moveTo>
                    <a:pt x="27709" y="32015"/>
                  </a:moveTo>
                  <a:lnTo>
                    <a:pt x="13855" y="27709"/>
                  </a:lnTo>
                  <a:lnTo>
                    <a:pt x="471055" y="27709"/>
                  </a:lnTo>
                  <a:lnTo>
                    <a:pt x="803564" y="124691"/>
                  </a:lnTo>
                  <a:lnTo>
                    <a:pt x="1108364" y="290945"/>
                  </a:lnTo>
                  <a:lnTo>
                    <a:pt x="1246909" y="207818"/>
                  </a:lnTo>
                  <a:lnTo>
                    <a:pt x="1690255" y="152400"/>
                  </a:lnTo>
                  <a:lnTo>
                    <a:pt x="1690255" y="415636"/>
                  </a:lnTo>
                  <a:lnTo>
                    <a:pt x="1537855" y="374073"/>
                  </a:lnTo>
                  <a:lnTo>
                    <a:pt x="1343891" y="387927"/>
                  </a:lnTo>
                  <a:lnTo>
                    <a:pt x="1274619" y="484909"/>
                  </a:lnTo>
                  <a:lnTo>
                    <a:pt x="1274619" y="623454"/>
                  </a:lnTo>
                  <a:lnTo>
                    <a:pt x="1648691" y="942109"/>
                  </a:lnTo>
                  <a:lnTo>
                    <a:pt x="1648691" y="1066800"/>
                  </a:lnTo>
                  <a:lnTo>
                    <a:pt x="1468582" y="1039091"/>
                  </a:lnTo>
                  <a:lnTo>
                    <a:pt x="1025237" y="651163"/>
                  </a:lnTo>
                  <a:lnTo>
                    <a:pt x="997528" y="484909"/>
                  </a:lnTo>
                  <a:lnTo>
                    <a:pt x="748146" y="346363"/>
                  </a:lnTo>
                  <a:lnTo>
                    <a:pt x="457200" y="249382"/>
                  </a:lnTo>
                  <a:lnTo>
                    <a:pt x="13855" y="235527"/>
                  </a:lnTo>
                  <a:lnTo>
                    <a:pt x="0" y="0"/>
                  </a:lnTo>
                  <a:lnTo>
                    <a:pt x="27709" y="32015"/>
                  </a:lnTo>
                  <a:close/>
                </a:path>
              </a:pathLst>
            </a:custGeom>
            <a:solidFill>
              <a:srgbClr val="fac090"/>
            </a:solidFill>
            <a:ln w="25560">
              <a:solidFill>
                <a:srgbClr val="fac0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AutoShape 10"/>
            <p:cNvSpPr/>
            <p:nvPr/>
          </p:nvSpPr>
          <p:spPr>
            <a:xfrm>
              <a:off x="1084320" y="863640"/>
              <a:ext cx="606240" cy="307800"/>
            </a:xfrm>
            <a:custGeom>
              <a:avLst/>
              <a:gdLst>
                <a:gd name="textAreaLeft" fmla="*/ 0 w 606240"/>
                <a:gd name="textAreaRight" fmla="*/ 606600 w 606240"/>
                <a:gd name="textAreaTop" fmla="*/ 0 h 307800"/>
                <a:gd name="textAreaBottom" fmla="*/ 308160 h 307800"/>
              </a:gdLst>
              <a:ahLst/>
              <a:rect l="textAreaLeft" t="textAreaTop" r="textAreaRight" b="textAreaBottom"/>
              <a:pathLst>
                <a:path w="872836" h="443346">
                  <a:moveTo>
                    <a:pt x="0" y="0"/>
                  </a:moveTo>
                  <a:lnTo>
                    <a:pt x="263236" y="0"/>
                  </a:lnTo>
                  <a:lnTo>
                    <a:pt x="512618" y="69273"/>
                  </a:lnTo>
                  <a:lnTo>
                    <a:pt x="803563" y="263237"/>
                  </a:lnTo>
                  <a:lnTo>
                    <a:pt x="872836" y="443346"/>
                  </a:lnTo>
                  <a:lnTo>
                    <a:pt x="651163" y="443346"/>
                  </a:lnTo>
                  <a:lnTo>
                    <a:pt x="568036" y="304800"/>
                  </a:lnTo>
                  <a:lnTo>
                    <a:pt x="332509" y="193964"/>
                  </a:lnTo>
                  <a:lnTo>
                    <a:pt x="13854" y="16625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c090"/>
            </a:solidFill>
            <a:ln w="25560">
              <a:solidFill>
                <a:srgbClr val="fac0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AutoShape 11"/>
            <p:cNvSpPr/>
            <p:nvPr/>
          </p:nvSpPr>
          <p:spPr>
            <a:xfrm flipH="1">
              <a:off x="3537720" y="612720"/>
              <a:ext cx="1032120" cy="568440"/>
            </a:xfrm>
            <a:custGeom>
              <a:avLst/>
              <a:gdLst>
                <a:gd name="textAreaLeft" fmla="*/ -360 w 1032120"/>
                <a:gd name="textAreaRight" fmla="*/ 1032120 w 1032120"/>
                <a:gd name="textAreaTop" fmla="*/ 0 h 568440"/>
                <a:gd name="textAreaBottom" fmla="*/ 568800 h 568440"/>
              </a:gdLst>
              <a:ahLst/>
              <a:rect l="textAreaLeft" t="textAreaTop" r="textAreaRight" b="textAreaBottom"/>
              <a:pathLst>
                <a:path w="1482437" h="817418">
                  <a:moveTo>
                    <a:pt x="0" y="0"/>
                  </a:moveTo>
                  <a:lnTo>
                    <a:pt x="512618" y="0"/>
                  </a:lnTo>
                  <a:lnTo>
                    <a:pt x="1052946" y="263237"/>
                  </a:lnTo>
                  <a:lnTo>
                    <a:pt x="1482437" y="817418"/>
                  </a:lnTo>
                  <a:lnTo>
                    <a:pt x="872837" y="789709"/>
                  </a:lnTo>
                  <a:lnTo>
                    <a:pt x="595746" y="526473"/>
                  </a:lnTo>
                  <a:lnTo>
                    <a:pt x="13855" y="48490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Rectangle 12"/>
            <p:cNvSpPr/>
            <p:nvPr/>
          </p:nvSpPr>
          <p:spPr>
            <a:xfrm flipH="1">
              <a:off x="4494240" y="428760"/>
              <a:ext cx="147600" cy="247680"/>
            </a:xfrm>
            <a:prstGeom prst="rect">
              <a:avLst/>
            </a:prstGeom>
            <a:solidFill>
              <a:srgbClr val="fac090"/>
            </a:solidFill>
            <a:ln w="57240">
              <a:solidFill>
                <a:srgbClr val="fac0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Rectangle 13"/>
            <p:cNvSpPr/>
            <p:nvPr/>
          </p:nvSpPr>
          <p:spPr>
            <a:xfrm flipH="1">
              <a:off x="4442760" y="876240"/>
              <a:ext cx="196920" cy="247680"/>
            </a:xfrm>
            <a:prstGeom prst="rect">
              <a:avLst/>
            </a:prstGeom>
            <a:solidFill>
              <a:srgbClr val="fac090"/>
            </a:solidFill>
            <a:ln w="57240">
              <a:solidFill>
                <a:srgbClr val="fac0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AutoShape 14"/>
            <p:cNvSpPr/>
            <p:nvPr/>
          </p:nvSpPr>
          <p:spPr>
            <a:xfrm flipH="1">
              <a:off x="3415680" y="477720"/>
              <a:ext cx="1176120" cy="743040"/>
            </a:xfrm>
            <a:custGeom>
              <a:avLst/>
              <a:gdLst>
                <a:gd name="textAreaLeft" fmla="*/ -360 w 1176120"/>
                <a:gd name="textAreaRight" fmla="*/ 1176120 w 1176120"/>
                <a:gd name="textAreaTop" fmla="*/ 0 h 743040"/>
                <a:gd name="textAreaBottom" fmla="*/ 743400 h 743040"/>
              </a:gdLst>
              <a:ahLst/>
              <a:rect l="textAreaLeft" t="textAreaTop" r="textAreaRight" b="textAreaBottom"/>
              <a:pathLst>
                <a:path w="1690255" h="1066800">
                  <a:moveTo>
                    <a:pt x="27709" y="32015"/>
                  </a:moveTo>
                  <a:lnTo>
                    <a:pt x="13855" y="27709"/>
                  </a:lnTo>
                  <a:lnTo>
                    <a:pt x="471055" y="27709"/>
                  </a:lnTo>
                  <a:lnTo>
                    <a:pt x="803564" y="124691"/>
                  </a:lnTo>
                  <a:lnTo>
                    <a:pt x="1108364" y="290945"/>
                  </a:lnTo>
                  <a:lnTo>
                    <a:pt x="1246909" y="207818"/>
                  </a:lnTo>
                  <a:lnTo>
                    <a:pt x="1690255" y="152400"/>
                  </a:lnTo>
                  <a:lnTo>
                    <a:pt x="1690255" y="415636"/>
                  </a:lnTo>
                  <a:lnTo>
                    <a:pt x="1537855" y="374073"/>
                  </a:lnTo>
                  <a:lnTo>
                    <a:pt x="1343891" y="387927"/>
                  </a:lnTo>
                  <a:lnTo>
                    <a:pt x="1274619" y="484909"/>
                  </a:lnTo>
                  <a:lnTo>
                    <a:pt x="1274619" y="623454"/>
                  </a:lnTo>
                  <a:lnTo>
                    <a:pt x="1648691" y="942109"/>
                  </a:lnTo>
                  <a:lnTo>
                    <a:pt x="1648691" y="1066800"/>
                  </a:lnTo>
                  <a:lnTo>
                    <a:pt x="1468582" y="1039091"/>
                  </a:lnTo>
                  <a:lnTo>
                    <a:pt x="1025237" y="651163"/>
                  </a:lnTo>
                  <a:lnTo>
                    <a:pt x="997528" y="484909"/>
                  </a:lnTo>
                  <a:lnTo>
                    <a:pt x="748146" y="346363"/>
                  </a:lnTo>
                  <a:lnTo>
                    <a:pt x="457200" y="249382"/>
                  </a:lnTo>
                  <a:lnTo>
                    <a:pt x="13855" y="235527"/>
                  </a:lnTo>
                  <a:lnTo>
                    <a:pt x="0" y="0"/>
                  </a:lnTo>
                  <a:lnTo>
                    <a:pt x="27709" y="32015"/>
                  </a:lnTo>
                  <a:close/>
                </a:path>
              </a:pathLst>
            </a:custGeom>
            <a:solidFill>
              <a:srgbClr val="fac090"/>
            </a:solidFill>
            <a:ln w="25560">
              <a:solidFill>
                <a:srgbClr val="fac0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AutoShape 15"/>
            <p:cNvSpPr/>
            <p:nvPr/>
          </p:nvSpPr>
          <p:spPr>
            <a:xfrm flipH="1">
              <a:off x="3879000" y="863640"/>
              <a:ext cx="606600" cy="307800"/>
            </a:xfrm>
            <a:custGeom>
              <a:avLst/>
              <a:gdLst>
                <a:gd name="textAreaLeft" fmla="*/ -360 w 606600"/>
                <a:gd name="textAreaRight" fmla="*/ 606600 w 606600"/>
                <a:gd name="textAreaTop" fmla="*/ 0 h 307800"/>
                <a:gd name="textAreaBottom" fmla="*/ 308160 h 307800"/>
              </a:gdLst>
              <a:ahLst/>
              <a:rect l="textAreaLeft" t="textAreaTop" r="textAreaRight" b="textAreaBottom"/>
              <a:pathLst>
                <a:path w="872836" h="443346">
                  <a:moveTo>
                    <a:pt x="0" y="0"/>
                  </a:moveTo>
                  <a:lnTo>
                    <a:pt x="263236" y="0"/>
                  </a:lnTo>
                  <a:lnTo>
                    <a:pt x="512618" y="69273"/>
                  </a:lnTo>
                  <a:lnTo>
                    <a:pt x="803563" y="263237"/>
                  </a:lnTo>
                  <a:lnTo>
                    <a:pt x="872836" y="443346"/>
                  </a:lnTo>
                  <a:lnTo>
                    <a:pt x="651163" y="443346"/>
                  </a:lnTo>
                  <a:lnTo>
                    <a:pt x="568036" y="304800"/>
                  </a:lnTo>
                  <a:lnTo>
                    <a:pt x="332509" y="193964"/>
                  </a:lnTo>
                  <a:lnTo>
                    <a:pt x="13854" y="16625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c090"/>
            </a:solidFill>
            <a:ln w="25560">
              <a:solidFill>
                <a:srgbClr val="fac0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AutoShape 16"/>
            <p:cNvSpPr/>
            <p:nvPr/>
          </p:nvSpPr>
          <p:spPr>
            <a:xfrm>
              <a:off x="2023920" y="1143000"/>
              <a:ext cx="1617840" cy="209520"/>
            </a:xfrm>
            <a:prstGeom prst="roundRect">
              <a:avLst>
                <a:gd name="adj" fmla="val 16667"/>
              </a:avLst>
            </a:prstGeom>
            <a:solidFill>
              <a:srgbClr val="fac090"/>
            </a:solidFill>
            <a:ln w="25560">
              <a:solidFill>
                <a:srgbClr val="fac0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7" name="Group 17"/>
          <p:cNvGrpSpPr/>
          <p:nvPr/>
        </p:nvGrpSpPr>
        <p:grpSpPr>
          <a:xfrm>
            <a:off x="1571760" y="357120"/>
            <a:ext cx="504720" cy="1427400"/>
            <a:chOff x="1571760" y="357120"/>
            <a:chExt cx="504720" cy="1427400"/>
          </a:xfrm>
        </p:grpSpPr>
        <p:pic>
          <p:nvPicPr>
            <p:cNvPr id="228" name="Picture 18" descr=""/>
            <p:cNvPicPr/>
            <p:nvPr/>
          </p:nvPicPr>
          <p:blipFill>
            <a:blip r:embed="rId2"/>
            <a:stretch/>
          </p:blipFill>
          <p:spPr>
            <a:xfrm>
              <a:off x="1782720" y="490680"/>
              <a:ext cx="130320" cy="1063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29" name="Group 19"/>
            <p:cNvGrpSpPr/>
            <p:nvPr/>
          </p:nvGrpSpPr>
          <p:grpSpPr>
            <a:xfrm>
              <a:off x="1573200" y="1390680"/>
              <a:ext cx="503280" cy="393840"/>
              <a:chOff x="1573200" y="1390680"/>
              <a:chExt cx="503280" cy="393840"/>
            </a:xfrm>
          </p:grpSpPr>
          <p:pic>
            <p:nvPicPr>
              <p:cNvPr id="230" name="Picture 20" descr=""/>
              <p:cNvPicPr/>
              <p:nvPr/>
            </p:nvPicPr>
            <p:blipFill>
              <a:blip r:embed="rId3"/>
              <a:stretch/>
            </p:blipFill>
            <p:spPr>
              <a:xfrm>
                <a:off x="1573200" y="1390680"/>
                <a:ext cx="503280" cy="393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1" name="Text Box 21"/>
              <p:cNvSpPr/>
              <p:nvPr/>
            </p:nvSpPr>
            <p:spPr>
              <a:xfrm>
                <a:off x="1654200" y="1444680"/>
                <a:ext cx="350640" cy="24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32" name="Group 22"/>
            <p:cNvGrpSpPr/>
            <p:nvPr/>
          </p:nvGrpSpPr>
          <p:grpSpPr>
            <a:xfrm>
              <a:off x="1571760" y="357120"/>
              <a:ext cx="498240" cy="266400"/>
              <a:chOff x="1571760" y="357120"/>
              <a:chExt cx="498240" cy="266400"/>
            </a:xfrm>
          </p:grpSpPr>
          <p:grpSp>
            <p:nvGrpSpPr>
              <p:cNvPr id="233" name="Group 23"/>
              <p:cNvGrpSpPr/>
              <p:nvPr/>
            </p:nvGrpSpPr>
            <p:grpSpPr>
              <a:xfrm>
                <a:off x="1628640" y="438840"/>
                <a:ext cx="401760" cy="135720"/>
                <a:chOff x="1628640" y="438840"/>
                <a:chExt cx="401760" cy="135720"/>
              </a:xfrm>
            </p:grpSpPr>
            <p:pic>
              <p:nvPicPr>
                <p:cNvPr id="234" name="Picture 24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628640" y="438840"/>
                  <a:ext cx="401760" cy="1357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35" name="Text Box 25"/>
                <p:cNvSpPr/>
                <p:nvPr/>
              </p:nvSpPr>
              <p:spPr>
                <a:xfrm>
                  <a:off x="1682640" y="468720"/>
                  <a:ext cx="297000" cy="44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6" name="Group 26"/>
              <p:cNvGrpSpPr/>
              <p:nvPr/>
            </p:nvGrpSpPr>
            <p:grpSpPr>
              <a:xfrm>
                <a:off x="1628640" y="491040"/>
                <a:ext cx="401760" cy="132480"/>
                <a:chOff x="1628640" y="491040"/>
                <a:chExt cx="401760" cy="132480"/>
              </a:xfrm>
            </p:grpSpPr>
            <p:pic>
              <p:nvPicPr>
                <p:cNvPr id="237" name="Picture 27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628640" y="491040"/>
                  <a:ext cx="401760" cy="132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38" name="Text Box 28"/>
                <p:cNvSpPr/>
                <p:nvPr/>
              </p:nvSpPr>
              <p:spPr>
                <a:xfrm>
                  <a:off x="1682640" y="519120"/>
                  <a:ext cx="297000" cy="44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9" name="Group 29"/>
              <p:cNvGrpSpPr/>
              <p:nvPr/>
            </p:nvGrpSpPr>
            <p:grpSpPr>
              <a:xfrm>
                <a:off x="1571760" y="357120"/>
                <a:ext cx="498240" cy="172080"/>
                <a:chOff x="1571760" y="357120"/>
                <a:chExt cx="498240" cy="172080"/>
              </a:xfrm>
            </p:grpSpPr>
            <p:pic>
              <p:nvPicPr>
                <p:cNvPr id="240" name="Picture 30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571760" y="357120"/>
                  <a:ext cx="498240" cy="1720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41" name="Text Box 31"/>
                <p:cNvSpPr/>
                <p:nvPr/>
              </p:nvSpPr>
              <p:spPr>
                <a:xfrm>
                  <a:off x="1628640" y="387000"/>
                  <a:ext cx="387360" cy="77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240" bIns="3024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42" name="Group 32"/>
          <p:cNvGrpSpPr/>
          <p:nvPr/>
        </p:nvGrpSpPr>
        <p:grpSpPr>
          <a:xfrm>
            <a:off x="1586160" y="4304160"/>
            <a:ext cx="2397240" cy="2397240"/>
            <a:chOff x="1586160" y="4304160"/>
            <a:chExt cx="2397240" cy="2397240"/>
          </a:xfrm>
        </p:grpSpPr>
        <p:grpSp>
          <p:nvGrpSpPr>
            <p:cNvPr id="243" name="Group 33"/>
            <p:cNvGrpSpPr/>
            <p:nvPr/>
          </p:nvGrpSpPr>
          <p:grpSpPr>
            <a:xfrm>
              <a:off x="1690560" y="4408560"/>
              <a:ext cx="2187000" cy="2186640"/>
              <a:chOff x="1690560" y="4408560"/>
              <a:chExt cx="2187000" cy="2186640"/>
            </a:xfrm>
          </p:grpSpPr>
          <p:pic>
            <p:nvPicPr>
              <p:cNvPr id="244" name="Picture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1690560" y="4408560"/>
                <a:ext cx="2187000" cy="2186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5" name="Text Box 35"/>
              <p:cNvSpPr/>
              <p:nvPr/>
            </p:nvSpPr>
            <p:spPr>
              <a:xfrm rot="2340000">
                <a:off x="2025360" y="4745160"/>
                <a:ext cx="1518120" cy="151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46" name="AutoShape 36"/>
            <p:cNvSpPr/>
            <p:nvPr/>
          </p:nvSpPr>
          <p:spPr>
            <a:xfrm rot="1320000">
              <a:off x="1863720" y="4581720"/>
              <a:ext cx="1841400" cy="1841400"/>
            </a:xfrm>
            <a:custGeom>
              <a:avLst/>
              <a:gdLst>
                <a:gd name="textAreaLeft" fmla="*/ 847440 w 1841400"/>
                <a:gd name="textAreaRight" fmla="*/ 993960 w 1841400"/>
                <a:gd name="textAreaTop" fmla="*/ 847440 h 1841400"/>
                <a:gd name="textAreaBottom" fmla="*/ 993960 h 1841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9941" y="9941"/>
                  </a:lnTo>
                  <a:lnTo>
                    <a:pt x="10800" y="0"/>
                  </a:lnTo>
                  <a:lnTo>
                    <a:pt x="11659" y="9941"/>
                  </a:lnTo>
                  <a:lnTo>
                    <a:pt x="21600" y="10800"/>
                  </a:lnTo>
                  <a:lnTo>
                    <a:pt x="11659" y="11659"/>
                  </a:lnTo>
                  <a:lnTo>
                    <a:pt x="10800" y="21600"/>
                  </a:lnTo>
                  <a:lnTo>
                    <a:pt x="9941" y="11659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ebf1de"/>
            </a:solidFill>
            <a:ln w="25560">
              <a:solidFill>
                <a:srgbClr val="ebf1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Oval 37"/>
            <p:cNvSpPr/>
            <p:nvPr/>
          </p:nvSpPr>
          <p:spPr>
            <a:xfrm rot="2340000">
              <a:off x="2633760" y="5349600"/>
              <a:ext cx="306000" cy="305640"/>
            </a:xfrm>
            <a:prstGeom prst="ellipse">
              <a:avLst/>
            </a:prstGeom>
            <a:gradFill rotWithShape="0">
              <a:gsLst>
                <a:gs pos="0">
                  <a:srgbClr val="156b13"/>
                </a:gs>
                <a:gs pos="100000">
                  <a:srgbClr val="63252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48" name="Group 38"/>
          <p:cNvGrpSpPr/>
          <p:nvPr/>
        </p:nvGrpSpPr>
        <p:grpSpPr>
          <a:xfrm>
            <a:off x="2468160" y="4489200"/>
            <a:ext cx="1479240" cy="1985040"/>
            <a:chOff x="2468160" y="4489200"/>
            <a:chExt cx="1479240" cy="1985040"/>
          </a:xfrm>
        </p:grpSpPr>
        <p:sp>
          <p:nvSpPr>
            <p:cNvPr id="249" name="AutoShape 39"/>
            <p:cNvSpPr/>
            <p:nvPr/>
          </p:nvSpPr>
          <p:spPr>
            <a:xfrm rot="5040000">
              <a:off x="2277360" y="4835520"/>
              <a:ext cx="1860120" cy="1292040"/>
            </a:xfrm>
            <a:custGeom>
              <a:avLst/>
              <a:gdLst>
                <a:gd name="textAreaLeft" fmla="*/ 38520 w 1860120"/>
                <a:gd name="textAreaRight" fmla="*/ 1860480 w 1860120"/>
                <a:gd name="textAreaTop" fmla="*/ 0 h 1292040"/>
                <a:gd name="textAreaBottom" fmla="*/ 646920 h 1292040"/>
              </a:gdLst>
              <a:ahLst/>
              <a:rect l="textAreaLeft" t="textAreaTop" r="textAreaRight" b="textAreaBottom"/>
              <a:pathLst>
                <a:path w="1755053" h="1113994">
                  <a:moveTo>
                    <a:pt x="36404" y="398230"/>
                  </a:moveTo>
                  <a:lnTo>
                    <a:pt x="36403" y="398229"/>
                  </a:lnTo>
                  <a:cubicBezTo>
                    <a:pt x="147086" y="161984"/>
                    <a:pt x="489222" y="-1"/>
                    <a:pt x="877527" y="0"/>
                  </a:cubicBezTo>
                  <a:cubicBezTo>
                    <a:pt x="1362171" y="0"/>
                    <a:pt x="1755054" y="249376"/>
                    <a:pt x="1755054" y="556997"/>
                  </a:cubicBezTo>
                  <a:cubicBezTo>
                    <a:pt x="1755054" y="556997"/>
                    <a:pt x="1755053" y="556998"/>
                    <a:pt x="1755053" y="556998"/>
                  </a:cubicBezTo>
                  <a:lnTo>
                    <a:pt x="1476555" y="556997"/>
                  </a:lnTo>
                  <a:cubicBezTo>
                    <a:pt x="1476555" y="403186"/>
                    <a:pt x="1208361" y="278498"/>
                    <a:pt x="877527" y="278498"/>
                  </a:cubicBezTo>
                  <a:cubicBezTo>
                    <a:pt x="633707" y="278497"/>
                    <a:pt x="414216" y="347203"/>
                    <a:pt x="322498" y="452233"/>
                  </a:cubicBezTo>
                  <a:close/>
                </a:path>
              </a:pathLst>
            </a:custGeom>
            <a:gradFill rotWithShape="0">
              <a:gsLst>
                <a:gs pos="0">
                  <a:srgbClr val="156b13"/>
                </a:gs>
                <a:gs pos="100000">
                  <a:srgbClr val="ddebcf"/>
                </a:gs>
              </a:gsLst>
              <a:lin ang="5400000"/>
            </a:gradFill>
            <a:ln w="255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Oval 40"/>
            <p:cNvSpPr/>
            <p:nvPr/>
          </p:nvSpPr>
          <p:spPr>
            <a:xfrm>
              <a:off x="3214440" y="4667400"/>
              <a:ext cx="311400" cy="284400"/>
            </a:xfrm>
            <a:prstGeom prst="ellipse">
              <a:avLst/>
            </a:prstGeom>
            <a:gradFill rotWithShape="0">
              <a:gsLst>
                <a:gs pos="0">
                  <a:srgbClr val="156b13"/>
                </a:gs>
                <a:gs pos="100000">
                  <a:srgbClr val="63252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Oval 41"/>
            <p:cNvSpPr/>
            <p:nvPr/>
          </p:nvSpPr>
          <p:spPr>
            <a:xfrm>
              <a:off x="3297240" y="6032520"/>
              <a:ext cx="311400" cy="284400"/>
            </a:xfrm>
            <a:prstGeom prst="ellipse">
              <a:avLst/>
            </a:prstGeom>
            <a:gradFill rotWithShape="0">
              <a:gsLst>
                <a:gs pos="0">
                  <a:srgbClr val="156b13"/>
                </a:gs>
                <a:gs pos="100000">
                  <a:srgbClr val="63252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2" name="Group 42"/>
          <p:cNvGrpSpPr/>
          <p:nvPr/>
        </p:nvGrpSpPr>
        <p:grpSpPr>
          <a:xfrm>
            <a:off x="2687760" y="3560760"/>
            <a:ext cx="1096920" cy="2152800"/>
            <a:chOff x="2687760" y="3560760"/>
            <a:chExt cx="1096920" cy="2152800"/>
          </a:xfrm>
        </p:grpSpPr>
        <p:sp>
          <p:nvSpPr>
            <p:cNvPr id="253" name="AutoShape 43"/>
            <p:cNvSpPr/>
            <p:nvPr/>
          </p:nvSpPr>
          <p:spPr>
            <a:xfrm>
              <a:off x="2687760" y="3560760"/>
              <a:ext cx="1065240" cy="2103480"/>
            </a:xfrm>
            <a:custGeom>
              <a:avLst/>
              <a:gdLst>
                <a:gd name="textAreaLeft" fmla="*/ 0 w 1065240"/>
                <a:gd name="textAreaRight" fmla="*/ 1065600 w 1065240"/>
                <a:gd name="textAreaTop" fmla="*/ 0 h 2103480"/>
                <a:gd name="textAreaBottom" fmla="*/ 2103840 h 2103480"/>
              </a:gdLst>
              <a:ahLst/>
              <a:rect l="textAreaLeft" t="textAreaTop" r="textAreaRight" b="textAreaBottom"/>
              <a:pathLst>
                <a:path w="1066800" h="2105891">
                  <a:moveTo>
                    <a:pt x="0" y="0"/>
                  </a:moveTo>
                  <a:lnTo>
                    <a:pt x="249382" y="0"/>
                  </a:lnTo>
                  <a:lnTo>
                    <a:pt x="1066800" y="2105891"/>
                  </a:lnTo>
                  <a:lnTo>
                    <a:pt x="831273" y="2105891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8"/>
              <a:srcRect/>
              <a:stretch/>
            </a:blipFill>
            <a:ln w="25560">
              <a:solidFill>
                <a:srgbClr val="77933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Oval 44"/>
            <p:cNvSpPr/>
            <p:nvPr/>
          </p:nvSpPr>
          <p:spPr>
            <a:xfrm>
              <a:off x="3429000" y="5357880"/>
              <a:ext cx="355680" cy="355680"/>
            </a:xfrm>
            <a:prstGeom prst="ellipse">
              <a:avLst/>
            </a:prstGeom>
            <a:gradFill rotWithShape="0">
              <a:gsLst>
                <a:gs pos="0">
                  <a:srgbClr val="156b13"/>
                </a:gs>
                <a:gs pos="100000">
                  <a:srgbClr val="d7e4b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5" name="AutoShape 45"/>
          <p:cNvSpPr/>
          <p:nvPr/>
        </p:nvSpPr>
        <p:spPr>
          <a:xfrm>
            <a:off x="3754440" y="4489560"/>
            <a:ext cx="328680" cy="941400"/>
          </a:xfrm>
          <a:custGeom>
            <a:avLst/>
            <a:gdLst>
              <a:gd name="textAreaLeft" fmla="*/ 0 w 328680"/>
              <a:gd name="textAreaRight" fmla="*/ 329040 w 328680"/>
              <a:gd name="textAreaTop" fmla="*/ 0 h 941400"/>
              <a:gd name="textAreaBottom" fmla="*/ 941760 h 941400"/>
            </a:gdLst>
            <a:ahLst/>
            <a:rect l="textAreaLeft" t="textAreaTop" r="textAreaRight" b="textAreaBottom"/>
            <a:pathLst>
              <a:path w="327890" h="942109">
                <a:moveTo>
                  <a:pt x="0" y="0"/>
                </a:moveTo>
                <a:cubicBezTo>
                  <a:pt x="98136" y="105063"/>
                  <a:pt x="196273" y="210127"/>
                  <a:pt x="249382" y="346363"/>
                </a:cubicBezTo>
                <a:cubicBezTo>
                  <a:pt x="302491" y="482599"/>
                  <a:pt x="309418" y="718127"/>
                  <a:pt x="318654" y="817418"/>
                </a:cubicBezTo>
                <a:cubicBezTo>
                  <a:pt x="327890" y="916709"/>
                  <a:pt x="316345" y="929409"/>
                  <a:pt x="304800" y="942109"/>
                </a:cubicBezTo>
              </a:path>
            </a:pathLst>
          </a:custGeom>
          <a:noFill/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56" name="AutoShape 46"/>
          <p:cNvCxnSpPr/>
          <p:nvPr/>
        </p:nvCxnSpPr>
        <p:spPr>
          <a:xfrm>
            <a:off x="1572840" y="1929960"/>
            <a:ext cx="214920" cy="14364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257" name="AutoShape 47"/>
          <p:cNvCxnSpPr/>
          <p:nvPr/>
        </p:nvCxnSpPr>
        <p:spPr>
          <a:xfrm>
            <a:off x="1855800" y="1858680"/>
            <a:ext cx="216720" cy="14364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258" name="AutoShape 48"/>
          <p:cNvCxnSpPr/>
          <p:nvPr/>
        </p:nvCxnSpPr>
        <p:spPr>
          <a:xfrm>
            <a:off x="2003040" y="1572840"/>
            <a:ext cx="214920" cy="14364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triangle" w="med"/>
          </a:ln>
        </p:spPr>
      </p:cxnSp>
      <p:grpSp>
        <p:nvGrpSpPr>
          <p:cNvPr id="259" name="Group 49"/>
          <p:cNvGrpSpPr/>
          <p:nvPr/>
        </p:nvGrpSpPr>
        <p:grpSpPr>
          <a:xfrm>
            <a:off x="2500200" y="642960"/>
            <a:ext cx="641520" cy="712800"/>
            <a:chOff x="2500200" y="642960"/>
            <a:chExt cx="641520" cy="712800"/>
          </a:xfrm>
        </p:grpSpPr>
        <p:sp>
          <p:nvSpPr>
            <p:cNvPr id="260" name="AutoShape 50"/>
            <p:cNvSpPr/>
            <p:nvPr/>
          </p:nvSpPr>
          <p:spPr>
            <a:xfrm>
              <a:off x="2571840" y="642960"/>
              <a:ext cx="498240" cy="712800"/>
            </a:xfrm>
            <a:prstGeom prst="flowChartExtract">
              <a:avLst/>
            </a:prstGeom>
            <a:gradFill rotWithShape="0">
              <a:gsLst>
                <a:gs pos="0">
                  <a:srgbClr val="e6e6e6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AutoShape 51"/>
            <p:cNvSpPr/>
            <p:nvPr/>
          </p:nvSpPr>
          <p:spPr>
            <a:xfrm>
              <a:off x="2500200" y="1143000"/>
              <a:ext cx="641520" cy="1411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AutoShape 52"/>
            <p:cNvSpPr/>
            <p:nvPr/>
          </p:nvSpPr>
          <p:spPr>
            <a:xfrm>
              <a:off x="2652840" y="785880"/>
              <a:ext cx="345960" cy="1411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3" name="Group 53"/>
          <p:cNvGrpSpPr/>
          <p:nvPr/>
        </p:nvGrpSpPr>
        <p:grpSpPr>
          <a:xfrm>
            <a:off x="1542960" y="2468520"/>
            <a:ext cx="2478240" cy="1200240"/>
            <a:chOff x="1542960" y="2468520"/>
            <a:chExt cx="2478240" cy="1200240"/>
          </a:xfrm>
        </p:grpSpPr>
        <p:pic>
          <p:nvPicPr>
            <p:cNvPr id="264" name="Picture 54" descr=""/>
            <p:cNvPicPr/>
            <p:nvPr/>
          </p:nvPicPr>
          <p:blipFill>
            <a:blip r:embed="rId9"/>
            <a:stretch/>
          </p:blipFill>
          <p:spPr>
            <a:xfrm>
              <a:off x="1542960" y="2468520"/>
              <a:ext cx="2478240" cy="120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5" name="Text Box 55"/>
            <p:cNvSpPr/>
            <p:nvPr/>
          </p:nvSpPr>
          <p:spPr>
            <a:xfrm>
              <a:off x="1571760" y="2500200"/>
              <a:ext cx="2427120" cy="114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6" name="Group 56"/>
          <p:cNvGrpSpPr/>
          <p:nvPr/>
        </p:nvGrpSpPr>
        <p:grpSpPr>
          <a:xfrm>
            <a:off x="4000680" y="1143000"/>
            <a:ext cx="285120" cy="2784600"/>
            <a:chOff x="4000680" y="1143000"/>
            <a:chExt cx="285120" cy="2784600"/>
          </a:xfrm>
        </p:grpSpPr>
        <p:grpSp>
          <p:nvGrpSpPr>
            <p:cNvPr id="267" name="Group 57"/>
            <p:cNvGrpSpPr/>
            <p:nvPr/>
          </p:nvGrpSpPr>
          <p:grpSpPr>
            <a:xfrm>
              <a:off x="4003560" y="1143000"/>
              <a:ext cx="282240" cy="2498760"/>
              <a:chOff x="4003560" y="1143000"/>
              <a:chExt cx="282240" cy="2498760"/>
            </a:xfrm>
          </p:grpSpPr>
          <p:sp>
            <p:nvSpPr>
              <p:cNvPr id="268" name="AutoShape 58"/>
              <p:cNvSpPr/>
              <p:nvPr/>
            </p:nvSpPr>
            <p:spPr>
              <a:xfrm>
                <a:off x="4003560" y="1143000"/>
                <a:ext cx="282240" cy="2498760"/>
              </a:xfrm>
              <a:custGeom>
                <a:avLst/>
                <a:gdLst>
                  <a:gd name="textAreaLeft" fmla="*/ 13680 w 282240"/>
                  <a:gd name="textAreaRight" fmla="*/ 268560 w 282240"/>
                  <a:gd name="textAreaTop" fmla="*/ 13680 h 2498760"/>
                  <a:gd name="textAreaBottom" fmla="*/ 2485080 h 2498760"/>
                </a:gdLst>
                <a:ahLst/>
                <a:rect l="textAreaLeft" t="textAreaTop" r="textAreaRight" b="textAreaBottom"/>
                <a:pathLst>
                  <a:path w="21600" h="191016">
                    <a:moveTo>
                      <a:pt x="3600" y="0"/>
                    </a:moveTo>
                    <a:arcTo wR="3600" hR="3600" stAng="16200000" swAng="-5400000"/>
                    <a:lnTo>
                      <a:pt x="0" y="187416"/>
                    </a:lnTo>
                    <a:arcTo wR="3600" hR="3600" stAng="10800000" swAng="-5400000"/>
                    <a:lnTo>
                      <a:pt x="18000" y="191016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ac090"/>
              </a:solidFill>
              <a:ln w="25560">
                <a:solidFill>
                  <a:srgbClr val="fac09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AutoShape 59"/>
              <p:cNvSpPr/>
              <p:nvPr/>
            </p:nvSpPr>
            <p:spPr>
              <a:xfrm>
                <a:off x="4074120" y="1276200"/>
                <a:ext cx="140400" cy="2293920"/>
              </a:xfrm>
              <a:custGeom>
                <a:avLst/>
                <a:gdLst>
                  <a:gd name="textAreaLeft" fmla="*/ 6840 w 140400"/>
                  <a:gd name="textAreaRight" fmla="*/ 133560 w 140400"/>
                  <a:gd name="textAreaTop" fmla="*/ 6840 h 2293920"/>
                  <a:gd name="textAreaBottom" fmla="*/ 2287080 h 2293920"/>
                </a:gdLst>
                <a:ahLst/>
                <a:rect l="textAreaLeft" t="textAreaTop" r="textAreaRight" b="textAreaBottom"/>
                <a:pathLst>
                  <a:path w="21600" h="352063">
                    <a:moveTo>
                      <a:pt x="3600" y="0"/>
                    </a:moveTo>
                    <a:arcTo wR="3600" hR="3600" stAng="16200000" swAng="-5400000"/>
                    <a:lnTo>
                      <a:pt x="0" y="348463"/>
                    </a:lnTo>
                    <a:arcTo wR="3600" hR="3600" stAng="10800000" swAng="-5400000"/>
                    <a:lnTo>
                      <a:pt x="18000" y="352063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70" name="Line 60"/>
            <p:cNvSpPr/>
            <p:nvPr/>
          </p:nvSpPr>
          <p:spPr>
            <a:xfrm flipH="1">
              <a:off x="4000680" y="1143000"/>
              <a:ext cx="2880" cy="2784600"/>
            </a:xfrm>
            <a:prstGeom prst="line">
              <a:avLst/>
            </a:prstGeom>
            <a:ln w="101520">
              <a:solidFill>
                <a:srgbClr val="fac0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1" name="Group 61"/>
          <p:cNvGrpSpPr/>
          <p:nvPr/>
        </p:nvGrpSpPr>
        <p:grpSpPr>
          <a:xfrm>
            <a:off x="1285920" y="1143000"/>
            <a:ext cx="283680" cy="2786040"/>
            <a:chOff x="1285920" y="1143000"/>
            <a:chExt cx="283680" cy="2786040"/>
          </a:xfrm>
        </p:grpSpPr>
        <p:grpSp>
          <p:nvGrpSpPr>
            <p:cNvPr id="272" name="Group 62"/>
            <p:cNvGrpSpPr/>
            <p:nvPr/>
          </p:nvGrpSpPr>
          <p:grpSpPr>
            <a:xfrm>
              <a:off x="1285920" y="1143000"/>
              <a:ext cx="282240" cy="2498760"/>
              <a:chOff x="1285920" y="1143000"/>
              <a:chExt cx="282240" cy="2498760"/>
            </a:xfrm>
          </p:grpSpPr>
          <p:sp>
            <p:nvSpPr>
              <p:cNvPr id="273" name="AutoShape 63"/>
              <p:cNvSpPr/>
              <p:nvPr/>
            </p:nvSpPr>
            <p:spPr>
              <a:xfrm>
                <a:off x="1285920" y="1143000"/>
                <a:ext cx="282240" cy="2498760"/>
              </a:xfrm>
              <a:custGeom>
                <a:avLst/>
                <a:gdLst>
                  <a:gd name="textAreaLeft" fmla="*/ 13680 w 282240"/>
                  <a:gd name="textAreaRight" fmla="*/ 268560 w 282240"/>
                  <a:gd name="textAreaTop" fmla="*/ 13680 h 2498760"/>
                  <a:gd name="textAreaBottom" fmla="*/ 2485080 h 2498760"/>
                </a:gdLst>
                <a:ahLst/>
                <a:rect l="textAreaLeft" t="textAreaTop" r="textAreaRight" b="textAreaBottom"/>
                <a:pathLst>
                  <a:path w="21600" h="191016">
                    <a:moveTo>
                      <a:pt x="3600" y="0"/>
                    </a:moveTo>
                    <a:arcTo wR="3600" hR="3600" stAng="16200000" swAng="-5400000"/>
                    <a:lnTo>
                      <a:pt x="0" y="187416"/>
                    </a:lnTo>
                    <a:arcTo wR="3600" hR="3600" stAng="10800000" swAng="-5400000"/>
                    <a:lnTo>
                      <a:pt x="18000" y="191016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ac090"/>
              </a:solidFill>
              <a:ln w="25560">
                <a:solidFill>
                  <a:srgbClr val="fac09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AutoShape 64"/>
              <p:cNvSpPr/>
              <p:nvPr/>
            </p:nvSpPr>
            <p:spPr>
              <a:xfrm>
                <a:off x="1355040" y="1276200"/>
                <a:ext cx="137160" cy="2293920"/>
              </a:xfrm>
              <a:custGeom>
                <a:avLst/>
                <a:gdLst>
                  <a:gd name="textAreaLeft" fmla="*/ 6480 w 137160"/>
                  <a:gd name="textAreaRight" fmla="*/ 130680 w 137160"/>
                  <a:gd name="textAreaTop" fmla="*/ 6480 h 2293920"/>
                  <a:gd name="textAreaBottom" fmla="*/ 2287440 h 2293920"/>
                </a:gdLst>
                <a:ahLst/>
                <a:rect l="textAreaLeft" t="textAreaTop" r="textAreaRight" b="textAreaBottom"/>
                <a:pathLst>
                  <a:path w="21600" h="360358">
                    <a:moveTo>
                      <a:pt x="3600" y="0"/>
                    </a:moveTo>
                    <a:arcTo wR="3600" hR="3600" stAng="16200000" swAng="-5400000"/>
                    <a:lnTo>
                      <a:pt x="0" y="356758"/>
                    </a:lnTo>
                    <a:arcTo wR="3600" hR="3600" stAng="10800000" swAng="-5400000"/>
                    <a:lnTo>
                      <a:pt x="18000" y="36035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75" name="Line 65"/>
            <p:cNvSpPr/>
            <p:nvPr/>
          </p:nvSpPr>
          <p:spPr>
            <a:xfrm flipH="1">
              <a:off x="1566720" y="1144440"/>
              <a:ext cx="2880" cy="2784600"/>
            </a:xfrm>
            <a:prstGeom prst="line">
              <a:avLst/>
            </a:prstGeom>
            <a:ln w="101520">
              <a:solidFill>
                <a:srgbClr val="fac0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6" name="Group 66"/>
          <p:cNvGrpSpPr/>
          <p:nvPr/>
        </p:nvGrpSpPr>
        <p:grpSpPr>
          <a:xfrm>
            <a:off x="3473280" y="214200"/>
            <a:ext cx="525600" cy="1212840"/>
            <a:chOff x="3473280" y="214200"/>
            <a:chExt cx="525600" cy="1212840"/>
          </a:xfrm>
        </p:grpSpPr>
        <p:pic>
          <p:nvPicPr>
            <p:cNvPr id="277" name="Picture 67" descr=""/>
            <p:cNvPicPr/>
            <p:nvPr/>
          </p:nvPicPr>
          <p:blipFill>
            <a:blip r:embed="rId10"/>
            <a:stretch/>
          </p:blipFill>
          <p:spPr>
            <a:xfrm>
              <a:off x="3681360" y="281160"/>
              <a:ext cx="128520" cy="10555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78" name="Group 68"/>
            <p:cNvGrpSpPr/>
            <p:nvPr/>
          </p:nvGrpSpPr>
          <p:grpSpPr>
            <a:xfrm>
              <a:off x="3473280" y="214200"/>
              <a:ext cx="509760" cy="412920"/>
              <a:chOff x="3473280" y="214200"/>
              <a:chExt cx="509760" cy="412920"/>
            </a:xfrm>
          </p:grpSpPr>
          <p:grpSp>
            <p:nvGrpSpPr>
              <p:cNvPr id="279" name="Group 69"/>
              <p:cNvGrpSpPr/>
              <p:nvPr/>
            </p:nvGrpSpPr>
            <p:grpSpPr>
              <a:xfrm>
                <a:off x="3530520" y="318960"/>
                <a:ext cx="414360" cy="155880"/>
                <a:chOff x="3530520" y="318960"/>
                <a:chExt cx="414360" cy="155880"/>
              </a:xfrm>
            </p:grpSpPr>
            <p:pic>
              <p:nvPicPr>
                <p:cNvPr id="280" name="Picture 70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3530520" y="318960"/>
                  <a:ext cx="414360" cy="155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81" name="Text Box 71"/>
                <p:cNvSpPr/>
                <p:nvPr/>
              </p:nvSpPr>
              <p:spPr>
                <a:xfrm>
                  <a:off x="3584520" y="351000"/>
                  <a:ext cx="311040" cy="5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2" name="Group 72"/>
              <p:cNvGrpSpPr/>
              <p:nvPr/>
            </p:nvGrpSpPr>
            <p:grpSpPr>
              <a:xfrm>
                <a:off x="3530520" y="392040"/>
                <a:ext cx="414360" cy="160560"/>
                <a:chOff x="3530520" y="392040"/>
                <a:chExt cx="414360" cy="160560"/>
              </a:xfrm>
            </p:grpSpPr>
            <p:pic>
              <p:nvPicPr>
                <p:cNvPr id="283" name="Picture 73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3530520" y="392040"/>
                  <a:ext cx="414360" cy="160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84" name="Text Box 74"/>
                <p:cNvSpPr/>
                <p:nvPr/>
              </p:nvSpPr>
              <p:spPr>
                <a:xfrm>
                  <a:off x="3584520" y="426960"/>
                  <a:ext cx="311040" cy="54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5" name="Group 75"/>
              <p:cNvGrpSpPr/>
              <p:nvPr/>
            </p:nvGrpSpPr>
            <p:grpSpPr>
              <a:xfrm>
                <a:off x="3473280" y="214200"/>
                <a:ext cx="509760" cy="203400"/>
                <a:chOff x="3473280" y="214200"/>
                <a:chExt cx="509760" cy="203400"/>
              </a:xfrm>
            </p:grpSpPr>
            <p:pic>
              <p:nvPicPr>
                <p:cNvPr id="286" name="Picture 76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3473280" y="214200"/>
                  <a:ext cx="509760" cy="203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87" name="Text Box 77"/>
                <p:cNvSpPr/>
                <p:nvPr/>
              </p:nvSpPr>
              <p:spPr>
                <a:xfrm>
                  <a:off x="3530520" y="250920"/>
                  <a:ext cx="399960" cy="9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8" name="Group 78"/>
              <p:cNvGrpSpPr/>
              <p:nvPr/>
            </p:nvGrpSpPr>
            <p:grpSpPr>
              <a:xfrm>
                <a:off x="3530520" y="366840"/>
                <a:ext cx="414360" cy="160200"/>
                <a:chOff x="3530520" y="366840"/>
                <a:chExt cx="414360" cy="160200"/>
              </a:xfrm>
            </p:grpSpPr>
            <p:pic>
              <p:nvPicPr>
                <p:cNvPr id="289" name="Picture 79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3530520" y="366840"/>
                  <a:ext cx="414360" cy="160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90" name="Text Box 80"/>
                <p:cNvSpPr/>
                <p:nvPr/>
              </p:nvSpPr>
              <p:spPr>
                <a:xfrm>
                  <a:off x="3584520" y="401760"/>
                  <a:ext cx="311040" cy="54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1" name="Group 81"/>
              <p:cNvGrpSpPr/>
              <p:nvPr/>
            </p:nvGrpSpPr>
            <p:grpSpPr>
              <a:xfrm>
                <a:off x="3530520" y="419040"/>
                <a:ext cx="414360" cy="155520"/>
                <a:chOff x="3530520" y="419040"/>
                <a:chExt cx="414360" cy="155520"/>
              </a:xfrm>
            </p:grpSpPr>
            <p:pic>
              <p:nvPicPr>
                <p:cNvPr id="292" name="Picture 8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3530520" y="419040"/>
                  <a:ext cx="414360" cy="155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93" name="Text Box 83"/>
                <p:cNvSpPr/>
                <p:nvPr/>
              </p:nvSpPr>
              <p:spPr>
                <a:xfrm>
                  <a:off x="3584520" y="452520"/>
                  <a:ext cx="311040" cy="54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4" name="Group 84"/>
              <p:cNvGrpSpPr/>
              <p:nvPr/>
            </p:nvGrpSpPr>
            <p:grpSpPr>
              <a:xfrm>
                <a:off x="3530520" y="471600"/>
                <a:ext cx="414360" cy="155520"/>
                <a:chOff x="3530520" y="471600"/>
                <a:chExt cx="414360" cy="155520"/>
              </a:xfrm>
            </p:grpSpPr>
            <p:pic>
              <p:nvPicPr>
                <p:cNvPr id="295" name="Picture 85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3530520" y="471600"/>
                  <a:ext cx="414360" cy="155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96" name="Text Box 86"/>
                <p:cNvSpPr/>
                <p:nvPr/>
              </p:nvSpPr>
              <p:spPr>
                <a:xfrm>
                  <a:off x="3584520" y="503280"/>
                  <a:ext cx="311040" cy="54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7" name="Group 87"/>
            <p:cNvGrpSpPr/>
            <p:nvPr/>
          </p:nvGrpSpPr>
          <p:grpSpPr>
            <a:xfrm>
              <a:off x="3503520" y="1042920"/>
              <a:ext cx="495360" cy="384120"/>
              <a:chOff x="3503520" y="1042920"/>
              <a:chExt cx="495360" cy="384120"/>
            </a:xfrm>
          </p:grpSpPr>
          <p:pic>
            <p:nvPicPr>
              <p:cNvPr id="298" name="Picture 88" descr=""/>
              <p:cNvPicPr/>
              <p:nvPr/>
            </p:nvPicPr>
            <p:blipFill>
              <a:blip r:embed="rId17"/>
              <a:stretch/>
            </p:blipFill>
            <p:spPr>
              <a:xfrm>
                <a:off x="3503520" y="1042920"/>
                <a:ext cx="495360" cy="384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9" name="Text Box 89"/>
              <p:cNvSpPr/>
              <p:nvPr/>
            </p:nvSpPr>
            <p:spPr>
              <a:xfrm>
                <a:off x="3581280" y="1092240"/>
                <a:ext cx="344520" cy="237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pic>
        <p:nvPicPr>
          <p:cNvPr id="300" name="Picture 90" descr=""/>
          <p:cNvPicPr/>
          <p:nvPr/>
        </p:nvPicPr>
        <p:blipFill>
          <a:blip r:embed="rId18"/>
          <a:stretch/>
        </p:blipFill>
        <p:spPr>
          <a:xfrm>
            <a:off x="5389560" y="-208080"/>
            <a:ext cx="3535200" cy="201780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91" descr=""/>
          <p:cNvPicPr/>
          <p:nvPr/>
        </p:nvPicPr>
        <p:blipFill>
          <a:blip r:embed="rId19"/>
          <a:stretch/>
        </p:blipFill>
        <p:spPr>
          <a:xfrm>
            <a:off x="4468680" y="1163520"/>
            <a:ext cx="5181840" cy="1592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1"/>
          <p:cNvSpPr/>
          <p:nvPr/>
        </p:nvSpPr>
        <p:spPr>
          <a:xfrm>
            <a:off x="1571760" y="1143000"/>
            <a:ext cx="2428920" cy="2786040"/>
          </a:xfrm>
          <a:prstGeom prst="rect">
            <a:avLst/>
          </a:prstGeom>
          <a:solidFill>
            <a:srgbClr val="004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3" name="Group 2"/>
          <p:cNvGrpSpPr/>
          <p:nvPr/>
        </p:nvGrpSpPr>
        <p:grpSpPr>
          <a:xfrm>
            <a:off x="2639880" y="1279440"/>
            <a:ext cx="1436760" cy="2657520"/>
            <a:chOff x="2639880" y="1279440"/>
            <a:chExt cx="1436760" cy="2657520"/>
          </a:xfrm>
        </p:grpSpPr>
        <p:pic>
          <p:nvPicPr>
            <p:cNvPr id="304" name="Picture 3" descr=""/>
            <p:cNvPicPr/>
            <p:nvPr/>
          </p:nvPicPr>
          <p:blipFill>
            <a:blip r:embed="rId1"/>
            <a:stretch/>
          </p:blipFill>
          <p:spPr>
            <a:xfrm>
              <a:off x="2639880" y="1279440"/>
              <a:ext cx="1436760" cy="265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 Box 4"/>
            <p:cNvSpPr/>
            <p:nvPr/>
          </p:nvSpPr>
          <p:spPr>
            <a:xfrm>
              <a:off x="2643120" y="1285920"/>
              <a:ext cx="1427400" cy="264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06" name="Group 5"/>
          <p:cNvGrpSpPr/>
          <p:nvPr/>
        </p:nvGrpSpPr>
        <p:grpSpPr>
          <a:xfrm>
            <a:off x="928800" y="428760"/>
            <a:ext cx="3713040" cy="923760"/>
            <a:chOff x="928800" y="428760"/>
            <a:chExt cx="3713040" cy="923760"/>
          </a:xfrm>
        </p:grpSpPr>
        <p:sp>
          <p:nvSpPr>
            <p:cNvPr id="307" name="AutoShape 6"/>
            <p:cNvSpPr/>
            <p:nvPr/>
          </p:nvSpPr>
          <p:spPr>
            <a:xfrm>
              <a:off x="1006560" y="612720"/>
              <a:ext cx="1031760" cy="568440"/>
            </a:xfrm>
            <a:custGeom>
              <a:avLst/>
              <a:gdLst>
                <a:gd name="textAreaLeft" fmla="*/ 0 w 1031760"/>
                <a:gd name="textAreaRight" fmla="*/ 1032120 w 1031760"/>
                <a:gd name="textAreaTop" fmla="*/ 0 h 568440"/>
                <a:gd name="textAreaBottom" fmla="*/ 568800 h 568440"/>
              </a:gdLst>
              <a:ahLst/>
              <a:rect l="textAreaLeft" t="textAreaTop" r="textAreaRight" b="textAreaBottom"/>
              <a:pathLst>
                <a:path w="1482437" h="817418">
                  <a:moveTo>
                    <a:pt x="0" y="0"/>
                  </a:moveTo>
                  <a:lnTo>
                    <a:pt x="512618" y="0"/>
                  </a:lnTo>
                  <a:lnTo>
                    <a:pt x="1052946" y="263237"/>
                  </a:lnTo>
                  <a:lnTo>
                    <a:pt x="1482437" y="817418"/>
                  </a:lnTo>
                  <a:lnTo>
                    <a:pt x="872837" y="789709"/>
                  </a:lnTo>
                  <a:lnTo>
                    <a:pt x="595746" y="526473"/>
                  </a:lnTo>
                  <a:lnTo>
                    <a:pt x="13855" y="48490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Rectangle 7"/>
            <p:cNvSpPr/>
            <p:nvPr/>
          </p:nvSpPr>
          <p:spPr>
            <a:xfrm>
              <a:off x="928800" y="428760"/>
              <a:ext cx="147600" cy="247680"/>
            </a:xfrm>
            <a:prstGeom prst="rect">
              <a:avLst/>
            </a:prstGeom>
            <a:solidFill>
              <a:srgbClr val="fac090"/>
            </a:solidFill>
            <a:ln w="57240">
              <a:solidFill>
                <a:srgbClr val="fac0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Rectangle 8"/>
            <p:cNvSpPr/>
            <p:nvPr/>
          </p:nvSpPr>
          <p:spPr>
            <a:xfrm>
              <a:off x="928800" y="876240"/>
              <a:ext cx="196560" cy="247680"/>
            </a:xfrm>
            <a:prstGeom prst="rect">
              <a:avLst/>
            </a:prstGeom>
            <a:solidFill>
              <a:srgbClr val="fac090"/>
            </a:solidFill>
            <a:ln w="57240">
              <a:solidFill>
                <a:srgbClr val="fac0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AutoShape 9"/>
            <p:cNvSpPr/>
            <p:nvPr/>
          </p:nvSpPr>
          <p:spPr>
            <a:xfrm>
              <a:off x="977760" y="477720"/>
              <a:ext cx="1176480" cy="743040"/>
            </a:xfrm>
            <a:custGeom>
              <a:avLst/>
              <a:gdLst>
                <a:gd name="textAreaLeft" fmla="*/ 0 w 1176480"/>
                <a:gd name="textAreaRight" fmla="*/ 1176840 w 1176480"/>
                <a:gd name="textAreaTop" fmla="*/ 0 h 743040"/>
                <a:gd name="textAreaBottom" fmla="*/ 743400 h 743040"/>
              </a:gdLst>
              <a:ahLst/>
              <a:rect l="textAreaLeft" t="textAreaTop" r="textAreaRight" b="textAreaBottom"/>
              <a:pathLst>
                <a:path w="1690255" h="1066800">
                  <a:moveTo>
                    <a:pt x="27709" y="32015"/>
                  </a:moveTo>
                  <a:lnTo>
                    <a:pt x="13855" y="27709"/>
                  </a:lnTo>
                  <a:lnTo>
                    <a:pt x="471055" y="27709"/>
                  </a:lnTo>
                  <a:lnTo>
                    <a:pt x="803564" y="124691"/>
                  </a:lnTo>
                  <a:lnTo>
                    <a:pt x="1108364" y="290945"/>
                  </a:lnTo>
                  <a:lnTo>
                    <a:pt x="1246909" y="207818"/>
                  </a:lnTo>
                  <a:lnTo>
                    <a:pt x="1690255" y="152400"/>
                  </a:lnTo>
                  <a:lnTo>
                    <a:pt x="1690255" y="415636"/>
                  </a:lnTo>
                  <a:lnTo>
                    <a:pt x="1537855" y="374073"/>
                  </a:lnTo>
                  <a:lnTo>
                    <a:pt x="1343891" y="387927"/>
                  </a:lnTo>
                  <a:lnTo>
                    <a:pt x="1274619" y="484909"/>
                  </a:lnTo>
                  <a:lnTo>
                    <a:pt x="1274619" y="623454"/>
                  </a:lnTo>
                  <a:lnTo>
                    <a:pt x="1648691" y="942109"/>
                  </a:lnTo>
                  <a:lnTo>
                    <a:pt x="1648691" y="1066800"/>
                  </a:lnTo>
                  <a:lnTo>
                    <a:pt x="1468582" y="1039091"/>
                  </a:lnTo>
                  <a:lnTo>
                    <a:pt x="1025237" y="651163"/>
                  </a:lnTo>
                  <a:lnTo>
                    <a:pt x="997528" y="484909"/>
                  </a:lnTo>
                  <a:lnTo>
                    <a:pt x="748146" y="346363"/>
                  </a:lnTo>
                  <a:lnTo>
                    <a:pt x="457200" y="249382"/>
                  </a:lnTo>
                  <a:lnTo>
                    <a:pt x="13855" y="235527"/>
                  </a:lnTo>
                  <a:lnTo>
                    <a:pt x="0" y="0"/>
                  </a:lnTo>
                  <a:lnTo>
                    <a:pt x="27709" y="32015"/>
                  </a:lnTo>
                  <a:close/>
                </a:path>
              </a:pathLst>
            </a:custGeom>
            <a:solidFill>
              <a:srgbClr val="fac090"/>
            </a:solidFill>
            <a:ln w="25560">
              <a:solidFill>
                <a:srgbClr val="fac0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AutoShape 10"/>
            <p:cNvSpPr/>
            <p:nvPr/>
          </p:nvSpPr>
          <p:spPr>
            <a:xfrm>
              <a:off x="1084320" y="863640"/>
              <a:ext cx="606240" cy="307800"/>
            </a:xfrm>
            <a:custGeom>
              <a:avLst/>
              <a:gdLst>
                <a:gd name="textAreaLeft" fmla="*/ 0 w 606240"/>
                <a:gd name="textAreaRight" fmla="*/ 606600 w 606240"/>
                <a:gd name="textAreaTop" fmla="*/ 0 h 307800"/>
                <a:gd name="textAreaBottom" fmla="*/ 308160 h 307800"/>
              </a:gdLst>
              <a:ahLst/>
              <a:rect l="textAreaLeft" t="textAreaTop" r="textAreaRight" b="textAreaBottom"/>
              <a:pathLst>
                <a:path w="872836" h="443346">
                  <a:moveTo>
                    <a:pt x="0" y="0"/>
                  </a:moveTo>
                  <a:lnTo>
                    <a:pt x="263236" y="0"/>
                  </a:lnTo>
                  <a:lnTo>
                    <a:pt x="512618" y="69273"/>
                  </a:lnTo>
                  <a:lnTo>
                    <a:pt x="803563" y="263237"/>
                  </a:lnTo>
                  <a:lnTo>
                    <a:pt x="872836" y="443346"/>
                  </a:lnTo>
                  <a:lnTo>
                    <a:pt x="651163" y="443346"/>
                  </a:lnTo>
                  <a:lnTo>
                    <a:pt x="568036" y="304800"/>
                  </a:lnTo>
                  <a:lnTo>
                    <a:pt x="332509" y="193964"/>
                  </a:lnTo>
                  <a:lnTo>
                    <a:pt x="13854" y="16625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c090"/>
            </a:solidFill>
            <a:ln w="25560">
              <a:solidFill>
                <a:srgbClr val="fac0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AutoShape 11"/>
            <p:cNvSpPr/>
            <p:nvPr/>
          </p:nvSpPr>
          <p:spPr>
            <a:xfrm flipH="1">
              <a:off x="3537720" y="612720"/>
              <a:ext cx="1032120" cy="568440"/>
            </a:xfrm>
            <a:custGeom>
              <a:avLst/>
              <a:gdLst>
                <a:gd name="textAreaLeft" fmla="*/ -360 w 1032120"/>
                <a:gd name="textAreaRight" fmla="*/ 1032120 w 1032120"/>
                <a:gd name="textAreaTop" fmla="*/ 0 h 568440"/>
                <a:gd name="textAreaBottom" fmla="*/ 568800 h 568440"/>
              </a:gdLst>
              <a:ahLst/>
              <a:rect l="textAreaLeft" t="textAreaTop" r="textAreaRight" b="textAreaBottom"/>
              <a:pathLst>
                <a:path w="1482437" h="817418">
                  <a:moveTo>
                    <a:pt x="0" y="0"/>
                  </a:moveTo>
                  <a:lnTo>
                    <a:pt x="512618" y="0"/>
                  </a:lnTo>
                  <a:lnTo>
                    <a:pt x="1052946" y="263237"/>
                  </a:lnTo>
                  <a:lnTo>
                    <a:pt x="1482437" y="817418"/>
                  </a:lnTo>
                  <a:lnTo>
                    <a:pt x="872837" y="789709"/>
                  </a:lnTo>
                  <a:lnTo>
                    <a:pt x="595746" y="526473"/>
                  </a:lnTo>
                  <a:lnTo>
                    <a:pt x="13855" y="48490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Rectangle 12"/>
            <p:cNvSpPr/>
            <p:nvPr/>
          </p:nvSpPr>
          <p:spPr>
            <a:xfrm flipH="1">
              <a:off x="4494240" y="428760"/>
              <a:ext cx="147600" cy="247680"/>
            </a:xfrm>
            <a:prstGeom prst="rect">
              <a:avLst/>
            </a:prstGeom>
            <a:solidFill>
              <a:srgbClr val="fac090"/>
            </a:solidFill>
            <a:ln w="57240">
              <a:solidFill>
                <a:srgbClr val="fac0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Rectangle 13"/>
            <p:cNvSpPr/>
            <p:nvPr/>
          </p:nvSpPr>
          <p:spPr>
            <a:xfrm flipH="1">
              <a:off x="4442760" y="876240"/>
              <a:ext cx="196920" cy="247680"/>
            </a:xfrm>
            <a:prstGeom prst="rect">
              <a:avLst/>
            </a:prstGeom>
            <a:solidFill>
              <a:srgbClr val="fac090"/>
            </a:solidFill>
            <a:ln w="57240">
              <a:solidFill>
                <a:srgbClr val="fac0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AutoShape 14"/>
            <p:cNvSpPr/>
            <p:nvPr/>
          </p:nvSpPr>
          <p:spPr>
            <a:xfrm flipH="1">
              <a:off x="3415680" y="477720"/>
              <a:ext cx="1176120" cy="743040"/>
            </a:xfrm>
            <a:custGeom>
              <a:avLst/>
              <a:gdLst>
                <a:gd name="textAreaLeft" fmla="*/ -360 w 1176120"/>
                <a:gd name="textAreaRight" fmla="*/ 1176120 w 1176120"/>
                <a:gd name="textAreaTop" fmla="*/ 0 h 743040"/>
                <a:gd name="textAreaBottom" fmla="*/ 743400 h 743040"/>
              </a:gdLst>
              <a:ahLst/>
              <a:rect l="textAreaLeft" t="textAreaTop" r="textAreaRight" b="textAreaBottom"/>
              <a:pathLst>
                <a:path w="1690255" h="1066800">
                  <a:moveTo>
                    <a:pt x="27709" y="32015"/>
                  </a:moveTo>
                  <a:lnTo>
                    <a:pt x="13855" y="27709"/>
                  </a:lnTo>
                  <a:lnTo>
                    <a:pt x="471055" y="27709"/>
                  </a:lnTo>
                  <a:lnTo>
                    <a:pt x="803564" y="124691"/>
                  </a:lnTo>
                  <a:lnTo>
                    <a:pt x="1108364" y="290945"/>
                  </a:lnTo>
                  <a:lnTo>
                    <a:pt x="1246909" y="207818"/>
                  </a:lnTo>
                  <a:lnTo>
                    <a:pt x="1690255" y="152400"/>
                  </a:lnTo>
                  <a:lnTo>
                    <a:pt x="1690255" y="415636"/>
                  </a:lnTo>
                  <a:lnTo>
                    <a:pt x="1537855" y="374073"/>
                  </a:lnTo>
                  <a:lnTo>
                    <a:pt x="1343891" y="387927"/>
                  </a:lnTo>
                  <a:lnTo>
                    <a:pt x="1274619" y="484909"/>
                  </a:lnTo>
                  <a:lnTo>
                    <a:pt x="1274619" y="623454"/>
                  </a:lnTo>
                  <a:lnTo>
                    <a:pt x="1648691" y="942109"/>
                  </a:lnTo>
                  <a:lnTo>
                    <a:pt x="1648691" y="1066800"/>
                  </a:lnTo>
                  <a:lnTo>
                    <a:pt x="1468582" y="1039091"/>
                  </a:lnTo>
                  <a:lnTo>
                    <a:pt x="1025237" y="651163"/>
                  </a:lnTo>
                  <a:lnTo>
                    <a:pt x="997528" y="484909"/>
                  </a:lnTo>
                  <a:lnTo>
                    <a:pt x="748146" y="346363"/>
                  </a:lnTo>
                  <a:lnTo>
                    <a:pt x="457200" y="249382"/>
                  </a:lnTo>
                  <a:lnTo>
                    <a:pt x="13855" y="235527"/>
                  </a:lnTo>
                  <a:lnTo>
                    <a:pt x="0" y="0"/>
                  </a:lnTo>
                  <a:lnTo>
                    <a:pt x="27709" y="32015"/>
                  </a:lnTo>
                  <a:close/>
                </a:path>
              </a:pathLst>
            </a:custGeom>
            <a:solidFill>
              <a:srgbClr val="fac090"/>
            </a:solidFill>
            <a:ln w="25560">
              <a:solidFill>
                <a:srgbClr val="fac0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AutoShape 15"/>
            <p:cNvSpPr/>
            <p:nvPr/>
          </p:nvSpPr>
          <p:spPr>
            <a:xfrm flipH="1">
              <a:off x="3879000" y="863640"/>
              <a:ext cx="606600" cy="307800"/>
            </a:xfrm>
            <a:custGeom>
              <a:avLst/>
              <a:gdLst>
                <a:gd name="textAreaLeft" fmla="*/ -360 w 606600"/>
                <a:gd name="textAreaRight" fmla="*/ 606600 w 606600"/>
                <a:gd name="textAreaTop" fmla="*/ 0 h 307800"/>
                <a:gd name="textAreaBottom" fmla="*/ 308160 h 307800"/>
              </a:gdLst>
              <a:ahLst/>
              <a:rect l="textAreaLeft" t="textAreaTop" r="textAreaRight" b="textAreaBottom"/>
              <a:pathLst>
                <a:path w="872836" h="443346">
                  <a:moveTo>
                    <a:pt x="0" y="0"/>
                  </a:moveTo>
                  <a:lnTo>
                    <a:pt x="263236" y="0"/>
                  </a:lnTo>
                  <a:lnTo>
                    <a:pt x="512618" y="69273"/>
                  </a:lnTo>
                  <a:lnTo>
                    <a:pt x="803563" y="263237"/>
                  </a:lnTo>
                  <a:lnTo>
                    <a:pt x="872836" y="443346"/>
                  </a:lnTo>
                  <a:lnTo>
                    <a:pt x="651163" y="443346"/>
                  </a:lnTo>
                  <a:lnTo>
                    <a:pt x="568036" y="304800"/>
                  </a:lnTo>
                  <a:lnTo>
                    <a:pt x="332509" y="193964"/>
                  </a:lnTo>
                  <a:lnTo>
                    <a:pt x="13854" y="16625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c090"/>
            </a:solidFill>
            <a:ln w="25560">
              <a:solidFill>
                <a:srgbClr val="fac0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AutoShape 16"/>
            <p:cNvSpPr/>
            <p:nvPr/>
          </p:nvSpPr>
          <p:spPr>
            <a:xfrm>
              <a:off x="2023920" y="1143000"/>
              <a:ext cx="1617840" cy="209520"/>
            </a:xfrm>
            <a:prstGeom prst="roundRect">
              <a:avLst>
                <a:gd name="adj" fmla="val 16667"/>
              </a:avLst>
            </a:prstGeom>
            <a:solidFill>
              <a:srgbClr val="fac090"/>
            </a:solidFill>
            <a:ln w="25560">
              <a:solidFill>
                <a:srgbClr val="fac0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8" name="Group 17"/>
          <p:cNvGrpSpPr/>
          <p:nvPr/>
        </p:nvGrpSpPr>
        <p:grpSpPr>
          <a:xfrm>
            <a:off x="1663560" y="4384080"/>
            <a:ext cx="2241720" cy="2242080"/>
            <a:chOff x="1663560" y="4384080"/>
            <a:chExt cx="2241720" cy="2242080"/>
          </a:xfrm>
        </p:grpSpPr>
        <p:grpSp>
          <p:nvGrpSpPr>
            <p:cNvPr id="319" name="Group 18"/>
            <p:cNvGrpSpPr/>
            <p:nvPr/>
          </p:nvGrpSpPr>
          <p:grpSpPr>
            <a:xfrm>
              <a:off x="1728720" y="4444920"/>
              <a:ext cx="2112480" cy="2112480"/>
              <a:chOff x="1728720" y="4444920"/>
              <a:chExt cx="2112480" cy="2112480"/>
            </a:xfrm>
          </p:grpSpPr>
          <p:pic>
            <p:nvPicPr>
              <p:cNvPr id="320" name="Picture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1728720" y="4444920"/>
                <a:ext cx="2112480" cy="2112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1" name="Text Box 20"/>
              <p:cNvSpPr/>
              <p:nvPr/>
            </p:nvSpPr>
            <p:spPr>
              <a:xfrm>
                <a:off x="2050920" y="4770000"/>
                <a:ext cx="1466640" cy="1466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22" name="AutoShape 21"/>
            <p:cNvSpPr/>
            <p:nvPr/>
          </p:nvSpPr>
          <p:spPr>
            <a:xfrm rot="20520000">
              <a:off x="1894680" y="4615200"/>
              <a:ext cx="1778760" cy="1779480"/>
            </a:xfrm>
            <a:custGeom>
              <a:avLst/>
              <a:gdLst>
                <a:gd name="textAreaLeft" fmla="*/ 818640 w 1778760"/>
                <a:gd name="textAreaRight" fmla="*/ 960120 w 1778760"/>
                <a:gd name="textAreaTop" fmla="*/ 819000 h 1779480"/>
                <a:gd name="textAreaBottom" fmla="*/ 960480 h 177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9941" y="9941"/>
                  </a:lnTo>
                  <a:lnTo>
                    <a:pt x="10800" y="0"/>
                  </a:lnTo>
                  <a:lnTo>
                    <a:pt x="11659" y="9941"/>
                  </a:lnTo>
                  <a:lnTo>
                    <a:pt x="21600" y="10800"/>
                  </a:lnTo>
                  <a:lnTo>
                    <a:pt x="11659" y="11659"/>
                  </a:lnTo>
                  <a:lnTo>
                    <a:pt x="10800" y="21600"/>
                  </a:lnTo>
                  <a:lnTo>
                    <a:pt x="9941" y="11659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ebf1de"/>
            </a:solidFill>
            <a:ln w="25560">
              <a:solidFill>
                <a:srgbClr val="ebf1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Oval 22"/>
            <p:cNvSpPr/>
            <p:nvPr/>
          </p:nvSpPr>
          <p:spPr>
            <a:xfrm>
              <a:off x="2638080" y="5356080"/>
              <a:ext cx="295200" cy="295200"/>
            </a:xfrm>
            <a:prstGeom prst="ellipse">
              <a:avLst/>
            </a:prstGeom>
            <a:gradFill rotWithShape="0">
              <a:gsLst>
                <a:gs pos="0">
                  <a:srgbClr val="156b13"/>
                </a:gs>
                <a:gs pos="100000">
                  <a:srgbClr val="63252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4" name="Group 23"/>
          <p:cNvGrpSpPr/>
          <p:nvPr/>
        </p:nvGrpSpPr>
        <p:grpSpPr>
          <a:xfrm>
            <a:off x="1828800" y="5293440"/>
            <a:ext cx="1871280" cy="1297800"/>
            <a:chOff x="1828800" y="5293440"/>
            <a:chExt cx="1871280" cy="1297800"/>
          </a:xfrm>
        </p:grpSpPr>
        <p:sp>
          <p:nvSpPr>
            <p:cNvPr id="325" name="AutoShape 24"/>
            <p:cNvSpPr/>
            <p:nvPr/>
          </p:nvSpPr>
          <p:spPr>
            <a:xfrm flipV="1" rot="180000">
              <a:off x="1859040" y="5339520"/>
              <a:ext cx="1810800" cy="1204560"/>
            </a:xfrm>
            <a:custGeom>
              <a:avLst/>
              <a:gdLst>
                <a:gd name="textAreaLeft" fmla="*/ 37440 w 1810800"/>
                <a:gd name="textAreaRight" fmla="*/ 1811160 w 1810800"/>
                <a:gd name="textAreaTop" fmla="*/ 360 h 1204560"/>
                <a:gd name="textAreaBottom" fmla="*/ 603360 h 1204560"/>
              </a:gdLst>
              <a:ahLst/>
              <a:rect l="textAreaLeft" t="textAreaTop" r="textAreaRight" b="textAreaBottom"/>
              <a:pathLst>
                <a:path w="1755053" h="1113994">
                  <a:moveTo>
                    <a:pt x="36404" y="398230"/>
                  </a:moveTo>
                  <a:lnTo>
                    <a:pt x="36403" y="398229"/>
                  </a:lnTo>
                  <a:cubicBezTo>
                    <a:pt x="147086" y="161984"/>
                    <a:pt x="489222" y="-1"/>
                    <a:pt x="877527" y="0"/>
                  </a:cubicBezTo>
                  <a:cubicBezTo>
                    <a:pt x="1362171" y="0"/>
                    <a:pt x="1755054" y="249376"/>
                    <a:pt x="1755054" y="556997"/>
                  </a:cubicBezTo>
                  <a:cubicBezTo>
                    <a:pt x="1755054" y="556997"/>
                    <a:pt x="1755053" y="556998"/>
                    <a:pt x="1755053" y="556998"/>
                  </a:cubicBezTo>
                  <a:lnTo>
                    <a:pt x="1476555" y="556997"/>
                  </a:lnTo>
                  <a:cubicBezTo>
                    <a:pt x="1476555" y="403186"/>
                    <a:pt x="1208361" y="278498"/>
                    <a:pt x="877527" y="278498"/>
                  </a:cubicBezTo>
                  <a:cubicBezTo>
                    <a:pt x="633707" y="278497"/>
                    <a:pt x="414216" y="347203"/>
                    <a:pt x="322498" y="452233"/>
                  </a:cubicBezTo>
                  <a:close/>
                </a:path>
              </a:pathLst>
            </a:custGeom>
            <a:gradFill rotWithShape="0">
              <a:gsLst>
                <a:gs pos="0">
                  <a:srgbClr val="156b13"/>
                </a:gs>
                <a:gs pos="100000">
                  <a:srgbClr val="ddebcf"/>
                </a:gs>
              </a:gsLst>
              <a:lin ang="5400000"/>
            </a:gradFill>
            <a:ln w="255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Oval 25"/>
            <p:cNvSpPr/>
            <p:nvPr/>
          </p:nvSpPr>
          <p:spPr>
            <a:xfrm flipV="1">
              <a:off x="3366720" y="6019200"/>
              <a:ext cx="278640" cy="290160"/>
            </a:xfrm>
            <a:prstGeom prst="ellipse">
              <a:avLst/>
            </a:prstGeom>
            <a:gradFill rotWithShape="0">
              <a:gsLst>
                <a:gs pos="0">
                  <a:srgbClr val="156b13"/>
                </a:gs>
                <a:gs pos="100000">
                  <a:srgbClr val="63252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Oval 26"/>
            <p:cNvSpPr/>
            <p:nvPr/>
          </p:nvSpPr>
          <p:spPr>
            <a:xfrm flipV="1">
              <a:off x="1949040" y="6001920"/>
              <a:ext cx="276840" cy="290160"/>
            </a:xfrm>
            <a:prstGeom prst="ellipse">
              <a:avLst/>
            </a:prstGeom>
            <a:gradFill rotWithShape="0">
              <a:gsLst>
                <a:gs pos="0">
                  <a:srgbClr val="156b13"/>
                </a:gs>
                <a:gs pos="100000">
                  <a:srgbClr val="63252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8" name="Group 27"/>
          <p:cNvGrpSpPr/>
          <p:nvPr/>
        </p:nvGrpSpPr>
        <p:grpSpPr>
          <a:xfrm>
            <a:off x="2500200" y="642960"/>
            <a:ext cx="641520" cy="712800"/>
            <a:chOff x="2500200" y="642960"/>
            <a:chExt cx="641520" cy="712800"/>
          </a:xfrm>
        </p:grpSpPr>
        <p:sp>
          <p:nvSpPr>
            <p:cNvPr id="329" name="AutoShape 28"/>
            <p:cNvSpPr/>
            <p:nvPr/>
          </p:nvSpPr>
          <p:spPr>
            <a:xfrm>
              <a:off x="2571840" y="642960"/>
              <a:ext cx="498240" cy="712800"/>
            </a:xfrm>
            <a:prstGeom prst="flowChartExtract">
              <a:avLst/>
            </a:prstGeom>
            <a:gradFill rotWithShape="0">
              <a:gsLst>
                <a:gs pos="0">
                  <a:srgbClr val="e6e6e6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AutoShape 29"/>
            <p:cNvSpPr/>
            <p:nvPr/>
          </p:nvSpPr>
          <p:spPr>
            <a:xfrm>
              <a:off x="2500200" y="1143000"/>
              <a:ext cx="641520" cy="1411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AutoShape 30"/>
            <p:cNvSpPr/>
            <p:nvPr/>
          </p:nvSpPr>
          <p:spPr>
            <a:xfrm>
              <a:off x="2652840" y="785880"/>
              <a:ext cx="345960" cy="1411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2" name="Group 31"/>
          <p:cNvGrpSpPr/>
          <p:nvPr/>
        </p:nvGrpSpPr>
        <p:grpSpPr>
          <a:xfrm>
            <a:off x="3473280" y="214200"/>
            <a:ext cx="525600" cy="1212840"/>
            <a:chOff x="3473280" y="214200"/>
            <a:chExt cx="525600" cy="1212840"/>
          </a:xfrm>
        </p:grpSpPr>
        <p:pic>
          <p:nvPicPr>
            <p:cNvPr id="333" name="Picture 32" descr=""/>
            <p:cNvPicPr/>
            <p:nvPr/>
          </p:nvPicPr>
          <p:blipFill>
            <a:blip r:embed="rId3"/>
            <a:stretch/>
          </p:blipFill>
          <p:spPr>
            <a:xfrm>
              <a:off x="3681360" y="281160"/>
              <a:ext cx="128520" cy="10555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34" name="Group 33"/>
            <p:cNvGrpSpPr/>
            <p:nvPr/>
          </p:nvGrpSpPr>
          <p:grpSpPr>
            <a:xfrm>
              <a:off x="3473280" y="214200"/>
              <a:ext cx="509760" cy="412920"/>
              <a:chOff x="3473280" y="214200"/>
              <a:chExt cx="509760" cy="412920"/>
            </a:xfrm>
          </p:grpSpPr>
          <p:grpSp>
            <p:nvGrpSpPr>
              <p:cNvPr id="335" name="Group 34"/>
              <p:cNvGrpSpPr/>
              <p:nvPr/>
            </p:nvGrpSpPr>
            <p:grpSpPr>
              <a:xfrm>
                <a:off x="3530520" y="318960"/>
                <a:ext cx="414360" cy="155880"/>
                <a:chOff x="3530520" y="318960"/>
                <a:chExt cx="414360" cy="155880"/>
              </a:xfrm>
            </p:grpSpPr>
            <p:pic>
              <p:nvPicPr>
                <p:cNvPr id="336" name="Picture 35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3530520" y="318960"/>
                  <a:ext cx="414360" cy="155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37" name="Text Box 36"/>
                <p:cNvSpPr/>
                <p:nvPr/>
              </p:nvSpPr>
              <p:spPr>
                <a:xfrm>
                  <a:off x="3584520" y="351000"/>
                  <a:ext cx="311040" cy="5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8" name="Group 37"/>
              <p:cNvGrpSpPr/>
              <p:nvPr/>
            </p:nvGrpSpPr>
            <p:grpSpPr>
              <a:xfrm>
                <a:off x="3530520" y="392040"/>
                <a:ext cx="414360" cy="160560"/>
                <a:chOff x="3530520" y="392040"/>
                <a:chExt cx="414360" cy="160560"/>
              </a:xfrm>
            </p:grpSpPr>
            <p:pic>
              <p:nvPicPr>
                <p:cNvPr id="339" name="Picture 38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530520" y="392040"/>
                  <a:ext cx="414360" cy="160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0" name="Text Box 39"/>
                <p:cNvSpPr/>
                <p:nvPr/>
              </p:nvSpPr>
              <p:spPr>
                <a:xfrm>
                  <a:off x="3584520" y="426960"/>
                  <a:ext cx="311040" cy="54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1" name="Group 40"/>
              <p:cNvGrpSpPr/>
              <p:nvPr/>
            </p:nvGrpSpPr>
            <p:grpSpPr>
              <a:xfrm>
                <a:off x="3473280" y="214200"/>
                <a:ext cx="509760" cy="203400"/>
                <a:chOff x="3473280" y="214200"/>
                <a:chExt cx="509760" cy="203400"/>
              </a:xfrm>
            </p:grpSpPr>
            <p:pic>
              <p:nvPicPr>
                <p:cNvPr id="342" name="Picture 41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3473280" y="214200"/>
                  <a:ext cx="509760" cy="203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3" name="Text Box 42"/>
                <p:cNvSpPr/>
                <p:nvPr/>
              </p:nvSpPr>
              <p:spPr>
                <a:xfrm>
                  <a:off x="3530520" y="250920"/>
                  <a:ext cx="399960" cy="9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4" name="Group 43"/>
              <p:cNvGrpSpPr/>
              <p:nvPr/>
            </p:nvGrpSpPr>
            <p:grpSpPr>
              <a:xfrm>
                <a:off x="3530520" y="366840"/>
                <a:ext cx="414360" cy="160200"/>
                <a:chOff x="3530520" y="366840"/>
                <a:chExt cx="414360" cy="160200"/>
              </a:xfrm>
            </p:grpSpPr>
            <p:pic>
              <p:nvPicPr>
                <p:cNvPr id="345" name="Picture 44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3530520" y="366840"/>
                  <a:ext cx="414360" cy="160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6" name="Text Box 45"/>
                <p:cNvSpPr/>
                <p:nvPr/>
              </p:nvSpPr>
              <p:spPr>
                <a:xfrm>
                  <a:off x="3584520" y="401760"/>
                  <a:ext cx="311040" cy="54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7" name="Group 46"/>
              <p:cNvGrpSpPr/>
              <p:nvPr/>
            </p:nvGrpSpPr>
            <p:grpSpPr>
              <a:xfrm>
                <a:off x="3530520" y="419040"/>
                <a:ext cx="414360" cy="155520"/>
                <a:chOff x="3530520" y="419040"/>
                <a:chExt cx="414360" cy="155520"/>
              </a:xfrm>
            </p:grpSpPr>
            <p:pic>
              <p:nvPicPr>
                <p:cNvPr id="348" name="Picture 47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3530520" y="419040"/>
                  <a:ext cx="414360" cy="155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9" name="Text Box 48"/>
                <p:cNvSpPr/>
                <p:nvPr/>
              </p:nvSpPr>
              <p:spPr>
                <a:xfrm>
                  <a:off x="3584520" y="452520"/>
                  <a:ext cx="311040" cy="54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0" name="Group 49"/>
              <p:cNvGrpSpPr/>
              <p:nvPr/>
            </p:nvGrpSpPr>
            <p:grpSpPr>
              <a:xfrm>
                <a:off x="3530520" y="471600"/>
                <a:ext cx="414360" cy="155520"/>
                <a:chOff x="3530520" y="471600"/>
                <a:chExt cx="414360" cy="155520"/>
              </a:xfrm>
            </p:grpSpPr>
            <p:pic>
              <p:nvPicPr>
                <p:cNvPr id="351" name="Picture 50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3530520" y="471600"/>
                  <a:ext cx="414360" cy="155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52" name="Text Box 51"/>
                <p:cNvSpPr/>
                <p:nvPr/>
              </p:nvSpPr>
              <p:spPr>
                <a:xfrm>
                  <a:off x="3584520" y="503280"/>
                  <a:ext cx="311040" cy="54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53" name="Group 52"/>
            <p:cNvGrpSpPr/>
            <p:nvPr/>
          </p:nvGrpSpPr>
          <p:grpSpPr>
            <a:xfrm>
              <a:off x="3503520" y="1042920"/>
              <a:ext cx="495360" cy="384120"/>
              <a:chOff x="3503520" y="1042920"/>
              <a:chExt cx="495360" cy="384120"/>
            </a:xfrm>
          </p:grpSpPr>
          <p:pic>
            <p:nvPicPr>
              <p:cNvPr id="354" name="Picture 53" descr=""/>
              <p:cNvPicPr/>
              <p:nvPr/>
            </p:nvPicPr>
            <p:blipFill>
              <a:blip r:embed="rId10"/>
              <a:stretch/>
            </p:blipFill>
            <p:spPr>
              <a:xfrm>
                <a:off x="3503520" y="1042920"/>
                <a:ext cx="495360" cy="384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5" name="Text Box 54"/>
              <p:cNvSpPr/>
              <p:nvPr/>
            </p:nvSpPr>
            <p:spPr>
              <a:xfrm>
                <a:off x="3581280" y="1092240"/>
                <a:ext cx="344520" cy="237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356" name="Group 55"/>
          <p:cNvGrpSpPr/>
          <p:nvPr/>
        </p:nvGrpSpPr>
        <p:grpSpPr>
          <a:xfrm>
            <a:off x="1544760" y="214200"/>
            <a:ext cx="525240" cy="1212840"/>
            <a:chOff x="1544760" y="214200"/>
            <a:chExt cx="525240" cy="1212840"/>
          </a:xfrm>
        </p:grpSpPr>
        <p:pic>
          <p:nvPicPr>
            <p:cNvPr id="357" name="Picture 56" descr=""/>
            <p:cNvPicPr/>
            <p:nvPr/>
          </p:nvPicPr>
          <p:blipFill>
            <a:blip r:embed="rId11"/>
            <a:stretch/>
          </p:blipFill>
          <p:spPr>
            <a:xfrm>
              <a:off x="1754280" y="281160"/>
              <a:ext cx="127080" cy="10555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58" name="Group 57"/>
            <p:cNvGrpSpPr/>
            <p:nvPr/>
          </p:nvGrpSpPr>
          <p:grpSpPr>
            <a:xfrm>
              <a:off x="1544760" y="214200"/>
              <a:ext cx="506160" cy="412920"/>
              <a:chOff x="1544760" y="214200"/>
              <a:chExt cx="506160" cy="412920"/>
            </a:xfrm>
          </p:grpSpPr>
          <p:grpSp>
            <p:nvGrpSpPr>
              <p:cNvPr id="359" name="Group 58"/>
              <p:cNvGrpSpPr/>
              <p:nvPr/>
            </p:nvGrpSpPr>
            <p:grpSpPr>
              <a:xfrm>
                <a:off x="1601640" y="318960"/>
                <a:ext cx="412920" cy="155880"/>
                <a:chOff x="1601640" y="318960"/>
                <a:chExt cx="412920" cy="155880"/>
              </a:xfrm>
            </p:grpSpPr>
            <p:pic>
              <p:nvPicPr>
                <p:cNvPr id="360" name="Picture 5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1601640" y="318960"/>
                  <a:ext cx="412920" cy="155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61" name="Text Box 60"/>
                <p:cNvSpPr/>
                <p:nvPr/>
              </p:nvSpPr>
              <p:spPr>
                <a:xfrm>
                  <a:off x="1657440" y="351000"/>
                  <a:ext cx="306360" cy="5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2" name="Group 61"/>
              <p:cNvGrpSpPr/>
              <p:nvPr/>
            </p:nvGrpSpPr>
            <p:grpSpPr>
              <a:xfrm>
                <a:off x="1601640" y="392040"/>
                <a:ext cx="412920" cy="160560"/>
                <a:chOff x="1601640" y="392040"/>
                <a:chExt cx="412920" cy="160560"/>
              </a:xfrm>
            </p:grpSpPr>
            <p:pic>
              <p:nvPicPr>
                <p:cNvPr id="363" name="Picture 62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1601640" y="392040"/>
                  <a:ext cx="412920" cy="160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64" name="Text Box 63"/>
                <p:cNvSpPr/>
                <p:nvPr/>
              </p:nvSpPr>
              <p:spPr>
                <a:xfrm>
                  <a:off x="1657440" y="426960"/>
                  <a:ext cx="306360" cy="54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5" name="Group 64"/>
              <p:cNvGrpSpPr/>
              <p:nvPr/>
            </p:nvGrpSpPr>
            <p:grpSpPr>
              <a:xfrm>
                <a:off x="1544760" y="214200"/>
                <a:ext cx="506160" cy="203400"/>
                <a:chOff x="1544760" y="214200"/>
                <a:chExt cx="506160" cy="203400"/>
              </a:xfrm>
            </p:grpSpPr>
            <p:pic>
              <p:nvPicPr>
                <p:cNvPr id="366" name="Picture 65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1544760" y="214200"/>
                  <a:ext cx="506160" cy="203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67" name="Text Box 66"/>
                <p:cNvSpPr/>
                <p:nvPr/>
              </p:nvSpPr>
              <p:spPr>
                <a:xfrm>
                  <a:off x="1603440" y="250920"/>
                  <a:ext cx="393480" cy="9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8" name="Group 67"/>
              <p:cNvGrpSpPr/>
              <p:nvPr/>
            </p:nvGrpSpPr>
            <p:grpSpPr>
              <a:xfrm>
                <a:off x="1601640" y="366840"/>
                <a:ext cx="412920" cy="160200"/>
                <a:chOff x="1601640" y="366840"/>
                <a:chExt cx="412920" cy="160200"/>
              </a:xfrm>
            </p:grpSpPr>
            <p:pic>
              <p:nvPicPr>
                <p:cNvPr id="369" name="Picture 68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1601640" y="366840"/>
                  <a:ext cx="412920" cy="160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70" name="Text Box 69"/>
                <p:cNvSpPr/>
                <p:nvPr/>
              </p:nvSpPr>
              <p:spPr>
                <a:xfrm>
                  <a:off x="1657440" y="401760"/>
                  <a:ext cx="306360" cy="54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71" name="Group 70"/>
              <p:cNvGrpSpPr/>
              <p:nvPr/>
            </p:nvGrpSpPr>
            <p:grpSpPr>
              <a:xfrm>
                <a:off x="1601640" y="419040"/>
                <a:ext cx="412920" cy="155520"/>
                <a:chOff x="1601640" y="419040"/>
                <a:chExt cx="412920" cy="155520"/>
              </a:xfrm>
            </p:grpSpPr>
            <p:pic>
              <p:nvPicPr>
                <p:cNvPr id="372" name="Picture 71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1601640" y="419040"/>
                  <a:ext cx="412920" cy="155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73" name="Text Box 72"/>
                <p:cNvSpPr/>
                <p:nvPr/>
              </p:nvSpPr>
              <p:spPr>
                <a:xfrm>
                  <a:off x="1657440" y="452520"/>
                  <a:ext cx="306360" cy="54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74" name="Group 73"/>
              <p:cNvGrpSpPr/>
              <p:nvPr/>
            </p:nvGrpSpPr>
            <p:grpSpPr>
              <a:xfrm>
                <a:off x="1601640" y="471600"/>
                <a:ext cx="412920" cy="155520"/>
                <a:chOff x="1601640" y="471600"/>
                <a:chExt cx="412920" cy="155520"/>
              </a:xfrm>
            </p:grpSpPr>
            <p:pic>
              <p:nvPicPr>
                <p:cNvPr id="375" name="Picture 7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1601640" y="471600"/>
                  <a:ext cx="412920" cy="155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76" name="Text Box 75"/>
                <p:cNvSpPr/>
                <p:nvPr/>
              </p:nvSpPr>
              <p:spPr>
                <a:xfrm>
                  <a:off x="1657440" y="503280"/>
                  <a:ext cx="306360" cy="54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77" name="Group 76"/>
            <p:cNvGrpSpPr/>
            <p:nvPr/>
          </p:nvGrpSpPr>
          <p:grpSpPr>
            <a:xfrm>
              <a:off x="1577880" y="1042920"/>
              <a:ext cx="492120" cy="384120"/>
              <a:chOff x="1577880" y="1042920"/>
              <a:chExt cx="492120" cy="384120"/>
            </a:xfrm>
          </p:grpSpPr>
          <p:pic>
            <p:nvPicPr>
              <p:cNvPr id="378" name="Picture 77" descr=""/>
              <p:cNvPicPr/>
              <p:nvPr/>
            </p:nvPicPr>
            <p:blipFill>
              <a:blip r:embed="rId18"/>
              <a:stretch/>
            </p:blipFill>
            <p:spPr>
              <a:xfrm>
                <a:off x="1577880" y="1042920"/>
                <a:ext cx="492120" cy="384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79" name="Text Box 78"/>
              <p:cNvSpPr/>
              <p:nvPr/>
            </p:nvSpPr>
            <p:spPr>
              <a:xfrm>
                <a:off x="1652760" y="1092240"/>
                <a:ext cx="342720" cy="237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380" name="Group 79"/>
          <p:cNvGrpSpPr/>
          <p:nvPr/>
        </p:nvGrpSpPr>
        <p:grpSpPr>
          <a:xfrm>
            <a:off x="2627280" y="3840120"/>
            <a:ext cx="254160" cy="2540160"/>
            <a:chOff x="2627280" y="3840120"/>
            <a:chExt cx="254160" cy="2540160"/>
          </a:xfrm>
        </p:grpSpPr>
        <p:pic>
          <p:nvPicPr>
            <p:cNvPr id="381" name="Picture 80" descr=""/>
            <p:cNvPicPr/>
            <p:nvPr/>
          </p:nvPicPr>
          <p:blipFill>
            <a:blip r:embed="rId19"/>
            <a:stretch/>
          </p:blipFill>
          <p:spPr>
            <a:xfrm>
              <a:off x="2627280" y="3840120"/>
              <a:ext cx="254160" cy="254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2" name="Text Box 81"/>
            <p:cNvSpPr/>
            <p:nvPr/>
          </p:nvSpPr>
          <p:spPr>
            <a:xfrm>
              <a:off x="2643120" y="3857760"/>
              <a:ext cx="212760" cy="24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3" name="Oval 82"/>
          <p:cNvSpPr/>
          <p:nvPr/>
        </p:nvSpPr>
        <p:spPr>
          <a:xfrm rot="21000000">
            <a:off x="2596680" y="6118200"/>
            <a:ext cx="357120" cy="357120"/>
          </a:xfrm>
          <a:prstGeom prst="ellipse">
            <a:avLst/>
          </a:prstGeom>
          <a:gradFill rotWithShape="0">
            <a:gsLst>
              <a:gs pos="0">
                <a:srgbClr val="156b13"/>
              </a:gs>
              <a:gs pos="100000">
                <a:srgbClr val="d7e4b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4" name="Group 83"/>
          <p:cNvGrpSpPr/>
          <p:nvPr/>
        </p:nvGrpSpPr>
        <p:grpSpPr>
          <a:xfrm>
            <a:off x="1542960" y="2755800"/>
            <a:ext cx="2478240" cy="1198800"/>
            <a:chOff x="1542960" y="2755800"/>
            <a:chExt cx="2478240" cy="1198800"/>
          </a:xfrm>
        </p:grpSpPr>
        <p:pic>
          <p:nvPicPr>
            <p:cNvPr id="385" name="Picture 84" descr=""/>
            <p:cNvPicPr/>
            <p:nvPr/>
          </p:nvPicPr>
          <p:blipFill>
            <a:blip r:embed="rId20"/>
            <a:stretch/>
          </p:blipFill>
          <p:spPr>
            <a:xfrm>
              <a:off x="1542960" y="2755800"/>
              <a:ext cx="2478240" cy="119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6" name="Text Box 85"/>
            <p:cNvSpPr/>
            <p:nvPr/>
          </p:nvSpPr>
          <p:spPr>
            <a:xfrm>
              <a:off x="1571760" y="2786040"/>
              <a:ext cx="2427120" cy="114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7" name="Group 86"/>
          <p:cNvGrpSpPr/>
          <p:nvPr/>
        </p:nvGrpSpPr>
        <p:grpSpPr>
          <a:xfrm>
            <a:off x="4000680" y="1143000"/>
            <a:ext cx="285120" cy="2784600"/>
            <a:chOff x="4000680" y="1143000"/>
            <a:chExt cx="285120" cy="2784600"/>
          </a:xfrm>
        </p:grpSpPr>
        <p:grpSp>
          <p:nvGrpSpPr>
            <p:cNvPr id="388" name="Group 87"/>
            <p:cNvGrpSpPr/>
            <p:nvPr/>
          </p:nvGrpSpPr>
          <p:grpSpPr>
            <a:xfrm>
              <a:off x="4003560" y="1143000"/>
              <a:ext cx="282240" cy="2498760"/>
              <a:chOff x="4003560" y="1143000"/>
              <a:chExt cx="282240" cy="2498760"/>
            </a:xfrm>
          </p:grpSpPr>
          <p:sp>
            <p:nvSpPr>
              <p:cNvPr id="389" name="AutoShape 88"/>
              <p:cNvSpPr/>
              <p:nvPr/>
            </p:nvSpPr>
            <p:spPr>
              <a:xfrm>
                <a:off x="4003560" y="1143000"/>
                <a:ext cx="282240" cy="2498760"/>
              </a:xfrm>
              <a:custGeom>
                <a:avLst/>
                <a:gdLst>
                  <a:gd name="textAreaLeft" fmla="*/ 13680 w 282240"/>
                  <a:gd name="textAreaRight" fmla="*/ 268560 w 282240"/>
                  <a:gd name="textAreaTop" fmla="*/ 13680 h 2498760"/>
                  <a:gd name="textAreaBottom" fmla="*/ 2485080 h 2498760"/>
                </a:gdLst>
                <a:ahLst/>
                <a:rect l="textAreaLeft" t="textAreaTop" r="textAreaRight" b="textAreaBottom"/>
                <a:pathLst>
                  <a:path w="21600" h="191016">
                    <a:moveTo>
                      <a:pt x="3600" y="0"/>
                    </a:moveTo>
                    <a:arcTo wR="3600" hR="3600" stAng="16200000" swAng="-5400000"/>
                    <a:lnTo>
                      <a:pt x="0" y="187416"/>
                    </a:lnTo>
                    <a:arcTo wR="3600" hR="3600" stAng="10800000" swAng="-5400000"/>
                    <a:lnTo>
                      <a:pt x="18000" y="191016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ac090"/>
              </a:solidFill>
              <a:ln w="25560">
                <a:solidFill>
                  <a:srgbClr val="fac09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AutoShape 89"/>
              <p:cNvSpPr/>
              <p:nvPr/>
            </p:nvSpPr>
            <p:spPr>
              <a:xfrm>
                <a:off x="4074120" y="1276200"/>
                <a:ext cx="140400" cy="2293920"/>
              </a:xfrm>
              <a:custGeom>
                <a:avLst/>
                <a:gdLst>
                  <a:gd name="textAreaLeft" fmla="*/ 6840 w 140400"/>
                  <a:gd name="textAreaRight" fmla="*/ 133560 w 140400"/>
                  <a:gd name="textAreaTop" fmla="*/ 6840 h 2293920"/>
                  <a:gd name="textAreaBottom" fmla="*/ 2287080 h 2293920"/>
                </a:gdLst>
                <a:ahLst/>
                <a:rect l="textAreaLeft" t="textAreaTop" r="textAreaRight" b="textAreaBottom"/>
                <a:pathLst>
                  <a:path w="21600" h="352063">
                    <a:moveTo>
                      <a:pt x="3600" y="0"/>
                    </a:moveTo>
                    <a:arcTo wR="3600" hR="3600" stAng="16200000" swAng="-5400000"/>
                    <a:lnTo>
                      <a:pt x="0" y="348463"/>
                    </a:lnTo>
                    <a:arcTo wR="3600" hR="3600" stAng="10800000" swAng="-5400000"/>
                    <a:lnTo>
                      <a:pt x="18000" y="352063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91" name="Line 90"/>
            <p:cNvSpPr/>
            <p:nvPr/>
          </p:nvSpPr>
          <p:spPr>
            <a:xfrm flipH="1">
              <a:off x="4000680" y="1143000"/>
              <a:ext cx="2880" cy="2784600"/>
            </a:xfrm>
            <a:prstGeom prst="line">
              <a:avLst/>
            </a:prstGeom>
            <a:ln w="101520">
              <a:solidFill>
                <a:srgbClr val="fac0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92" name="Group 91"/>
          <p:cNvGrpSpPr/>
          <p:nvPr/>
        </p:nvGrpSpPr>
        <p:grpSpPr>
          <a:xfrm>
            <a:off x="1285920" y="1143000"/>
            <a:ext cx="283680" cy="2786040"/>
            <a:chOff x="1285920" y="1143000"/>
            <a:chExt cx="283680" cy="2786040"/>
          </a:xfrm>
        </p:grpSpPr>
        <p:grpSp>
          <p:nvGrpSpPr>
            <p:cNvPr id="393" name="Group 92"/>
            <p:cNvGrpSpPr/>
            <p:nvPr/>
          </p:nvGrpSpPr>
          <p:grpSpPr>
            <a:xfrm>
              <a:off x="1285920" y="1143000"/>
              <a:ext cx="282240" cy="2498760"/>
              <a:chOff x="1285920" y="1143000"/>
              <a:chExt cx="282240" cy="2498760"/>
            </a:xfrm>
          </p:grpSpPr>
          <p:sp>
            <p:nvSpPr>
              <p:cNvPr id="394" name="AutoShape 93"/>
              <p:cNvSpPr/>
              <p:nvPr/>
            </p:nvSpPr>
            <p:spPr>
              <a:xfrm>
                <a:off x="1285920" y="1143000"/>
                <a:ext cx="282240" cy="2498760"/>
              </a:xfrm>
              <a:custGeom>
                <a:avLst/>
                <a:gdLst>
                  <a:gd name="textAreaLeft" fmla="*/ 13680 w 282240"/>
                  <a:gd name="textAreaRight" fmla="*/ 268560 w 282240"/>
                  <a:gd name="textAreaTop" fmla="*/ 13680 h 2498760"/>
                  <a:gd name="textAreaBottom" fmla="*/ 2485080 h 2498760"/>
                </a:gdLst>
                <a:ahLst/>
                <a:rect l="textAreaLeft" t="textAreaTop" r="textAreaRight" b="textAreaBottom"/>
                <a:pathLst>
                  <a:path w="21600" h="191016">
                    <a:moveTo>
                      <a:pt x="3600" y="0"/>
                    </a:moveTo>
                    <a:arcTo wR="3600" hR="3600" stAng="16200000" swAng="-5400000"/>
                    <a:lnTo>
                      <a:pt x="0" y="187416"/>
                    </a:lnTo>
                    <a:arcTo wR="3600" hR="3600" stAng="10800000" swAng="-5400000"/>
                    <a:lnTo>
                      <a:pt x="18000" y="191016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ac090"/>
              </a:solidFill>
              <a:ln w="25560">
                <a:solidFill>
                  <a:srgbClr val="fac09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" name="AutoShape 94"/>
              <p:cNvSpPr/>
              <p:nvPr/>
            </p:nvSpPr>
            <p:spPr>
              <a:xfrm>
                <a:off x="1355040" y="1276200"/>
                <a:ext cx="137160" cy="2293920"/>
              </a:xfrm>
              <a:custGeom>
                <a:avLst/>
                <a:gdLst>
                  <a:gd name="textAreaLeft" fmla="*/ 6480 w 137160"/>
                  <a:gd name="textAreaRight" fmla="*/ 130680 w 137160"/>
                  <a:gd name="textAreaTop" fmla="*/ 6480 h 2293920"/>
                  <a:gd name="textAreaBottom" fmla="*/ 2287440 h 2293920"/>
                </a:gdLst>
                <a:ahLst/>
                <a:rect l="textAreaLeft" t="textAreaTop" r="textAreaRight" b="textAreaBottom"/>
                <a:pathLst>
                  <a:path w="21600" h="360358">
                    <a:moveTo>
                      <a:pt x="3600" y="0"/>
                    </a:moveTo>
                    <a:arcTo wR="3600" hR="3600" stAng="16200000" swAng="-5400000"/>
                    <a:lnTo>
                      <a:pt x="0" y="356758"/>
                    </a:lnTo>
                    <a:arcTo wR="3600" hR="3600" stAng="10800000" swAng="-5400000"/>
                    <a:lnTo>
                      <a:pt x="18000" y="36035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96" name="Line 95"/>
            <p:cNvSpPr/>
            <p:nvPr/>
          </p:nvSpPr>
          <p:spPr>
            <a:xfrm flipH="1">
              <a:off x="1566720" y="1144440"/>
              <a:ext cx="2880" cy="2784600"/>
            </a:xfrm>
            <a:prstGeom prst="line">
              <a:avLst/>
            </a:prstGeom>
            <a:ln w="101520">
              <a:solidFill>
                <a:srgbClr val="fac0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7" name="AutoShape 96"/>
          <p:cNvSpPr/>
          <p:nvPr/>
        </p:nvSpPr>
        <p:spPr>
          <a:xfrm rot="5400000">
            <a:off x="3654000" y="5981760"/>
            <a:ext cx="328680" cy="941400"/>
          </a:xfrm>
          <a:custGeom>
            <a:avLst/>
            <a:gdLst>
              <a:gd name="textAreaLeft" fmla="*/ 0 w 328680"/>
              <a:gd name="textAreaRight" fmla="*/ 329040 w 328680"/>
              <a:gd name="textAreaTop" fmla="*/ 0 h 941400"/>
              <a:gd name="textAreaBottom" fmla="*/ 941760 h 941400"/>
            </a:gdLst>
            <a:ahLst/>
            <a:rect l="textAreaLeft" t="textAreaTop" r="textAreaRight" b="textAreaBottom"/>
            <a:pathLst>
              <a:path w="327890" h="942109">
                <a:moveTo>
                  <a:pt x="0" y="0"/>
                </a:moveTo>
                <a:cubicBezTo>
                  <a:pt x="98136" y="105063"/>
                  <a:pt x="196273" y="210127"/>
                  <a:pt x="249382" y="346363"/>
                </a:cubicBezTo>
                <a:cubicBezTo>
                  <a:pt x="302491" y="482599"/>
                  <a:pt x="309418" y="718127"/>
                  <a:pt x="318654" y="817418"/>
                </a:cubicBezTo>
                <a:cubicBezTo>
                  <a:pt x="327890" y="916709"/>
                  <a:pt x="316345" y="929409"/>
                  <a:pt x="304800" y="942109"/>
                </a:cubicBezTo>
              </a:path>
            </a:pathLst>
          </a:custGeom>
          <a:noFill/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8" name="Picture 97" descr=""/>
          <p:cNvPicPr/>
          <p:nvPr/>
        </p:nvPicPr>
        <p:blipFill>
          <a:blip r:embed="rId21"/>
          <a:stretch/>
        </p:blipFill>
        <p:spPr>
          <a:xfrm>
            <a:off x="5389560" y="-208080"/>
            <a:ext cx="3535200" cy="201780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98" descr=""/>
          <p:cNvPicPr/>
          <p:nvPr/>
        </p:nvPicPr>
        <p:blipFill>
          <a:blip r:embed="rId22"/>
          <a:stretch/>
        </p:blipFill>
        <p:spPr>
          <a:xfrm>
            <a:off x="4468680" y="1163520"/>
            <a:ext cx="5181840" cy="1592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0" name="Group 1"/>
          <p:cNvGrpSpPr/>
          <p:nvPr/>
        </p:nvGrpSpPr>
        <p:grpSpPr>
          <a:xfrm>
            <a:off x="1566720" y="1279440"/>
            <a:ext cx="2509920" cy="2657520"/>
            <a:chOff x="1566720" y="1279440"/>
            <a:chExt cx="2509920" cy="2657520"/>
          </a:xfrm>
        </p:grpSpPr>
        <p:pic>
          <p:nvPicPr>
            <p:cNvPr id="401" name="Picture 2" descr=""/>
            <p:cNvPicPr/>
            <p:nvPr/>
          </p:nvPicPr>
          <p:blipFill>
            <a:blip r:embed="rId1"/>
            <a:stretch/>
          </p:blipFill>
          <p:spPr>
            <a:xfrm>
              <a:off x="1566720" y="1279440"/>
              <a:ext cx="2509920" cy="265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2" name="Text Box 3"/>
            <p:cNvSpPr/>
            <p:nvPr/>
          </p:nvSpPr>
          <p:spPr>
            <a:xfrm>
              <a:off x="1571760" y="1285920"/>
              <a:ext cx="2498760" cy="264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03" name="Group 4"/>
          <p:cNvGrpSpPr/>
          <p:nvPr/>
        </p:nvGrpSpPr>
        <p:grpSpPr>
          <a:xfrm>
            <a:off x="1447920" y="4169520"/>
            <a:ext cx="2671920" cy="2671920"/>
            <a:chOff x="1447920" y="4169520"/>
            <a:chExt cx="2671920" cy="2671920"/>
          </a:xfrm>
        </p:grpSpPr>
        <p:grpSp>
          <p:nvGrpSpPr>
            <p:cNvPr id="404" name="Group 5"/>
            <p:cNvGrpSpPr/>
            <p:nvPr/>
          </p:nvGrpSpPr>
          <p:grpSpPr>
            <a:xfrm>
              <a:off x="1628640" y="4344840"/>
              <a:ext cx="2312280" cy="2312280"/>
              <a:chOff x="1628640" y="4344840"/>
              <a:chExt cx="2312280" cy="2312280"/>
            </a:xfrm>
          </p:grpSpPr>
          <p:pic>
            <p:nvPicPr>
              <p:cNvPr id="405" name="Picture 6" descr=""/>
              <p:cNvPicPr/>
              <p:nvPr/>
            </p:nvPicPr>
            <p:blipFill>
              <a:blip r:embed="rId2"/>
              <a:stretch/>
            </p:blipFill>
            <p:spPr>
              <a:xfrm>
                <a:off x="1628640" y="4344840"/>
                <a:ext cx="2312280" cy="2312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6" name="Text Box 7"/>
              <p:cNvSpPr/>
              <p:nvPr/>
            </p:nvSpPr>
            <p:spPr>
              <a:xfrm rot="19140000">
                <a:off x="1979280" y="4702320"/>
                <a:ext cx="1605240" cy="160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07" name="AutoShape 8"/>
            <p:cNvSpPr/>
            <p:nvPr/>
          </p:nvSpPr>
          <p:spPr>
            <a:xfrm rot="18060000">
              <a:off x="1809720" y="4532040"/>
              <a:ext cx="1947600" cy="1946880"/>
            </a:xfrm>
            <a:custGeom>
              <a:avLst/>
              <a:gdLst>
                <a:gd name="textAreaLeft" fmla="*/ 896400 w 1947600"/>
                <a:gd name="textAreaRight" fmla="*/ 1051200 w 1947600"/>
                <a:gd name="textAreaTop" fmla="*/ 896040 h 1946880"/>
                <a:gd name="textAreaBottom" fmla="*/ 1050840 h 1946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9941" y="9941"/>
                  </a:lnTo>
                  <a:lnTo>
                    <a:pt x="10800" y="0"/>
                  </a:lnTo>
                  <a:lnTo>
                    <a:pt x="11659" y="9941"/>
                  </a:lnTo>
                  <a:lnTo>
                    <a:pt x="21600" y="10800"/>
                  </a:lnTo>
                  <a:lnTo>
                    <a:pt x="11659" y="11659"/>
                  </a:lnTo>
                  <a:lnTo>
                    <a:pt x="10800" y="21600"/>
                  </a:lnTo>
                  <a:lnTo>
                    <a:pt x="9941" y="11659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ebf1de"/>
            </a:solidFill>
            <a:ln w="25560">
              <a:solidFill>
                <a:srgbClr val="ebf1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Oval 9"/>
            <p:cNvSpPr/>
            <p:nvPr/>
          </p:nvSpPr>
          <p:spPr>
            <a:xfrm rot="19140000">
              <a:off x="2622240" y="5343480"/>
              <a:ext cx="322920" cy="323640"/>
            </a:xfrm>
            <a:prstGeom prst="ellipse">
              <a:avLst/>
            </a:prstGeom>
            <a:gradFill rotWithShape="0">
              <a:gsLst>
                <a:gs pos="0">
                  <a:srgbClr val="156b13"/>
                </a:gs>
                <a:gs pos="100000">
                  <a:srgbClr val="63252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09" name="Group 10"/>
          <p:cNvGrpSpPr/>
          <p:nvPr/>
        </p:nvGrpSpPr>
        <p:grpSpPr>
          <a:xfrm>
            <a:off x="1172880" y="4057560"/>
            <a:ext cx="2329200" cy="2527200"/>
            <a:chOff x="1172880" y="4057560"/>
            <a:chExt cx="2329200" cy="2527200"/>
          </a:xfrm>
        </p:grpSpPr>
        <p:sp>
          <p:nvSpPr>
            <p:cNvPr id="410" name="AutoShape 11"/>
            <p:cNvSpPr/>
            <p:nvPr/>
          </p:nvSpPr>
          <p:spPr>
            <a:xfrm rot="17520000">
              <a:off x="1315080" y="4478040"/>
              <a:ext cx="2044080" cy="1686240"/>
            </a:xfrm>
            <a:custGeom>
              <a:avLst/>
              <a:gdLst>
                <a:gd name="textAreaLeft" fmla="*/ 42480 w 2044080"/>
                <a:gd name="textAreaRight" fmla="*/ 2044440 w 2044080"/>
                <a:gd name="textAreaTop" fmla="*/ 0 h 1686240"/>
                <a:gd name="textAreaBottom" fmla="*/ 844200 h 1686240"/>
              </a:gdLst>
              <a:ahLst/>
              <a:rect l="textAreaLeft" t="textAreaTop" r="textAreaRight" b="textAreaBottom"/>
              <a:pathLst>
                <a:path w="1755053" h="1113994">
                  <a:moveTo>
                    <a:pt x="36404" y="398230"/>
                  </a:moveTo>
                  <a:lnTo>
                    <a:pt x="36403" y="398229"/>
                  </a:lnTo>
                  <a:cubicBezTo>
                    <a:pt x="147086" y="161984"/>
                    <a:pt x="489222" y="-1"/>
                    <a:pt x="877527" y="0"/>
                  </a:cubicBezTo>
                  <a:cubicBezTo>
                    <a:pt x="1362171" y="0"/>
                    <a:pt x="1755054" y="249376"/>
                    <a:pt x="1755054" y="556997"/>
                  </a:cubicBezTo>
                  <a:cubicBezTo>
                    <a:pt x="1755054" y="556997"/>
                    <a:pt x="1755053" y="556998"/>
                    <a:pt x="1755053" y="556998"/>
                  </a:cubicBezTo>
                  <a:lnTo>
                    <a:pt x="1476555" y="556997"/>
                  </a:lnTo>
                  <a:cubicBezTo>
                    <a:pt x="1476555" y="403186"/>
                    <a:pt x="1208361" y="278498"/>
                    <a:pt x="877527" y="278498"/>
                  </a:cubicBezTo>
                  <a:cubicBezTo>
                    <a:pt x="633707" y="278497"/>
                    <a:pt x="414216" y="347203"/>
                    <a:pt x="322498" y="452233"/>
                  </a:cubicBezTo>
                  <a:close/>
                </a:path>
              </a:pathLst>
            </a:custGeom>
            <a:gradFill rotWithShape="0">
              <a:gsLst>
                <a:gs pos="0">
                  <a:srgbClr val="156b13"/>
                </a:gs>
                <a:gs pos="100000">
                  <a:srgbClr val="ddebcf"/>
                </a:gs>
              </a:gsLst>
              <a:lin ang="5400000"/>
            </a:gradFill>
            <a:ln w="255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Oval 12"/>
            <p:cNvSpPr/>
            <p:nvPr/>
          </p:nvSpPr>
          <p:spPr>
            <a:xfrm rot="12480000">
              <a:off x="1487520" y="5761800"/>
              <a:ext cx="406080" cy="312840"/>
            </a:xfrm>
            <a:prstGeom prst="ellipse">
              <a:avLst/>
            </a:prstGeom>
            <a:gradFill rotWithShape="0">
              <a:gsLst>
                <a:gs pos="0">
                  <a:srgbClr val="156b13"/>
                </a:gs>
                <a:gs pos="100000">
                  <a:srgbClr val="63252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Oval 13"/>
            <p:cNvSpPr/>
            <p:nvPr/>
          </p:nvSpPr>
          <p:spPr>
            <a:xfrm rot="12480000">
              <a:off x="2316600" y="4404240"/>
              <a:ext cx="406800" cy="312480"/>
            </a:xfrm>
            <a:prstGeom prst="ellipse">
              <a:avLst/>
            </a:prstGeom>
            <a:gradFill rotWithShape="0">
              <a:gsLst>
                <a:gs pos="0">
                  <a:srgbClr val="156b13"/>
                </a:gs>
                <a:gs pos="100000">
                  <a:srgbClr val="63252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13" name="Group 14"/>
          <p:cNvGrpSpPr/>
          <p:nvPr/>
        </p:nvGrpSpPr>
        <p:grpSpPr>
          <a:xfrm>
            <a:off x="844920" y="2439000"/>
            <a:ext cx="3138120" cy="3139200"/>
            <a:chOff x="844920" y="2439000"/>
            <a:chExt cx="3138120" cy="3139200"/>
          </a:xfrm>
        </p:grpSpPr>
        <p:sp>
          <p:nvSpPr>
            <p:cNvPr id="414" name="AutoShape 15"/>
            <p:cNvSpPr/>
            <p:nvPr/>
          </p:nvSpPr>
          <p:spPr>
            <a:xfrm rot="2640000">
              <a:off x="1315080" y="2887560"/>
              <a:ext cx="2197440" cy="2242080"/>
            </a:xfrm>
            <a:custGeom>
              <a:avLst/>
              <a:gdLst>
                <a:gd name="textAreaLeft" fmla="*/ 0 w 2197440"/>
                <a:gd name="textAreaRight" fmla="*/ 2197800 w 2197440"/>
                <a:gd name="textAreaTop" fmla="*/ 0 h 2242080"/>
                <a:gd name="textAreaBottom" fmla="*/ 2242440 h 2242080"/>
              </a:gdLst>
              <a:ahLst/>
              <a:rect l="textAreaLeft" t="textAreaTop" r="textAreaRight" b="textAreaBottom"/>
              <a:pathLst>
                <a:path w="1066800" h="2105891">
                  <a:moveTo>
                    <a:pt x="0" y="0"/>
                  </a:moveTo>
                  <a:lnTo>
                    <a:pt x="249382" y="0"/>
                  </a:lnTo>
                  <a:lnTo>
                    <a:pt x="1066800" y="2105891"/>
                  </a:lnTo>
                  <a:lnTo>
                    <a:pt x="831273" y="2105891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3"/>
              <a:srcRect/>
              <a:stretch/>
            </a:blipFill>
            <a:ln w="25560">
              <a:solidFill>
                <a:srgbClr val="77933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Oval 16"/>
            <p:cNvSpPr/>
            <p:nvPr/>
          </p:nvSpPr>
          <p:spPr>
            <a:xfrm rot="2640000">
              <a:off x="1282680" y="4814280"/>
              <a:ext cx="732600" cy="379440"/>
            </a:xfrm>
            <a:prstGeom prst="ellipse">
              <a:avLst/>
            </a:prstGeom>
            <a:gradFill rotWithShape="0">
              <a:gsLst>
                <a:gs pos="0">
                  <a:srgbClr val="156b13"/>
                </a:gs>
                <a:gs pos="100000">
                  <a:srgbClr val="d7e4b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16" name="Rectangle 17"/>
          <p:cNvSpPr/>
          <p:nvPr/>
        </p:nvSpPr>
        <p:spPr>
          <a:xfrm>
            <a:off x="1571760" y="1357200"/>
            <a:ext cx="2500200" cy="785880"/>
          </a:xfrm>
          <a:prstGeom prst="rect">
            <a:avLst/>
          </a:prstGeom>
          <a:gradFill rotWithShape="0">
            <a:gsLst>
              <a:gs pos="0">
                <a:srgbClr val="8c3d91"/>
              </a:gs>
              <a:gs pos="100000">
                <a:srgbClr val="660066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7" name="Group 18"/>
          <p:cNvGrpSpPr/>
          <p:nvPr/>
        </p:nvGrpSpPr>
        <p:grpSpPr>
          <a:xfrm>
            <a:off x="928800" y="428760"/>
            <a:ext cx="3713040" cy="923760"/>
            <a:chOff x="928800" y="428760"/>
            <a:chExt cx="3713040" cy="923760"/>
          </a:xfrm>
        </p:grpSpPr>
        <p:sp>
          <p:nvSpPr>
            <p:cNvPr id="418" name="AutoShape 19"/>
            <p:cNvSpPr/>
            <p:nvPr/>
          </p:nvSpPr>
          <p:spPr>
            <a:xfrm>
              <a:off x="1006560" y="612720"/>
              <a:ext cx="1031760" cy="568440"/>
            </a:xfrm>
            <a:custGeom>
              <a:avLst/>
              <a:gdLst>
                <a:gd name="textAreaLeft" fmla="*/ 0 w 1031760"/>
                <a:gd name="textAreaRight" fmla="*/ 1032120 w 1031760"/>
                <a:gd name="textAreaTop" fmla="*/ 0 h 568440"/>
                <a:gd name="textAreaBottom" fmla="*/ 568800 h 568440"/>
              </a:gdLst>
              <a:ahLst/>
              <a:rect l="textAreaLeft" t="textAreaTop" r="textAreaRight" b="textAreaBottom"/>
              <a:pathLst>
                <a:path w="1482437" h="817418">
                  <a:moveTo>
                    <a:pt x="0" y="0"/>
                  </a:moveTo>
                  <a:lnTo>
                    <a:pt x="512618" y="0"/>
                  </a:lnTo>
                  <a:lnTo>
                    <a:pt x="1052946" y="263237"/>
                  </a:lnTo>
                  <a:lnTo>
                    <a:pt x="1482437" y="817418"/>
                  </a:lnTo>
                  <a:lnTo>
                    <a:pt x="872837" y="789709"/>
                  </a:lnTo>
                  <a:lnTo>
                    <a:pt x="595746" y="526473"/>
                  </a:lnTo>
                  <a:lnTo>
                    <a:pt x="13855" y="48490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Rectangle 20"/>
            <p:cNvSpPr/>
            <p:nvPr/>
          </p:nvSpPr>
          <p:spPr>
            <a:xfrm>
              <a:off x="928800" y="428760"/>
              <a:ext cx="147600" cy="247680"/>
            </a:xfrm>
            <a:prstGeom prst="rect">
              <a:avLst/>
            </a:prstGeom>
            <a:solidFill>
              <a:srgbClr val="fac090"/>
            </a:solidFill>
            <a:ln w="57240">
              <a:solidFill>
                <a:srgbClr val="fac0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Rectangle 21"/>
            <p:cNvSpPr/>
            <p:nvPr/>
          </p:nvSpPr>
          <p:spPr>
            <a:xfrm>
              <a:off x="928800" y="876240"/>
              <a:ext cx="196560" cy="247680"/>
            </a:xfrm>
            <a:prstGeom prst="rect">
              <a:avLst/>
            </a:prstGeom>
            <a:solidFill>
              <a:srgbClr val="fac090"/>
            </a:solidFill>
            <a:ln w="57240">
              <a:solidFill>
                <a:srgbClr val="fac0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AutoShape 22"/>
            <p:cNvSpPr/>
            <p:nvPr/>
          </p:nvSpPr>
          <p:spPr>
            <a:xfrm>
              <a:off x="977760" y="477720"/>
              <a:ext cx="1176480" cy="743040"/>
            </a:xfrm>
            <a:custGeom>
              <a:avLst/>
              <a:gdLst>
                <a:gd name="textAreaLeft" fmla="*/ 0 w 1176480"/>
                <a:gd name="textAreaRight" fmla="*/ 1176840 w 1176480"/>
                <a:gd name="textAreaTop" fmla="*/ 0 h 743040"/>
                <a:gd name="textAreaBottom" fmla="*/ 743400 h 743040"/>
              </a:gdLst>
              <a:ahLst/>
              <a:rect l="textAreaLeft" t="textAreaTop" r="textAreaRight" b="textAreaBottom"/>
              <a:pathLst>
                <a:path w="1690255" h="1066800">
                  <a:moveTo>
                    <a:pt x="27709" y="32015"/>
                  </a:moveTo>
                  <a:lnTo>
                    <a:pt x="13855" y="27709"/>
                  </a:lnTo>
                  <a:lnTo>
                    <a:pt x="471055" y="27709"/>
                  </a:lnTo>
                  <a:lnTo>
                    <a:pt x="803564" y="124691"/>
                  </a:lnTo>
                  <a:lnTo>
                    <a:pt x="1108364" y="290945"/>
                  </a:lnTo>
                  <a:lnTo>
                    <a:pt x="1246909" y="207818"/>
                  </a:lnTo>
                  <a:lnTo>
                    <a:pt x="1690255" y="152400"/>
                  </a:lnTo>
                  <a:lnTo>
                    <a:pt x="1690255" y="415636"/>
                  </a:lnTo>
                  <a:lnTo>
                    <a:pt x="1537855" y="374073"/>
                  </a:lnTo>
                  <a:lnTo>
                    <a:pt x="1343891" y="387927"/>
                  </a:lnTo>
                  <a:lnTo>
                    <a:pt x="1274619" y="484909"/>
                  </a:lnTo>
                  <a:lnTo>
                    <a:pt x="1274619" y="623454"/>
                  </a:lnTo>
                  <a:lnTo>
                    <a:pt x="1648691" y="942109"/>
                  </a:lnTo>
                  <a:lnTo>
                    <a:pt x="1648691" y="1066800"/>
                  </a:lnTo>
                  <a:lnTo>
                    <a:pt x="1468582" y="1039091"/>
                  </a:lnTo>
                  <a:lnTo>
                    <a:pt x="1025237" y="651163"/>
                  </a:lnTo>
                  <a:lnTo>
                    <a:pt x="997528" y="484909"/>
                  </a:lnTo>
                  <a:lnTo>
                    <a:pt x="748146" y="346363"/>
                  </a:lnTo>
                  <a:lnTo>
                    <a:pt x="457200" y="249382"/>
                  </a:lnTo>
                  <a:lnTo>
                    <a:pt x="13855" y="235527"/>
                  </a:lnTo>
                  <a:lnTo>
                    <a:pt x="0" y="0"/>
                  </a:lnTo>
                  <a:lnTo>
                    <a:pt x="27709" y="32015"/>
                  </a:lnTo>
                  <a:close/>
                </a:path>
              </a:pathLst>
            </a:custGeom>
            <a:solidFill>
              <a:srgbClr val="fac090"/>
            </a:solidFill>
            <a:ln w="25560">
              <a:solidFill>
                <a:srgbClr val="fac0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AutoShape 23"/>
            <p:cNvSpPr/>
            <p:nvPr/>
          </p:nvSpPr>
          <p:spPr>
            <a:xfrm>
              <a:off x="1084320" y="863640"/>
              <a:ext cx="606240" cy="307800"/>
            </a:xfrm>
            <a:custGeom>
              <a:avLst/>
              <a:gdLst>
                <a:gd name="textAreaLeft" fmla="*/ 0 w 606240"/>
                <a:gd name="textAreaRight" fmla="*/ 606600 w 606240"/>
                <a:gd name="textAreaTop" fmla="*/ 0 h 307800"/>
                <a:gd name="textAreaBottom" fmla="*/ 308160 h 307800"/>
              </a:gdLst>
              <a:ahLst/>
              <a:rect l="textAreaLeft" t="textAreaTop" r="textAreaRight" b="textAreaBottom"/>
              <a:pathLst>
                <a:path w="872836" h="443346">
                  <a:moveTo>
                    <a:pt x="0" y="0"/>
                  </a:moveTo>
                  <a:lnTo>
                    <a:pt x="263236" y="0"/>
                  </a:lnTo>
                  <a:lnTo>
                    <a:pt x="512618" y="69273"/>
                  </a:lnTo>
                  <a:lnTo>
                    <a:pt x="803563" y="263237"/>
                  </a:lnTo>
                  <a:lnTo>
                    <a:pt x="872836" y="443346"/>
                  </a:lnTo>
                  <a:lnTo>
                    <a:pt x="651163" y="443346"/>
                  </a:lnTo>
                  <a:lnTo>
                    <a:pt x="568036" y="304800"/>
                  </a:lnTo>
                  <a:lnTo>
                    <a:pt x="332509" y="193964"/>
                  </a:lnTo>
                  <a:lnTo>
                    <a:pt x="13854" y="16625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c090"/>
            </a:solidFill>
            <a:ln w="25560">
              <a:solidFill>
                <a:srgbClr val="fac0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AutoShape 24"/>
            <p:cNvSpPr/>
            <p:nvPr/>
          </p:nvSpPr>
          <p:spPr>
            <a:xfrm flipH="1">
              <a:off x="3540240" y="612720"/>
              <a:ext cx="1030320" cy="568440"/>
            </a:xfrm>
            <a:custGeom>
              <a:avLst/>
              <a:gdLst>
                <a:gd name="textAreaLeft" fmla="*/ 360 w 1030320"/>
                <a:gd name="textAreaRight" fmla="*/ 1031040 w 1030320"/>
                <a:gd name="textAreaTop" fmla="*/ 0 h 568440"/>
                <a:gd name="textAreaBottom" fmla="*/ 568800 h 568440"/>
              </a:gdLst>
              <a:ahLst/>
              <a:rect l="textAreaLeft" t="textAreaTop" r="textAreaRight" b="textAreaBottom"/>
              <a:pathLst>
                <a:path w="1482437" h="817418">
                  <a:moveTo>
                    <a:pt x="0" y="0"/>
                  </a:moveTo>
                  <a:lnTo>
                    <a:pt x="512618" y="0"/>
                  </a:lnTo>
                  <a:lnTo>
                    <a:pt x="1052946" y="263237"/>
                  </a:lnTo>
                  <a:lnTo>
                    <a:pt x="1482437" y="817418"/>
                  </a:lnTo>
                  <a:lnTo>
                    <a:pt x="872837" y="789709"/>
                  </a:lnTo>
                  <a:lnTo>
                    <a:pt x="595746" y="526473"/>
                  </a:lnTo>
                  <a:lnTo>
                    <a:pt x="13855" y="48490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Rectangle 25"/>
            <p:cNvSpPr/>
            <p:nvPr/>
          </p:nvSpPr>
          <p:spPr>
            <a:xfrm flipH="1">
              <a:off x="4494240" y="428760"/>
              <a:ext cx="147600" cy="247680"/>
            </a:xfrm>
            <a:prstGeom prst="rect">
              <a:avLst/>
            </a:prstGeom>
            <a:solidFill>
              <a:srgbClr val="fac090"/>
            </a:solidFill>
            <a:ln w="57240">
              <a:solidFill>
                <a:srgbClr val="fac0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Rectangle 26"/>
            <p:cNvSpPr/>
            <p:nvPr/>
          </p:nvSpPr>
          <p:spPr>
            <a:xfrm flipH="1">
              <a:off x="4442760" y="876240"/>
              <a:ext cx="196920" cy="247680"/>
            </a:xfrm>
            <a:prstGeom prst="rect">
              <a:avLst/>
            </a:prstGeom>
            <a:solidFill>
              <a:srgbClr val="fac090"/>
            </a:solidFill>
            <a:ln w="57240">
              <a:solidFill>
                <a:srgbClr val="fac0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AutoShape 27"/>
            <p:cNvSpPr/>
            <p:nvPr/>
          </p:nvSpPr>
          <p:spPr>
            <a:xfrm flipH="1">
              <a:off x="3415680" y="477720"/>
              <a:ext cx="1176120" cy="743040"/>
            </a:xfrm>
            <a:custGeom>
              <a:avLst/>
              <a:gdLst>
                <a:gd name="textAreaLeft" fmla="*/ -360 w 1176120"/>
                <a:gd name="textAreaRight" fmla="*/ 1176120 w 1176120"/>
                <a:gd name="textAreaTop" fmla="*/ 0 h 743040"/>
                <a:gd name="textAreaBottom" fmla="*/ 743400 h 743040"/>
              </a:gdLst>
              <a:ahLst/>
              <a:rect l="textAreaLeft" t="textAreaTop" r="textAreaRight" b="textAreaBottom"/>
              <a:pathLst>
                <a:path w="1690255" h="1066800">
                  <a:moveTo>
                    <a:pt x="27709" y="32015"/>
                  </a:moveTo>
                  <a:lnTo>
                    <a:pt x="13855" y="27709"/>
                  </a:lnTo>
                  <a:lnTo>
                    <a:pt x="471055" y="27709"/>
                  </a:lnTo>
                  <a:lnTo>
                    <a:pt x="803564" y="124691"/>
                  </a:lnTo>
                  <a:lnTo>
                    <a:pt x="1108364" y="290945"/>
                  </a:lnTo>
                  <a:lnTo>
                    <a:pt x="1246909" y="207818"/>
                  </a:lnTo>
                  <a:lnTo>
                    <a:pt x="1690255" y="152400"/>
                  </a:lnTo>
                  <a:lnTo>
                    <a:pt x="1690255" y="415636"/>
                  </a:lnTo>
                  <a:lnTo>
                    <a:pt x="1537855" y="374073"/>
                  </a:lnTo>
                  <a:lnTo>
                    <a:pt x="1343891" y="387927"/>
                  </a:lnTo>
                  <a:lnTo>
                    <a:pt x="1274619" y="484909"/>
                  </a:lnTo>
                  <a:lnTo>
                    <a:pt x="1274619" y="623454"/>
                  </a:lnTo>
                  <a:lnTo>
                    <a:pt x="1648691" y="942109"/>
                  </a:lnTo>
                  <a:lnTo>
                    <a:pt x="1648691" y="1066800"/>
                  </a:lnTo>
                  <a:lnTo>
                    <a:pt x="1468582" y="1039091"/>
                  </a:lnTo>
                  <a:lnTo>
                    <a:pt x="1025237" y="651163"/>
                  </a:lnTo>
                  <a:lnTo>
                    <a:pt x="997528" y="484909"/>
                  </a:lnTo>
                  <a:lnTo>
                    <a:pt x="748146" y="346363"/>
                  </a:lnTo>
                  <a:lnTo>
                    <a:pt x="457200" y="249382"/>
                  </a:lnTo>
                  <a:lnTo>
                    <a:pt x="13855" y="235527"/>
                  </a:lnTo>
                  <a:lnTo>
                    <a:pt x="0" y="0"/>
                  </a:lnTo>
                  <a:lnTo>
                    <a:pt x="27709" y="32015"/>
                  </a:lnTo>
                  <a:close/>
                </a:path>
              </a:pathLst>
            </a:custGeom>
            <a:solidFill>
              <a:srgbClr val="fac090"/>
            </a:solidFill>
            <a:ln w="25560">
              <a:solidFill>
                <a:srgbClr val="fac0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AutoShape 28"/>
            <p:cNvSpPr/>
            <p:nvPr/>
          </p:nvSpPr>
          <p:spPr>
            <a:xfrm flipH="1">
              <a:off x="3879000" y="863640"/>
              <a:ext cx="606600" cy="307800"/>
            </a:xfrm>
            <a:custGeom>
              <a:avLst/>
              <a:gdLst>
                <a:gd name="textAreaLeft" fmla="*/ -360 w 606600"/>
                <a:gd name="textAreaRight" fmla="*/ 606600 w 606600"/>
                <a:gd name="textAreaTop" fmla="*/ 0 h 307800"/>
                <a:gd name="textAreaBottom" fmla="*/ 308160 h 307800"/>
              </a:gdLst>
              <a:ahLst/>
              <a:rect l="textAreaLeft" t="textAreaTop" r="textAreaRight" b="textAreaBottom"/>
              <a:pathLst>
                <a:path w="872836" h="443346">
                  <a:moveTo>
                    <a:pt x="0" y="0"/>
                  </a:moveTo>
                  <a:lnTo>
                    <a:pt x="263236" y="0"/>
                  </a:lnTo>
                  <a:lnTo>
                    <a:pt x="512618" y="69273"/>
                  </a:lnTo>
                  <a:lnTo>
                    <a:pt x="803563" y="263237"/>
                  </a:lnTo>
                  <a:lnTo>
                    <a:pt x="872836" y="443346"/>
                  </a:lnTo>
                  <a:lnTo>
                    <a:pt x="651163" y="443346"/>
                  </a:lnTo>
                  <a:lnTo>
                    <a:pt x="568036" y="304800"/>
                  </a:lnTo>
                  <a:lnTo>
                    <a:pt x="332509" y="193964"/>
                  </a:lnTo>
                  <a:lnTo>
                    <a:pt x="13854" y="16625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c090"/>
            </a:solidFill>
            <a:ln w="25560">
              <a:solidFill>
                <a:srgbClr val="fac0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AutoShape 29"/>
            <p:cNvSpPr/>
            <p:nvPr/>
          </p:nvSpPr>
          <p:spPr>
            <a:xfrm>
              <a:off x="2023920" y="1143000"/>
              <a:ext cx="1617840" cy="209520"/>
            </a:xfrm>
            <a:prstGeom prst="roundRect">
              <a:avLst>
                <a:gd name="adj" fmla="val 16667"/>
              </a:avLst>
            </a:prstGeom>
            <a:solidFill>
              <a:srgbClr val="fac090"/>
            </a:solidFill>
            <a:ln w="25560">
              <a:solidFill>
                <a:srgbClr val="fac0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29" name="Group 30"/>
          <p:cNvGrpSpPr/>
          <p:nvPr/>
        </p:nvGrpSpPr>
        <p:grpSpPr>
          <a:xfrm>
            <a:off x="2500200" y="642960"/>
            <a:ext cx="641520" cy="712800"/>
            <a:chOff x="2500200" y="642960"/>
            <a:chExt cx="641520" cy="712800"/>
          </a:xfrm>
        </p:grpSpPr>
        <p:sp>
          <p:nvSpPr>
            <p:cNvPr id="430" name="AutoShape 31"/>
            <p:cNvSpPr/>
            <p:nvPr/>
          </p:nvSpPr>
          <p:spPr>
            <a:xfrm>
              <a:off x="2571840" y="642960"/>
              <a:ext cx="498240" cy="712800"/>
            </a:xfrm>
            <a:prstGeom prst="flowChartExtract">
              <a:avLst/>
            </a:prstGeom>
            <a:gradFill rotWithShape="0">
              <a:gsLst>
                <a:gs pos="0">
                  <a:srgbClr val="e6e6e6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AutoShape 32"/>
            <p:cNvSpPr/>
            <p:nvPr/>
          </p:nvSpPr>
          <p:spPr>
            <a:xfrm>
              <a:off x="2500200" y="1143000"/>
              <a:ext cx="641520" cy="1411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AutoShape 33"/>
            <p:cNvSpPr/>
            <p:nvPr/>
          </p:nvSpPr>
          <p:spPr>
            <a:xfrm>
              <a:off x="2652840" y="785880"/>
              <a:ext cx="345960" cy="1411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33" name="Group 34"/>
          <p:cNvGrpSpPr/>
          <p:nvPr/>
        </p:nvGrpSpPr>
        <p:grpSpPr>
          <a:xfrm>
            <a:off x="1542960" y="2109960"/>
            <a:ext cx="2478240" cy="1198440"/>
            <a:chOff x="1542960" y="2109960"/>
            <a:chExt cx="2478240" cy="1198440"/>
          </a:xfrm>
        </p:grpSpPr>
        <p:pic>
          <p:nvPicPr>
            <p:cNvPr id="434" name="Picture 35" descr=""/>
            <p:cNvPicPr/>
            <p:nvPr/>
          </p:nvPicPr>
          <p:blipFill>
            <a:blip r:embed="rId4"/>
            <a:stretch/>
          </p:blipFill>
          <p:spPr>
            <a:xfrm>
              <a:off x="1542960" y="2109960"/>
              <a:ext cx="2478240" cy="11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5" name="Text Box 36"/>
            <p:cNvSpPr/>
            <p:nvPr/>
          </p:nvSpPr>
          <p:spPr>
            <a:xfrm>
              <a:off x="1571760" y="2143080"/>
              <a:ext cx="2427120" cy="114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36" name="Group 37"/>
          <p:cNvGrpSpPr/>
          <p:nvPr/>
        </p:nvGrpSpPr>
        <p:grpSpPr>
          <a:xfrm>
            <a:off x="1285920" y="1143000"/>
            <a:ext cx="283680" cy="2786040"/>
            <a:chOff x="1285920" y="1143000"/>
            <a:chExt cx="283680" cy="2786040"/>
          </a:xfrm>
        </p:grpSpPr>
        <p:grpSp>
          <p:nvGrpSpPr>
            <p:cNvPr id="437" name="Group 38"/>
            <p:cNvGrpSpPr/>
            <p:nvPr/>
          </p:nvGrpSpPr>
          <p:grpSpPr>
            <a:xfrm>
              <a:off x="1285920" y="1143000"/>
              <a:ext cx="282240" cy="2498760"/>
              <a:chOff x="1285920" y="1143000"/>
              <a:chExt cx="282240" cy="2498760"/>
            </a:xfrm>
          </p:grpSpPr>
          <p:sp>
            <p:nvSpPr>
              <p:cNvPr id="438" name="AutoShape 39"/>
              <p:cNvSpPr/>
              <p:nvPr/>
            </p:nvSpPr>
            <p:spPr>
              <a:xfrm>
                <a:off x="1285920" y="1143000"/>
                <a:ext cx="282240" cy="2498760"/>
              </a:xfrm>
              <a:custGeom>
                <a:avLst/>
                <a:gdLst>
                  <a:gd name="textAreaLeft" fmla="*/ 13680 w 282240"/>
                  <a:gd name="textAreaRight" fmla="*/ 268560 w 282240"/>
                  <a:gd name="textAreaTop" fmla="*/ 13680 h 2498760"/>
                  <a:gd name="textAreaBottom" fmla="*/ 2485080 h 2498760"/>
                </a:gdLst>
                <a:ahLst/>
                <a:rect l="textAreaLeft" t="textAreaTop" r="textAreaRight" b="textAreaBottom"/>
                <a:pathLst>
                  <a:path w="21600" h="191016">
                    <a:moveTo>
                      <a:pt x="3600" y="0"/>
                    </a:moveTo>
                    <a:arcTo wR="3600" hR="3600" stAng="16200000" swAng="-5400000"/>
                    <a:lnTo>
                      <a:pt x="0" y="187416"/>
                    </a:lnTo>
                    <a:arcTo wR="3600" hR="3600" stAng="10800000" swAng="-5400000"/>
                    <a:lnTo>
                      <a:pt x="18000" y="191016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ac090"/>
              </a:solidFill>
              <a:ln w="25560">
                <a:solidFill>
                  <a:srgbClr val="fac09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9" name="AutoShape 40"/>
              <p:cNvSpPr/>
              <p:nvPr/>
            </p:nvSpPr>
            <p:spPr>
              <a:xfrm>
                <a:off x="1355040" y="1276200"/>
                <a:ext cx="137160" cy="2293920"/>
              </a:xfrm>
              <a:custGeom>
                <a:avLst/>
                <a:gdLst>
                  <a:gd name="textAreaLeft" fmla="*/ 6480 w 137160"/>
                  <a:gd name="textAreaRight" fmla="*/ 130680 w 137160"/>
                  <a:gd name="textAreaTop" fmla="*/ 6480 h 2293920"/>
                  <a:gd name="textAreaBottom" fmla="*/ 2287440 h 2293920"/>
                </a:gdLst>
                <a:ahLst/>
                <a:rect l="textAreaLeft" t="textAreaTop" r="textAreaRight" b="textAreaBottom"/>
                <a:pathLst>
                  <a:path w="21600" h="360358">
                    <a:moveTo>
                      <a:pt x="3600" y="0"/>
                    </a:moveTo>
                    <a:arcTo wR="3600" hR="3600" stAng="16200000" swAng="-5400000"/>
                    <a:lnTo>
                      <a:pt x="0" y="356758"/>
                    </a:lnTo>
                    <a:arcTo wR="3600" hR="3600" stAng="10800000" swAng="-5400000"/>
                    <a:lnTo>
                      <a:pt x="18000" y="36035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40" name="Line 41"/>
            <p:cNvSpPr/>
            <p:nvPr/>
          </p:nvSpPr>
          <p:spPr>
            <a:xfrm flipH="1">
              <a:off x="1566720" y="1144440"/>
              <a:ext cx="2880" cy="2784600"/>
            </a:xfrm>
            <a:prstGeom prst="line">
              <a:avLst/>
            </a:prstGeom>
            <a:ln w="101520">
              <a:solidFill>
                <a:srgbClr val="fac0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41" name="Group 42"/>
          <p:cNvGrpSpPr/>
          <p:nvPr/>
        </p:nvGrpSpPr>
        <p:grpSpPr>
          <a:xfrm>
            <a:off x="4000680" y="1143000"/>
            <a:ext cx="285120" cy="2784600"/>
            <a:chOff x="4000680" y="1143000"/>
            <a:chExt cx="285120" cy="2784600"/>
          </a:xfrm>
        </p:grpSpPr>
        <p:grpSp>
          <p:nvGrpSpPr>
            <p:cNvPr id="442" name="Group 43"/>
            <p:cNvGrpSpPr/>
            <p:nvPr/>
          </p:nvGrpSpPr>
          <p:grpSpPr>
            <a:xfrm>
              <a:off x="4003560" y="1143000"/>
              <a:ext cx="282240" cy="2498760"/>
              <a:chOff x="4003560" y="1143000"/>
              <a:chExt cx="282240" cy="2498760"/>
            </a:xfrm>
          </p:grpSpPr>
          <p:sp>
            <p:nvSpPr>
              <p:cNvPr id="443" name="AutoShape 44"/>
              <p:cNvSpPr/>
              <p:nvPr/>
            </p:nvSpPr>
            <p:spPr>
              <a:xfrm>
                <a:off x="4003560" y="1143000"/>
                <a:ext cx="282240" cy="2498760"/>
              </a:xfrm>
              <a:custGeom>
                <a:avLst/>
                <a:gdLst>
                  <a:gd name="textAreaLeft" fmla="*/ 13680 w 282240"/>
                  <a:gd name="textAreaRight" fmla="*/ 268560 w 282240"/>
                  <a:gd name="textAreaTop" fmla="*/ 13680 h 2498760"/>
                  <a:gd name="textAreaBottom" fmla="*/ 2485080 h 2498760"/>
                </a:gdLst>
                <a:ahLst/>
                <a:rect l="textAreaLeft" t="textAreaTop" r="textAreaRight" b="textAreaBottom"/>
                <a:pathLst>
                  <a:path w="21600" h="191016">
                    <a:moveTo>
                      <a:pt x="3600" y="0"/>
                    </a:moveTo>
                    <a:arcTo wR="3600" hR="3600" stAng="16200000" swAng="-5400000"/>
                    <a:lnTo>
                      <a:pt x="0" y="187416"/>
                    </a:lnTo>
                    <a:arcTo wR="3600" hR="3600" stAng="10800000" swAng="-5400000"/>
                    <a:lnTo>
                      <a:pt x="18000" y="191016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ac090"/>
              </a:solidFill>
              <a:ln w="25560">
                <a:solidFill>
                  <a:srgbClr val="fac09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4" name="AutoShape 45"/>
              <p:cNvSpPr/>
              <p:nvPr/>
            </p:nvSpPr>
            <p:spPr>
              <a:xfrm>
                <a:off x="4074120" y="1276200"/>
                <a:ext cx="140400" cy="2293920"/>
              </a:xfrm>
              <a:custGeom>
                <a:avLst/>
                <a:gdLst>
                  <a:gd name="textAreaLeft" fmla="*/ 6840 w 140400"/>
                  <a:gd name="textAreaRight" fmla="*/ 133560 w 140400"/>
                  <a:gd name="textAreaTop" fmla="*/ 6840 h 2293920"/>
                  <a:gd name="textAreaBottom" fmla="*/ 2287080 h 2293920"/>
                </a:gdLst>
                <a:ahLst/>
                <a:rect l="textAreaLeft" t="textAreaTop" r="textAreaRight" b="textAreaBottom"/>
                <a:pathLst>
                  <a:path w="21600" h="352063">
                    <a:moveTo>
                      <a:pt x="3600" y="0"/>
                    </a:moveTo>
                    <a:arcTo wR="3600" hR="3600" stAng="16200000" swAng="-5400000"/>
                    <a:lnTo>
                      <a:pt x="0" y="348463"/>
                    </a:lnTo>
                    <a:arcTo wR="3600" hR="3600" stAng="10800000" swAng="-5400000"/>
                    <a:lnTo>
                      <a:pt x="18000" y="352063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45" name="Line 46"/>
            <p:cNvSpPr/>
            <p:nvPr/>
          </p:nvSpPr>
          <p:spPr>
            <a:xfrm flipH="1">
              <a:off x="4000680" y="1143000"/>
              <a:ext cx="2880" cy="2784600"/>
            </a:xfrm>
            <a:prstGeom prst="line">
              <a:avLst/>
            </a:prstGeom>
            <a:ln w="101520">
              <a:solidFill>
                <a:srgbClr val="fac0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46" name="Group 47"/>
          <p:cNvGrpSpPr/>
          <p:nvPr/>
        </p:nvGrpSpPr>
        <p:grpSpPr>
          <a:xfrm>
            <a:off x="3473280" y="214200"/>
            <a:ext cx="525600" cy="1212840"/>
            <a:chOff x="3473280" y="214200"/>
            <a:chExt cx="525600" cy="1212840"/>
          </a:xfrm>
        </p:grpSpPr>
        <p:pic>
          <p:nvPicPr>
            <p:cNvPr id="447" name="Picture 48" descr=""/>
            <p:cNvPicPr/>
            <p:nvPr/>
          </p:nvPicPr>
          <p:blipFill>
            <a:blip r:embed="rId5"/>
            <a:stretch/>
          </p:blipFill>
          <p:spPr>
            <a:xfrm>
              <a:off x="3681360" y="281160"/>
              <a:ext cx="128520" cy="10555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48" name="Group 49"/>
            <p:cNvGrpSpPr/>
            <p:nvPr/>
          </p:nvGrpSpPr>
          <p:grpSpPr>
            <a:xfrm>
              <a:off x="3473280" y="214200"/>
              <a:ext cx="509760" cy="412920"/>
              <a:chOff x="3473280" y="214200"/>
              <a:chExt cx="509760" cy="412920"/>
            </a:xfrm>
          </p:grpSpPr>
          <p:grpSp>
            <p:nvGrpSpPr>
              <p:cNvPr id="449" name="Group 50"/>
              <p:cNvGrpSpPr/>
              <p:nvPr/>
            </p:nvGrpSpPr>
            <p:grpSpPr>
              <a:xfrm>
                <a:off x="3530520" y="318960"/>
                <a:ext cx="414360" cy="155880"/>
                <a:chOff x="3530520" y="318960"/>
                <a:chExt cx="414360" cy="155880"/>
              </a:xfrm>
            </p:grpSpPr>
            <p:pic>
              <p:nvPicPr>
                <p:cNvPr id="450" name="Picture 51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3530520" y="318960"/>
                  <a:ext cx="414360" cy="155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51" name="Text Box 52"/>
                <p:cNvSpPr/>
                <p:nvPr/>
              </p:nvSpPr>
              <p:spPr>
                <a:xfrm>
                  <a:off x="3584520" y="351000"/>
                  <a:ext cx="311040" cy="5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2" name="Group 53"/>
              <p:cNvGrpSpPr/>
              <p:nvPr/>
            </p:nvGrpSpPr>
            <p:grpSpPr>
              <a:xfrm>
                <a:off x="3530520" y="392040"/>
                <a:ext cx="414360" cy="160560"/>
                <a:chOff x="3530520" y="392040"/>
                <a:chExt cx="414360" cy="160560"/>
              </a:xfrm>
            </p:grpSpPr>
            <p:pic>
              <p:nvPicPr>
                <p:cNvPr id="453" name="Picture 54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3530520" y="392040"/>
                  <a:ext cx="414360" cy="160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54" name="Text Box 55"/>
                <p:cNvSpPr/>
                <p:nvPr/>
              </p:nvSpPr>
              <p:spPr>
                <a:xfrm>
                  <a:off x="3584520" y="426960"/>
                  <a:ext cx="311040" cy="54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5" name="Group 56"/>
              <p:cNvGrpSpPr/>
              <p:nvPr/>
            </p:nvGrpSpPr>
            <p:grpSpPr>
              <a:xfrm>
                <a:off x="3473280" y="214200"/>
                <a:ext cx="509760" cy="203400"/>
                <a:chOff x="3473280" y="214200"/>
                <a:chExt cx="509760" cy="203400"/>
              </a:xfrm>
            </p:grpSpPr>
            <p:pic>
              <p:nvPicPr>
                <p:cNvPr id="456" name="Picture 57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3473280" y="214200"/>
                  <a:ext cx="509760" cy="203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57" name="Text Box 58"/>
                <p:cNvSpPr/>
                <p:nvPr/>
              </p:nvSpPr>
              <p:spPr>
                <a:xfrm>
                  <a:off x="3530520" y="250920"/>
                  <a:ext cx="399960" cy="9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8" name="Group 59"/>
              <p:cNvGrpSpPr/>
              <p:nvPr/>
            </p:nvGrpSpPr>
            <p:grpSpPr>
              <a:xfrm>
                <a:off x="3530520" y="366840"/>
                <a:ext cx="414360" cy="160200"/>
                <a:chOff x="3530520" y="366840"/>
                <a:chExt cx="414360" cy="160200"/>
              </a:xfrm>
            </p:grpSpPr>
            <p:pic>
              <p:nvPicPr>
                <p:cNvPr id="459" name="Picture 60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3530520" y="366840"/>
                  <a:ext cx="414360" cy="160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60" name="Text Box 61"/>
                <p:cNvSpPr/>
                <p:nvPr/>
              </p:nvSpPr>
              <p:spPr>
                <a:xfrm>
                  <a:off x="3584520" y="401760"/>
                  <a:ext cx="311040" cy="54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61" name="Group 62"/>
              <p:cNvGrpSpPr/>
              <p:nvPr/>
            </p:nvGrpSpPr>
            <p:grpSpPr>
              <a:xfrm>
                <a:off x="3530520" y="419040"/>
                <a:ext cx="414360" cy="155520"/>
                <a:chOff x="3530520" y="419040"/>
                <a:chExt cx="414360" cy="155520"/>
              </a:xfrm>
            </p:grpSpPr>
            <p:pic>
              <p:nvPicPr>
                <p:cNvPr id="462" name="Picture 63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3530520" y="419040"/>
                  <a:ext cx="414360" cy="155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63" name="Text Box 64"/>
                <p:cNvSpPr/>
                <p:nvPr/>
              </p:nvSpPr>
              <p:spPr>
                <a:xfrm>
                  <a:off x="3584520" y="452520"/>
                  <a:ext cx="311040" cy="54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64" name="Group 65"/>
              <p:cNvGrpSpPr/>
              <p:nvPr/>
            </p:nvGrpSpPr>
            <p:grpSpPr>
              <a:xfrm>
                <a:off x="3530520" y="471600"/>
                <a:ext cx="414360" cy="155520"/>
                <a:chOff x="3530520" y="471600"/>
                <a:chExt cx="414360" cy="155520"/>
              </a:xfrm>
            </p:grpSpPr>
            <p:pic>
              <p:nvPicPr>
                <p:cNvPr id="465" name="Picture 66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3530520" y="471600"/>
                  <a:ext cx="414360" cy="155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66" name="Text Box 67"/>
                <p:cNvSpPr/>
                <p:nvPr/>
              </p:nvSpPr>
              <p:spPr>
                <a:xfrm>
                  <a:off x="3584520" y="503280"/>
                  <a:ext cx="311040" cy="54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67" name="Group 68"/>
            <p:cNvGrpSpPr/>
            <p:nvPr/>
          </p:nvGrpSpPr>
          <p:grpSpPr>
            <a:xfrm>
              <a:off x="3503520" y="1042920"/>
              <a:ext cx="495360" cy="384120"/>
              <a:chOff x="3503520" y="1042920"/>
              <a:chExt cx="495360" cy="384120"/>
            </a:xfrm>
          </p:grpSpPr>
          <p:pic>
            <p:nvPicPr>
              <p:cNvPr id="468" name="Picture 69" descr=""/>
              <p:cNvPicPr/>
              <p:nvPr/>
            </p:nvPicPr>
            <p:blipFill>
              <a:blip r:embed="rId12"/>
              <a:stretch/>
            </p:blipFill>
            <p:spPr>
              <a:xfrm>
                <a:off x="3503520" y="1042920"/>
                <a:ext cx="495360" cy="384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9" name="Text Box 70"/>
              <p:cNvSpPr/>
              <p:nvPr/>
            </p:nvSpPr>
            <p:spPr>
              <a:xfrm>
                <a:off x="3581280" y="1092240"/>
                <a:ext cx="346320" cy="237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470" name="Group 71"/>
          <p:cNvGrpSpPr/>
          <p:nvPr/>
        </p:nvGrpSpPr>
        <p:grpSpPr>
          <a:xfrm>
            <a:off x="1544760" y="214200"/>
            <a:ext cx="525240" cy="1212840"/>
            <a:chOff x="1544760" y="214200"/>
            <a:chExt cx="525240" cy="1212840"/>
          </a:xfrm>
        </p:grpSpPr>
        <p:pic>
          <p:nvPicPr>
            <p:cNvPr id="471" name="Picture 72" descr=""/>
            <p:cNvPicPr/>
            <p:nvPr/>
          </p:nvPicPr>
          <p:blipFill>
            <a:blip r:embed="rId13"/>
            <a:stretch/>
          </p:blipFill>
          <p:spPr>
            <a:xfrm>
              <a:off x="1755720" y="281160"/>
              <a:ext cx="128520" cy="10555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72" name="Group 73"/>
            <p:cNvGrpSpPr/>
            <p:nvPr/>
          </p:nvGrpSpPr>
          <p:grpSpPr>
            <a:xfrm>
              <a:off x="1544760" y="214200"/>
              <a:ext cx="512640" cy="412920"/>
              <a:chOff x="1544760" y="214200"/>
              <a:chExt cx="512640" cy="412920"/>
            </a:xfrm>
          </p:grpSpPr>
          <p:grpSp>
            <p:nvGrpSpPr>
              <p:cNvPr id="473" name="Group 74"/>
              <p:cNvGrpSpPr/>
              <p:nvPr/>
            </p:nvGrpSpPr>
            <p:grpSpPr>
              <a:xfrm>
                <a:off x="1601640" y="318960"/>
                <a:ext cx="417600" cy="155880"/>
                <a:chOff x="1601640" y="318960"/>
                <a:chExt cx="417600" cy="155880"/>
              </a:xfrm>
            </p:grpSpPr>
            <p:pic>
              <p:nvPicPr>
                <p:cNvPr id="474" name="Picture 75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1601640" y="318960"/>
                  <a:ext cx="417600" cy="155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75" name="Text Box 76"/>
                <p:cNvSpPr/>
                <p:nvPr/>
              </p:nvSpPr>
              <p:spPr>
                <a:xfrm>
                  <a:off x="1657440" y="351000"/>
                  <a:ext cx="309600" cy="5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6" name="Group 77"/>
              <p:cNvGrpSpPr/>
              <p:nvPr/>
            </p:nvGrpSpPr>
            <p:grpSpPr>
              <a:xfrm>
                <a:off x="1601640" y="392040"/>
                <a:ext cx="417600" cy="160560"/>
                <a:chOff x="1601640" y="392040"/>
                <a:chExt cx="417600" cy="160560"/>
              </a:xfrm>
            </p:grpSpPr>
            <p:pic>
              <p:nvPicPr>
                <p:cNvPr id="477" name="Picture 78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1601640" y="392040"/>
                  <a:ext cx="417600" cy="160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78" name="Text Box 79"/>
                <p:cNvSpPr/>
                <p:nvPr/>
              </p:nvSpPr>
              <p:spPr>
                <a:xfrm>
                  <a:off x="1657440" y="426960"/>
                  <a:ext cx="309600" cy="54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9" name="Group 80"/>
              <p:cNvGrpSpPr/>
              <p:nvPr/>
            </p:nvGrpSpPr>
            <p:grpSpPr>
              <a:xfrm>
                <a:off x="1544760" y="214200"/>
                <a:ext cx="512640" cy="203400"/>
                <a:chOff x="1544760" y="214200"/>
                <a:chExt cx="512640" cy="203400"/>
              </a:xfrm>
            </p:grpSpPr>
            <p:pic>
              <p:nvPicPr>
                <p:cNvPr id="480" name="Picture 81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1544760" y="214200"/>
                  <a:ext cx="512640" cy="203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81" name="Text Box 82"/>
                <p:cNvSpPr/>
                <p:nvPr/>
              </p:nvSpPr>
              <p:spPr>
                <a:xfrm>
                  <a:off x="1604880" y="250920"/>
                  <a:ext cx="398520" cy="9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2" name="Group 83"/>
              <p:cNvGrpSpPr/>
              <p:nvPr/>
            </p:nvGrpSpPr>
            <p:grpSpPr>
              <a:xfrm>
                <a:off x="1601640" y="366840"/>
                <a:ext cx="417600" cy="160200"/>
                <a:chOff x="1601640" y="366840"/>
                <a:chExt cx="417600" cy="160200"/>
              </a:xfrm>
            </p:grpSpPr>
            <p:pic>
              <p:nvPicPr>
                <p:cNvPr id="483" name="Picture 8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1601640" y="366840"/>
                  <a:ext cx="417600" cy="160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84" name="Text Box 85"/>
                <p:cNvSpPr/>
                <p:nvPr/>
              </p:nvSpPr>
              <p:spPr>
                <a:xfrm>
                  <a:off x="1657440" y="401760"/>
                  <a:ext cx="309600" cy="54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5" name="Group 86"/>
              <p:cNvGrpSpPr/>
              <p:nvPr/>
            </p:nvGrpSpPr>
            <p:grpSpPr>
              <a:xfrm>
                <a:off x="1601640" y="419040"/>
                <a:ext cx="417600" cy="155520"/>
                <a:chOff x="1601640" y="419040"/>
                <a:chExt cx="417600" cy="155520"/>
              </a:xfrm>
            </p:grpSpPr>
            <p:pic>
              <p:nvPicPr>
                <p:cNvPr id="486" name="Picture 87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1601640" y="419040"/>
                  <a:ext cx="417600" cy="155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87" name="Text Box 88"/>
                <p:cNvSpPr/>
                <p:nvPr/>
              </p:nvSpPr>
              <p:spPr>
                <a:xfrm>
                  <a:off x="1657440" y="452520"/>
                  <a:ext cx="309600" cy="54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8" name="Group 89"/>
              <p:cNvGrpSpPr/>
              <p:nvPr/>
            </p:nvGrpSpPr>
            <p:grpSpPr>
              <a:xfrm>
                <a:off x="1601640" y="471600"/>
                <a:ext cx="417600" cy="155520"/>
                <a:chOff x="1601640" y="471600"/>
                <a:chExt cx="417600" cy="155520"/>
              </a:xfrm>
            </p:grpSpPr>
            <p:pic>
              <p:nvPicPr>
                <p:cNvPr id="489" name="Picture 90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1601640" y="471600"/>
                  <a:ext cx="417600" cy="155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90" name="Text Box 91"/>
                <p:cNvSpPr/>
                <p:nvPr/>
              </p:nvSpPr>
              <p:spPr>
                <a:xfrm>
                  <a:off x="1657440" y="503280"/>
                  <a:ext cx="309600" cy="54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91" name="Group 92"/>
            <p:cNvGrpSpPr/>
            <p:nvPr/>
          </p:nvGrpSpPr>
          <p:grpSpPr>
            <a:xfrm>
              <a:off x="1571760" y="1042920"/>
              <a:ext cx="498240" cy="384120"/>
              <a:chOff x="1571760" y="1042920"/>
              <a:chExt cx="498240" cy="384120"/>
            </a:xfrm>
          </p:grpSpPr>
          <p:pic>
            <p:nvPicPr>
              <p:cNvPr id="492" name="Picture 93" descr=""/>
              <p:cNvPicPr/>
              <p:nvPr/>
            </p:nvPicPr>
            <p:blipFill>
              <a:blip r:embed="rId20"/>
              <a:stretch/>
            </p:blipFill>
            <p:spPr>
              <a:xfrm>
                <a:off x="1571760" y="1042920"/>
                <a:ext cx="498240" cy="384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93" name="Text Box 94"/>
              <p:cNvSpPr/>
              <p:nvPr/>
            </p:nvSpPr>
            <p:spPr>
              <a:xfrm>
                <a:off x="1652760" y="1092240"/>
                <a:ext cx="347400" cy="237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94" name="AutoShape 95"/>
          <p:cNvSpPr/>
          <p:nvPr/>
        </p:nvSpPr>
        <p:spPr>
          <a:xfrm rot="13260000">
            <a:off x="1297080" y="4573080"/>
            <a:ext cx="428400" cy="1000440"/>
          </a:xfrm>
          <a:custGeom>
            <a:avLst/>
            <a:gdLst>
              <a:gd name="textAreaLeft" fmla="*/ 0 w 428400"/>
              <a:gd name="textAreaRight" fmla="*/ 428760 w 428400"/>
              <a:gd name="textAreaTop" fmla="*/ 0 h 1000440"/>
              <a:gd name="textAreaBottom" fmla="*/ 1000800 h 1000440"/>
            </a:gdLst>
            <a:ahLst/>
            <a:rect l="textAreaLeft" t="textAreaTop" r="textAreaRight" b="textAreaBottom"/>
            <a:pathLst>
              <a:path w="327890" h="942109">
                <a:moveTo>
                  <a:pt x="0" y="0"/>
                </a:moveTo>
                <a:cubicBezTo>
                  <a:pt x="98136" y="105063"/>
                  <a:pt x="196273" y="210127"/>
                  <a:pt x="249382" y="346363"/>
                </a:cubicBezTo>
                <a:cubicBezTo>
                  <a:pt x="302491" y="482599"/>
                  <a:pt x="309418" y="718127"/>
                  <a:pt x="318654" y="817418"/>
                </a:cubicBezTo>
                <a:cubicBezTo>
                  <a:pt x="327890" y="916709"/>
                  <a:pt x="316345" y="929409"/>
                  <a:pt x="304800" y="942109"/>
                </a:cubicBezTo>
              </a:path>
            </a:pathLst>
          </a:custGeom>
          <a:noFill/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5" name="Picture 96" descr=""/>
          <p:cNvPicPr/>
          <p:nvPr/>
        </p:nvPicPr>
        <p:blipFill>
          <a:blip r:embed="rId21"/>
          <a:stretch/>
        </p:blipFill>
        <p:spPr>
          <a:xfrm>
            <a:off x="5394240" y="-208080"/>
            <a:ext cx="3457800" cy="2017800"/>
          </a:xfrm>
          <a:prstGeom prst="rect">
            <a:avLst/>
          </a:prstGeom>
          <a:ln w="0">
            <a:noFill/>
          </a:ln>
        </p:spPr>
      </p:pic>
      <p:pic>
        <p:nvPicPr>
          <p:cNvPr id="496" name="Picture 97" descr=""/>
          <p:cNvPicPr/>
          <p:nvPr/>
        </p:nvPicPr>
        <p:blipFill>
          <a:blip r:embed="rId22"/>
          <a:stretch/>
        </p:blipFill>
        <p:spPr>
          <a:xfrm>
            <a:off x="4254480" y="1262160"/>
            <a:ext cx="5327640" cy="144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7" name="Picture 1" descr=""/>
          <p:cNvPicPr/>
          <p:nvPr/>
        </p:nvPicPr>
        <p:blipFill>
          <a:blip r:embed="rId1"/>
          <a:stretch/>
        </p:blipFill>
        <p:spPr>
          <a:xfrm>
            <a:off x="5394240" y="-208080"/>
            <a:ext cx="3457800" cy="2017800"/>
          </a:xfrm>
          <a:prstGeom prst="rect">
            <a:avLst/>
          </a:prstGeom>
          <a:ln w="0">
            <a:noFill/>
          </a:ln>
        </p:spPr>
      </p:pic>
      <p:pic>
        <p:nvPicPr>
          <p:cNvPr id="498" name="Picture 2" descr=""/>
          <p:cNvPicPr/>
          <p:nvPr/>
        </p:nvPicPr>
        <p:blipFill>
          <a:blip r:embed="rId2"/>
          <a:stretch/>
        </p:blipFill>
        <p:spPr>
          <a:xfrm>
            <a:off x="4254480" y="1262160"/>
            <a:ext cx="5327640" cy="1444680"/>
          </a:xfrm>
          <a:prstGeom prst="rect">
            <a:avLst/>
          </a:prstGeom>
          <a:ln w="0">
            <a:noFill/>
          </a:ln>
        </p:spPr>
      </p:pic>
      <p:sp>
        <p:nvSpPr>
          <p:cNvPr id="499" name="Rectangle 3"/>
          <p:cNvSpPr/>
          <p:nvPr/>
        </p:nvSpPr>
        <p:spPr>
          <a:xfrm>
            <a:off x="1571760" y="1143000"/>
            <a:ext cx="2428920" cy="2786040"/>
          </a:xfrm>
          <a:prstGeom prst="rect">
            <a:avLst/>
          </a:prstGeom>
          <a:solidFill>
            <a:srgbClr val="004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00" name="Group 4"/>
          <p:cNvGrpSpPr/>
          <p:nvPr/>
        </p:nvGrpSpPr>
        <p:grpSpPr>
          <a:xfrm>
            <a:off x="2639880" y="1279440"/>
            <a:ext cx="1436760" cy="2657520"/>
            <a:chOff x="2639880" y="1279440"/>
            <a:chExt cx="1436760" cy="2657520"/>
          </a:xfrm>
        </p:grpSpPr>
        <p:pic>
          <p:nvPicPr>
            <p:cNvPr id="501" name="Picture 5" descr=""/>
            <p:cNvPicPr/>
            <p:nvPr/>
          </p:nvPicPr>
          <p:blipFill>
            <a:blip r:embed="rId3"/>
            <a:stretch/>
          </p:blipFill>
          <p:spPr>
            <a:xfrm>
              <a:off x="2639880" y="1279440"/>
              <a:ext cx="1436760" cy="265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2" name="Text Box 6"/>
            <p:cNvSpPr/>
            <p:nvPr/>
          </p:nvSpPr>
          <p:spPr>
            <a:xfrm>
              <a:off x="2643120" y="1285920"/>
              <a:ext cx="1427400" cy="264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03" name="Group 7"/>
          <p:cNvGrpSpPr/>
          <p:nvPr/>
        </p:nvGrpSpPr>
        <p:grpSpPr>
          <a:xfrm>
            <a:off x="928800" y="428760"/>
            <a:ext cx="3713040" cy="923760"/>
            <a:chOff x="928800" y="428760"/>
            <a:chExt cx="3713040" cy="923760"/>
          </a:xfrm>
        </p:grpSpPr>
        <p:sp>
          <p:nvSpPr>
            <p:cNvPr id="504" name="AutoShape 8"/>
            <p:cNvSpPr/>
            <p:nvPr/>
          </p:nvSpPr>
          <p:spPr>
            <a:xfrm>
              <a:off x="1006560" y="612720"/>
              <a:ext cx="1031760" cy="568440"/>
            </a:xfrm>
            <a:custGeom>
              <a:avLst/>
              <a:gdLst>
                <a:gd name="textAreaLeft" fmla="*/ 0 w 1031760"/>
                <a:gd name="textAreaRight" fmla="*/ 1032120 w 1031760"/>
                <a:gd name="textAreaTop" fmla="*/ 0 h 568440"/>
                <a:gd name="textAreaBottom" fmla="*/ 568800 h 568440"/>
              </a:gdLst>
              <a:ahLst/>
              <a:rect l="textAreaLeft" t="textAreaTop" r="textAreaRight" b="textAreaBottom"/>
              <a:pathLst>
                <a:path w="1482437" h="817418">
                  <a:moveTo>
                    <a:pt x="0" y="0"/>
                  </a:moveTo>
                  <a:lnTo>
                    <a:pt x="512618" y="0"/>
                  </a:lnTo>
                  <a:lnTo>
                    <a:pt x="1052946" y="263237"/>
                  </a:lnTo>
                  <a:lnTo>
                    <a:pt x="1482437" y="817418"/>
                  </a:lnTo>
                  <a:lnTo>
                    <a:pt x="872837" y="789709"/>
                  </a:lnTo>
                  <a:lnTo>
                    <a:pt x="595746" y="526473"/>
                  </a:lnTo>
                  <a:lnTo>
                    <a:pt x="13855" y="48490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5" name="Rectangle 9"/>
            <p:cNvSpPr/>
            <p:nvPr/>
          </p:nvSpPr>
          <p:spPr>
            <a:xfrm>
              <a:off x="928800" y="428760"/>
              <a:ext cx="147600" cy="247680"/>
            </a:xfrm>
            <a:prstGeom prst="rect">
              <a:avLst/>
            </a:prstGeom>
            <a:solidFill>
              <a:srgbClr val="fac090"/>
            </a:solidFill>
            <a:ln w="57240">
              <a:solidFill>
                <a:srgbClr val="fac0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6" name="Rectangle 10"/>
            <p:cNvSpPr/>
            <p:nvPr/>
          </p:nvSpPr>
          <p:spPr>
            <a:xfrm>
              <a:off x="928800" y="876240"/>
              <a:ext cx="196560" cy="247680"/>
            </a:xfrm>
            <a:prstGeom prst="rect">
              <a:avLst/>
            </a:prstGeom>
            <a:solidFill>
              <a:srgbClr val="fac090"/>
            </a:solidFill>
            <a:ln w="57240">
              <a:solidFill>
                <a:srgbClr val="fac0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7" name="AutoShape 11"/>
            <p:cNvSpPr/>
            <p:nvPr/>
          </p:nvSpPr>
          <p:spPr>
            <a:xfrm>
              <a:off x="977760" y="477720"/>
              <a:ext cx="1176480" cy="743040"/>
            </a:xfrm>
            <a:custGeom>
              <a:avLst/>
              <a:gdLst>
                <a:gd name="textAreaLeft" fmla="*/ 0 w 1176480"/>
                <a:gd name="textAreaRight" fmla="*/ 1176840 w 1176480"/>
                <a:gd name="textAreaTop" fmla="*/ 0 h 743040"/>
                <a:gd name="textAreaBottom" fmla="*/ 743400 h 743040"/>
              </a:gdLst>
              <a:ahLst/>
              <a:rect l="textAreaLeft" t="textAreaTop" r="textAreaRight" b="textAreaBottom"/>
              <a:pathLst>
                <a:path w="1690255" h="1066800">
                  <a:moveTo>
                    <a:pt x="27709" y="32015"/>
                  </a:moveTo>
                  <a:lnTo>
                    <a:pt x="13855" y="27709"/>
                  </a:lnTo>
                  <a:lnTo>
                    <a:pt x="471055" y="27709"/>
                  </a:lnTo>
                  <a:lnTo>
                    <a:pt x="803564" y="124691"/>
                  </a:lnTo>
                  <a:lnTo>
                    <a:pt x="1108364" y="290945"/>
                  </a:lnTo>
                  <a:lnTo>
                    <a:pt x="1246909" y="207818"/>
                  </a:lnTo>
                  <a:lnTo>
                    <a:pt x="1690255" y="152400"/>
                  </a:lnTo>
                  <a:lnTo>
                    <a:pt x="1690255" y="415636"/>
                  </a:lnTo>
                  <a:lnTo>
                    <a:pt x="1537855" y="374073"/>
                  </a:lnTo>
                  <a:lnTo>
                    <a:pt x="1343891" y="387927"/>
                  </a:lnTo>
                  <a:lnTo>
                    <a:pt x="1274619" y="484909"/>
                  </a:lnTo>
                  <a:lnTo>
                    <a:pt x="1274619" y="623454"/>
                  </a:lnTo>
                  <a:lnTo>
                    <a:pt x="1648691" y="942109"/>
                  </a:lnTo>
                  <a:lnTo>
                    <a:pt x="1648691" y="1066800"/>
                  </a:lnTo>
                  <a:lnTo>
                    <a:pt x="1468582" y="1039091"/>
                  </a:lnTo>
                  <a:lnTo>
                    <a:pt x="1025237" y="651163"/>
                  </a:lnTo>
                  <a:lnTo>
                    <a:pt x="997528" y="484909"/>
                  </a:lnTo>
                  <a:lnTo>
                    <a:pt x="748146" y="346363"/>
                  </a:lnTo>
                  <a:lnTo>
                    <a:pt x="457200" y="249382"/>
                  </a:lnTo>
                  <a:lnTo>
                    <a:pt x="13855" y="235527"/>
                  </a:lnTo>
                  <a:lnTo>
                    <a:pt x="0" y="0"/>
                  </a:lnTo>
                  <a:lnTo>
                    <a:pt x="27709" y="32015"/>
                  </a:lnTo>
                  <a:close/>
                </a:path>
              </a:pathLst>
            </a:custGeom>
            <a:solidFill>
              <a:srgbClr val="fac090"/>
            </a:solidFill>
            <a:ln w="25560">
              <a:solidFill>
                <a:srgbClr val="fac0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8" name="AutoShape 12"/>
            <p:cNvSpPr/>
            <p:nvPr/>
          </p:nvSpPr>
          <p:spPr>
            <a:xfrm>
              <a:off x="1084320" y="863640"/>
              <a:ext cx="606240" cy="307800"/>
            </a:xfrm>
            <a:custGeom>
              <a:avLst/>
              <a:gdLst>
                <a:gd name="textAreaLeft" fmla="*/ 0 w 606240"/>
                <a:gd name="textAreaRight" fmla="*/ 606600 w 606240"/>
                <a:gd name="textAreaTop" fmla="*/ 0 h 307800"/>
                <a:gd name="textAreaBottom" fmla="*/ 308160 h 307800"/>
              </a:gdLst>
              <a:ahLst/>
              <a:rect l="textAreaLeft" t="textAreaTop" r="textAreaRight" b="textAreaBottom"/>
              <a:pathLst>
                <a:path w="872836" h="443346">
                  <a:moveTo>
                    <a:pt x="0" y="0"/>
                  </a:moveTo>
                  <a:lnTo>
                    <a:pt x="263236" y="0"/>
                  </a:lnTo>
                  <a:lnTo>
                    <a:pt x="512618" y="69273"/>
                  </a:lnTo>
                  <a:lnTo>
                    <a:pt x="803563" y="263237"/>
                  </a:lnTo>
                  <a:lnTo>
                    <a:pt x="872836" y="443346"/>
                  </a:lnTo>
                  <a:lnTo>
                    <a:pt x="651163" y="443346"/>
                  </a:lnTo>
                  <a:lnTo>
                    <a:pt x="568036" y="304800"/>
                  </a:lnTo>
                  <a:lnTo>
                    <a:pt x="332509" y="193964"/>
                  </a:lnTo>
                  <a:lnTo>
                    <a:pt x="13854" y="16625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c090"/>
            </a:solidFill>
            <a:ln w="25560">
              <a:solidFill>
                <a:srgbClr val="fac0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9" name="AutoShape 13"/>
            <p:cNvSpPr/>
            <p:nvPr/>
          </p:nvSpPr>
          <p:spPr>
            <a:xfrm flipH="1">
              <a:off x="3537720" y="612720"/>
              <a:ext cx="1032120" cy="568440"/>
            </a:xfrm>
            <a:custGeom>
              <a:avLst/>
              <a:gdLst>
                <a:gd name="textAreaLeft" fmla="*/ -360 w 1032120"/>
                <a:gd name="textAreaRight" fmla="*/ 1032120 w 1032120"/>
                <a:gd name="textAreaTop" fmla="*/ 0 h 568440"/>
                <a:gd name="textAreaBottom" fmla="*/ 568800 h 568440"/>
              </a:gdLst>
              <a:ahLst/>
              <a:rect l="textAreaLeft" t="textAreaTop" r="textAreaRight" b="textAreaBottom"/>
              <a:pathLst>
                <a:path w="1482437" h="817418">
                  <a:moveTo>
                    <a:pt x="0" y="0"/>
                  </a:moveTo>
                  <a:lnTo>
                    <a:pt x="512618" y="0"/>
                  </a:lnTo>
                  <a:lnTo>
                    <a:pt x="1052946" y="263237"/>
                  </a:lnTo>
                  <a:lnTo>
                    <a:pt x="1482437" y="817418"/>
                  </a:lnTo>
                  <a:lnTo>
                    <a:pt x="872837" y="789709"/>
                  </a:lnTo>
                  <a:lnTo>
                    <a:pt x="595746" y="526473"/>
                  </a:lnTo>
                  <a:lnTo>
                    <a:pt x="13855" y="48490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0" name="Rectangle 14"/>
            <p:cNvSpPr/>
            <p:nvPr/>
          </p:nvSpPr>
          <p:spPr>
            <a:xfrm flipH="1">
              <a:off x="4494240" y="428760"/>
              <a:ext cx="147600" cy="247680"/>
            </a:xfrm>
            <a:prstGeom prst="rect">
              <a:avLst/>
            </a:prstGeom>
            <a:solidFill>
              <a:srgbClr val="fac090"/>
            </a:solidFill>
            <a:ln w="57240">
              <a:solidFill>
                <a:srgbClr val="fac0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1" name="Rectangle 15"/>
            <p:cNvSpPr/>
            <p:nvPr/>
          </p:nvSpPr>
          <p:spPr>
            <a:xfrm flipH="1">
              <a:off x="4442760" y="876240"/>
              <a:ext cx="196920" cy="247680"/>
            </a:xfrm>
            <a:prstGeom prst="rect">
              <a:avLst/>
            </a:prstGeom>
            <a:solidFill>
              <a:srgbClr val="fac090"/>
            </a:solidFill>
            <a:ln w="57240">
              <a:solidFill>
                <a:srgbClr val="fac0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2" name="AutoShape 16"/>
            <p:cNvSpPr/>
            <p:nvPr/>
          </p:nvSpPr>
          <p:spPr>
            <a:xfrm flipH="1">
              <a:off x="3415680" y="477720"/>
              <a:ext cx="1176120" cy="743040"/>
            </a:xfrm>
            <a:custGeom>
              <a:avLst/>
              <a:gdLst>
                <a:gd name="textAreaLeft" fmla="*/ -360 w 1176120"/>
                <a:gd name="textAreaRight" fmla="*/ 1176120 w 1176120"/>
                <a:gd name="textAreaTop" fmla="*/ 0 h 743040"/>
                <a:gd name="textAreaBottom" fmla="*/ 743400 h 743040"/>
              </a:gdLst>
              <a:ahLst/>
              <a:rect l="textAreaLeft" t="textAreaTop" r="textAreaRight" b="textAreaBottom"/>
              <a:pathLst>
                <a:path w="1690255" h="1066800">
                  <a:moveTo>
                    <a:pt x="27709" y="32015"/>
                  </a:moveTo>
                  <a:lnTo>
                    <a:pt x="13855" y="27709"/>
                  </a:lnTo>
                  <a:lnTo>
                    <a:pt x="471055" y="27709"/>
                  </a:lnTo>
                  <a:lnTo>
                    <a:pt x="803564" y="124691"/>
                  </a:lnTo>
                  <a:lnTo>
                    <a:pt x="1108364" y="290945"/>
                  </a:lnTo>
                  <a:lnTo>
                    <a:pt x="1246909" y="207818"/>
                  </a:lnTo>
                  <a:lnTo>
                    <a:pt x="1690255" y="152400"/>
                  </a:lnTo>
                  <a:lnTo>
                    <a:pt x="1690255" y="415636"/>
                  </a:lnTo>
                  <a:lnTo>
                    <a:pt x="1537855" y="374073"/>
                  </a:lnTo>
                  <a:lnTo>
                    <a:pt x="1343891" y="387927"/>
                  </a:lnTo>
                  <a:lnTo>
                    <a:pt x="1274619" y="484909"/>
                  </a:lnTo>
                  <a:lnTo>
                    <a:pt x="1274619" y="623454"/>
                  </a:lnTo>
                  <a:lnTo>
                    <a:pt x="1648691" y="942109"/>
                  </a:lnTo>
                  <a:lnTo>
                    <a:pt x="1648691" y="1066800"/>
                  </a:lnTo>
                  <a:lnTo>
                    <a:pt x="1468582" y="1039091"/>
                  </a:lnTo>
                  <a:lnTo>
                    <a:pt x="1025237" y="651163"/>
                  </a:lnTo>
                  <a:lnTo>
                    <a:pt x="997528" y="484909"/>
                  </a:lnTo>
                  <a:lnTo>
                    <a:pt x="748146" y="346363"/>
                  </a:lnTo>
                  <a:lnTo>
                    <a:pt x="457200" y="249382"/>
                  </a:lnTo>
                  <a:lnTo>
                    <a:pt x="13855" y="235527"/>
                  </a:lnTo>
                  <a:lnTo>
                    <a:pt x="0" y="0"/>
                  </a:lnTo>
                  <a:lnTo>
                    <a:pt x="27709" y="32015"/>
                  </a:lnTo>
                  <a:close/>
                </a:path>
              </a:pathLst>
            </a:custGeom>
            <a:solidFill>
              <a:srgbClr val="fac090"/>
            </a:solidFill>
            <a:ln w="25560">
              <a:solidFill>
                <a:srgbClr val="fac0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AutoShape 17"/>
            <p:cNvSpPr/>
            <p:nvPr/>
          </p:nvSpPr>
          <p:spPr>
            <a:xfrm flipH="1">
              <a:off x="3879000" y="863640"/>
              <a:ext cx="606600" cy="307800"/>
            </a:xfrm>
            <a:custGeom>
              <a:avLst/>
              <a:gdLst>
                <a:gd name="textAreaLeft" fmla="*/ -360 w 606600"/>
                <a:gd name="textAreaRight" fmla="*/ 606600 w 606600"/>
                <a:gd name="textAreaTop" fmla="*/ 0 h 307800"/>
                <a:gd name="textAreaBottom" fmla="*/ 308160 h 307800"/>
              </a:gdLst>
              <a:ahLst/>
              <a:rect l="textAreaLeft" t="textAreaTop" r="textAreaRight" b="textAreaBottom"/>
              <a:pathLst>
                <a:path w="872836" h="443346">
                  <a:moveTo>
                    <a:pt x="0" y="0"/>
                  </a:moveTo>
                  <a:lnTo>
                    <a:pt x="263236" y="0"/>
                  </a:lnTo>
                  <a:lnTo>
                    <a:pt x="512618" y="69273"/>
                  </a:lnTo>
                  <a:lnTo>
                    <a:pt x="803563" y="263237"/>
                  </a:lnTo>
                  <a:lnTo>
                    <a:pt x="872836" y="443346"/>
                  </a:lnTo>
                  <a:lnTo>
                    <a:pt x="651163" y="443346"/>
                  </a:lnTo>
                  <a:lnTo>
                    <a:pt x="568036" y="304800"/>
                  </a:lnTo>
                  <a:lnTo>
                    <a:pt x="332509" y="193964"/>
                  </a:lnTo>
                  <a:lnTo>
                    <a:pt x="13854" y="16625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c090"/>
            </a:solidFill>
            <a:ln w="25560">
              <a:solidFill>
                <a:srgbClr val="fac0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AutoShape 18"/>
            <p:cNvSpPr/>
            <p:nvPr/>
          </p:nvSpPr>
          <p:spPr>
            <a:xfrm>
              <a:off x="2023920" y="1143000"/>
              <a:ext cx="1617840" cy="209520"/>
            </a:xfrm>
            <a:prstGeom prst="roundRect">
              <a:avLst>
                <a:gd name="adj" fmla="val 16667"/>
              </a:avLst>
            </a:prstGeom>
            <a:solidFill>
              <a:srgbClr val="fac090"/>
            </a:solidFill>
            <a:ln w="25560">
              <a:solidFill>
                <a:srgbClr val="fac0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15" name="Group 19"/>
          <p:cNvGrpSpPr/>
          <p:nvPr/>
        </p:nvGrpSpPr>
        <p:grpSpPr>
          <a:xfrm>
            <a:off x="1663560" y="4384080"/>
            <a:ext cx="2241720" cy="2242080"/>
            <a:chOff x="1663560" y="4384080"/>
            <a:chExt cx="2241720" cy="2242080"/>
          </a:xfrm>
        </p:grpSpPr>
        <p:grpSp>
          <p:nvGrpSpPr>
            <p:cNvPr id="516" name="Group 20"/>
            <p:cNvGrpSpPr/>
            <p:nvPr/>
          </p:nvGrpSpPr>
          <p:grpSpPr>
            <a:xfrm>
              <a:off x="1728720" y="4444920"/>
              <a:ext cx="2112480" cy="2112480"/>
              <a:chOff x="1728720" y="4444920"/>
              <a:chExt cx="2112480" cy="2112480"/>
            </a:xfrm>
          </p:grpSpPr>
          <p:pic>
            <p:nvPicPr>
              <p:cNvPr id="517" name="Picture 21" descr=""/>
              <p:cNvPicPr/>
              <p:nvPr/>
            </p:nvPicPr>
            <p:blipFill>
              <a:blip r:embed="rId4"/>
              <a:stretch/>
            </p:blipFill>
            <p:spPr>
              <a:xfrm>
                <a:off x="1728720" y="4444920"/>
                <a:ext cx="2112480" cy="2112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8" name="Text Box 22"/>
              <p:cNvSpPr/>
              <p:nvPr/>
            </p:nvSpPr>
            <p:spPr>
              <a:xfrm>
                <a:off x="2050920" y="4770000"/>
                <a:ext cx="1466640" cy="1466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9" name="AutoShape 23"/>
            <p:cNvSpPr/>
            <p:nvPr/>
          </p:nvSpPr>
          <p:spPr>
            <a:xfrm rot="20520000">
              <a:off x="1894680" y="4615200"/>
              <a:ext cx="1778760" cy="1779480"/>
            </a:xfrm>
            <a:custGeom>
              <a:avLst/>
              <a:gdLst>
                <a:gd name="textAreaLeft" fmla="*/ 818640 w 1778760"/>
                <a:gd name="textAreaRight" fmla="*/ 960120 w 1778760"/>
                <a:gd name="textAreaTop" fmla="*/ 819000 h 1779480"/>
                <a:gd name="textAreaBottom" fmla="*/ 960480 h 177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9941" y="9941"/>
                  </a:lnTo>
                  <a:lnTo>
                    <a:pt x="10800" y="0"/>
                  </a:lnTo>
                  <a:lnTo>
                    <a:pt x="11659" y="9941"/>
                  </a:lnTo>
                  <a:lnTo>
                    <a:pt x="21600" y="10800"/>
                  </a:lnTo>
                  <a:lnTo>
                    <a:pt x="11659" y="11659"/>
                  </a:lnTo>
                  <a:lnTo>
                    <a:pt x="10800" y="21600"/>
                  </a:lnTo>
                  <a:lnTo>
                    <a:pt x="9941" y="11659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ebf1de"/>
            </a:solidFill>
            <a:ln w="25560">
              <a:solidFill>
                <a:srgbClr val="ebf1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Oval 24"/>
            <p:cNvSpPr/>
            <p:nvPr/>
          </p:nvSpPr>
          <p:spPr>
            <a:xfrm>
              <a:off x="2638080" y="5356080"/>
              <a:ext cx="295200" cy="295200"/>
            </a:xfrm>
            <a:prstGeom prst="ellipse">
              <a:avLst/>
            </a:prstGeom>
            <a:gradFill rotWithShape="0">
              <a:gsLst>
                <a:gs pos="0">
                  <a:srgbClr val="156b13"/>
                </a:gs>
                <a:gs pos="100000">
                  <a:srgbClr val="63252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21" name="Group 25"/>
          <p:cNvGrpSpPr/>
          <p:nvPr/>
        </p:nvGrpSpPr>
        <p:grpSpPr>
          <a:xfrm>
            <a:off x="1869840" y="4365360"/>
            <a:ext cx="1871640" cy="1297440"/>
            <a:chOff x="1869840" y="4365360"/>
            <a:chExt cx="1871640" cy="1297440"/>
          </a:xfrm>
        </p:grpSpPr>
        <p:sp>
          <p:nvSpPr>
            <p:cNvPr id="522" name="AutoShape 26"/>
            <p:cNvSpPr/>
            <p:nvPr/>
          </p:nvSpPr>
          <p:spPr>
            <a:xfrm rot="21420000">
              <a:off x="1900080" y="4411800"/>
              <a:ext cx="1811160" cy="1204560"/>
            </a:xfrm>
            <a:custGeom>
              <a:avLst/>
              <a:gdLst>
                <a:gd name="textAreaLeft" fmla="*/ 37440 w 1811160"/>
                <a:gd name="textAreaRight" fmla="*/ 1811520 w 1811160"/>
                <a:gd name="textAreaTop" fmla="*/ 0 h 1204560"/>
                <a:gd name="textAreaBottom" fmla="*/ 603000 h 1204560"/>
              </a:gdLst>
              <a:ahLst/>
              <a:rect l="textAreaLeft" t="textAreaTop" r="textAreaRight" b="textAreaBottom"/>
              <a:pathLst>
                <a:path w="1755053" h="1113994">
                  <a:moveTo>
                    <a:pt x="36404" y="398230"/>
                  </a:moveTo>
                  <a:lnTo>
                    <a:pt x="36403" y="398229"/>
                  </a:lnTo>
                  <a:cubicBezTo>
                    <a:pt x="147086" y="161984"/>
                    <a:pt x="489222" y="-1"/>
                    <a:pt x="877527" y="0"/>
                  </a:cubicBezTo>
                  <a:cubicBezTo>
                    <a:pt x="1362171" y="0"/>
                    <a:pt x="1755054" y="249376"/>
                    <a:pt x="1755054" y="556997"/>
                  </a:cubicBezTo>
                  <a:cubicBezTo>
                    <a:pt x="1755054" y="556997"/>
                    <a:pt x="1755053" y="556998"/>
                    <a:pt x="1755053" y="556998"/>
                  </a:cubicBezTo>
                  <a:lnTo>
                    <a:pt x="1476555" y="556997"/>
                  </a:lnTo>
                  <a:cubicBezTo>
                    <a:pt x="1476555" y="403186"/>
                    <a:pt x="1208361" y="278498"/>
                    <a:pt x="877527" y="278498"/>
                  </a:cubicBezTo>
                  <a:cubicBezTo>
                    <a:pt x="633707" y="278497"/>
                    <a:pt x="414216" y="347203"/>
                    <a:pt x="322498" y="452233"/>
                  </a:cubicBezTo>
                  <a:close/>
                </a:path>
              </a:pathLst>
            </a:custGeom>
            <a:gradFill rotWithShape="0">
              <a:gsLst>
                <a:gs pos="0">
                  <a:srgbClr val="156b13"/>
                </a:gs>
                <a:gs pos="100000">
                  <a:srgbClr val="ddebcf"/>
                </a:gs>
              </a:gsLst>
              <a:lin ang="5400000"/>
            </a:gradFill>
            <a:ln w="255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Oval 27"/>
            <p:cNvSpPr/>
            <p:nvPr/>
          </p:nvSpPr>
          <p:spPr>
            <a:xfrm>
              <a:off x="3408120" y="4647240"/>
              <a:ext cx="278280" cy="290160"/>
            </a:xfrm>
            <a:prstGeom prst="ellipse">
              <a:avLst/>
            </a:prstGeom>
            <a:gradFill rotWithShape="0">
              <a:gsLst>
                <a:gs pos="0">
                  <a:srgbClr val="156b13"/>
                </a:gs>
                <a:gs pos="100000">
                  <a:srgbClr val="63252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Oval 28"/>
            <p:cNvSpPr/>
            <p:nvPr/>
          </p:nvSpPr>
          <p:spPr>
            <a:xfrm>
              <a:off x="1989720" y="4664160"/>
              <a:ext cx="277200" cy="290160"/>
            </a:xfrm>
            <a:prstGeom prst="ellipse">
              <a:avLst/>
            </a:prstGeom>
            <a:gradFill rotWithShape="0">
              <a:gsLst>
                <a:gs pos="0">
                  <a:srgbClr val="156b13"/>
                </a:gs>
                <a:gs pos="100000">
                  <a:srgbClr val="63252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25" name="Group 29"/>
          <p:cNvGrpSpPr/>
          <p:nvPr/>
        </p:nvGrpSpPr>
        <p:grpSpPr>
          <a:xfrm>
            <a:off x="1526040" y="2122560"/>
            <a:ext cx="2438280" cy="2741400"/>
            <a:chOff x="1526040" y="2122560"/>
            <a:chExt cx="2438280" cy="2741400"/>
          </a:xfrm>
        </p:grpSpPr>
        <p:sp>
          <p:nvSpPr>
            <p:cNvPr id="526" name="AutoShape 30"/>
            <p:cNvSpPr/>
            <p:nvPr/>
          </p:nvSpPr>
          <p:spPr>
            <a:xfrm rot="1260000">
              <a:off x="1874520" y="2359080"/>
              <a:ext cx="1740960" cy="2268000"/>
            </a:xfrm>
            <a:custGeom>
              <a:avLst/>
              <a:gdLst>
                <a:gd name="textAreaLeft" fmla="*/ 0 w 1740960"/>
                <a:gd name="textAreaRight" fmla="*/ 1741320 w 1740960"/>
                <a:gd name="textAreaTop" fmla="*/ 0 h 2268000"/>
                <a:gd name="textAreaBottom" fmla="*/ 2268360 h 2268000"/>
              </a:gdLst>
              <a:ahLst/>
              <a:rect l="textAreaLeft" t="textAreaTop" r="textAreaRight" b="textAreaBottom"/>
              <a:pathLst>
                <a:path w="1066800" h="2105891">
                  <a:moveTo>
                    <a:pt x="0" y="0"/>
                  </a:moveTo>
                  <a:lnTo>
                    <a:pt x="249382" y="0"/>
                  </a:lnTo>
                  <a:lnTo>
                    <a:pt x="1066800" y="2105891"/>
                  </a:lnTo>
                  <a:lnTo>
                    <a:pt x="831273" y="2105891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5"/>
              <a:srcRect/>
              <a:stretch/>
            </a:blipFill>
            <a:ln w="25560">
              <a:solidFill>
                <a:srgbClr val="77933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Oval 31"/>
            <p:cNvSpPr/>
            <p:nvPr/>
          </p:nvSpPr>
          <p:spPr>
            <a:xfrm rot="1260000">
              <a:off x="2512440" y="4377240"/>
              <a:ext cx="581400" cy="383400"/>
            </a:xfrm>
            <a:prstGeom prst="ellipse">
              <a:avLst/>
            </a:prstGeom>
            <a:gradFill rotWithShape="0">
              <a:gsLst>
                <a:gs pos="0">
                  <a:srgbClr val="156b13"/>
                </a:gs>
                <a:gs pos="100000">
                  <a:srgbClr val="d7e4b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28" name="Group 32"/>
          <p:cNvGrpSpPr/>
          <p:nvPr/>
        </p:nvGrpSpPr>
        <p:grpSpPr>
          <a:xfrm>
            <a:off x="2500200" y="642960"/>
            <a:ext cx="641520" cy="712800"/>
            <a:chOff x="2500200" y="642960"/>
            <a:chExt cx="641520" cy="712800"/>
          </a:xfrm>
        </p:grpSpPr>
        <p:sp>
          <p:nvSpPr>
            <p:cNvPr id="529" name="AutoShape 33"/>
            <p:cNvSpPr/>
            <p:nvPr/>
          </p:nvSpPr>
          <p:spPr>
            <a:xfrm>
              <a:off x="2571840" y="642960"/>
              <a:ext cx="498240" cy="712800"/>
            </a:xfrm>
            <a:prstGeom prst="flowChartExtract">
              <a:avLst/>
            </a:prstGeom>
            <a:gradFill rotWithShape="0">
              <a:gsLst>
                <a:gs pos="0">
                  <a:srgbClr val="e6e6e6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AutoShape 34"/>
            <p:cNvSpPr/>
            <p:nvPr/>
          </p:nvSpPr>
          <p:spPr>
            <a:xfrm>
              <a:off x="2500200" y="1143000"/>
              <a:ext cx="641520" cy="1411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AutoShape 35"/>
            <p:cNvSpPr/>
            <p:nvPr/>
          </p:nvSpPr>
          <p:spPr>
            <a:xfrm>
              <a:off x="2652840" y="785880"/>
              <a:ext cx="345960" cy="1411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2" name="Rectangle 36"/>
          <p:cNvSpPr/>
          <p:nvPr/>
        </p:nvSpPr>
        <p:spPr>
          <a:xfrm>
            <a:off x="1571760" y="1357200"/>
            <a:ext cx="2500200" cy="785880"/>
          </a:xfrm>
          <a:prstGeom prst="rect">
            <a:avLst/>
          </a:prstGeom>
          <a:gradFill rotWithShape="0">
            <a:gsLst>
              <a:gs pos="0">
                <a:srgbClr val="8c3d91"/>
              </a:gs>
              <a:gs pos="100000">
                <a:srgbClr val="660066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Group 37"/>
          <p:cNvGrpSpPr/>
          <p:nvPr/>
        </p:nvGrpSpPr>
        <p:grpSpPr>
          <a:xfrm>
            <a:off x="1542960" y="1468440"/>
            <a:ext cx="2478240" cy="1200240"/>
            <a:chOff x="1542960" y="1468440"/>
            <a:chExt cx="2478240" cy="1200240"/>
          </a:xfrm>
        </p:grpSpPr>
        <p:pic>
          <p:nvPicPr>
            <p:cNvPr id="534" name="Picture 38" descr=""/>
            <p:cNvPicPr/>
            <p:nvPr/>
          </p:nvPicPr>
          <p:blipFill>
            <a:blip r:embed="rId6"/>
            <a:stretch/>
          </p:blipFill>
          <p:spPr>
            <a:xfrm>
              <a:off x="1542960" y="1468440"/>
              <a:ext cx="2478240" cy="120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5" name="Text Box 39"/>
            <p:cNvSpPr/>
            <p:nvPr/>
          </p:nvSpPr>
          <p:spPr>
            <a:xfrm>
              <a:off x="1571760" y="1500120"/>
              <a:ext cx="2427120" cy="114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36" name="Group 40"/>
          <p:cNvGrpSpPr/>
          <p:nvPr/>
        </p:nvGrpSpPr>
        <p:grpSpPr>
          <a:xfrm>
            <a:off x="4000680" y="1143000"/>
            <a:ext cx="285120" cy="2784600"/>
            <a:chOff x="4000680" y="1143000"/>
            <a:chExt cx="285120" cy="2784600"/>
          </a:xfrm>
        </p:grpSpPr>
        <p:grpSp>
          <p:nvGrpSpPr>
            <p:cNvPr id="537" name="Group 41"/>
            <p:cNvGrpSpPr/>
            <p:nvPr/>
          </p:nvGrpSpPr>
          <p:grpSpPr>
            <a:xfrm>
              <a:off x="4003560" y="1143000"/>
              <a:ext cx="282240" cy="2498760"/>
              <a:chOff x="4003560" y="1143000"/>
              <a:chExt cx="282240" cy="2498760"/>
            </a:xfrm>
          </p:grpSpPr>
          <p:sp>
            <p:nvSpPr>
              <p:cNvPr id="538" name="AutoShape 42"/>
              <p:cNvSpPr/>
              <p:nvPr/>
            </p:nvSpPr>
            <p:spPr>
              <a:xfrm>
                <a:off x="4003560" y="1143000"/>
                <a:ext cx="282240" cy="2498760"/>
              </a:xfrm>
              <a:custGeom>
                <a:avLst/>
                <a:gdLst>
                  <a:gd name="textAreaLeft" fmla="*/ 13680 w 282240"/>
                  <a:gd name="textAreaRight" fmla="*/ 268560 w 282240"/>
                  <a:gd name="textAreaTop" fmla="*/ 13680 h 2498760"/>
                  <a:gd name="textAreaBottom" fmla="*/ 2485080 h 2498760"/>
                </a:gdLst>
                <a:ahLst/>
                <a:rect l="textAreaLeft" t="textAreaTop" r="textAreaRight" b="textAreaBottom"/>
                <a:pathLst>
                  <a:path w="21600" h="191016">
                    <a:moveTo>
                      <a:pt x="3600" y="0"/>
                    </a:moveTo>
                    <a:arcTo wR="3600" hR="3600" stAng="16200000" swAng="-5400000"/>
                    <a:lnTo>
                      <a:pt x="0" y="187416"/>
                    </a:lnTo>
                    <a:arcTo wR="3600" hR="3600" stAng="10800000" swAng="-5400000"/>
                    <a:lnTo>
                      <a:pt x="18000" y="191016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ac090"/>
              </a:solidFill>
              <a:ln w="25560">
                <a:solidFill>
                  <a:srgbClr val="fac09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9" name="AutoShape 43"/>
              <p:cNvSpPr/>
              <p:nvPr/>
            </p:nvSpPr>
            <p:spPr>
              <a:xfrm>
                <a:off x="4074120" y="1276200"/>
                <a:ext cx="140400" cy="2293920"/>
              </a:xfrm>
              <a:custGeom>
                <a:avLst/>
                <a:gdLst>
                  <a:gd name="textAreaLeft" fmla="*/ 6840 w 140400"/>
                  <a:gd name="textAreaRight" fmla="*/ 133560 w 140400"/>
                  <a:gd name="textAreaTop" fmla="*/ 6840 h 2293920"/>
                  <a:gd name="textAreaBottom" fmla="*/ 2287080 h 2293920"/>
                </a:gdLst>
                <a:ahLst/>
                <a:rect l="textAreaLeft" t="textAreaTop" r="textAreaRight" b="textAreaBottom"/>
                <a:pathLst>
                  <a:path w="21600" h="352063">
                    <a:moveTo>
                      <a:pt x="3600" y="0"/>
                    </a:moveTo>
                    <a:arcTo wR="3600" hR="3600" stAng="16200000" swAng="-5400000"/>
                    <a:lnTo>
                      <a:pt x="0" y="348463"/>
                    </a:lnTo>
                    <a:arcTo wR="3600" hR="3600" stAng="10800000" swAng="-5400000"/>
                    <a:lnTo>
                      <a:pt x="18000" y="352063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40" name="Line 44"/>
            <p:cNvSpPr/>
            <p:nvPr/>
          </p:nvSpPr>
          <p:spPr>
            <a:xfrm flipH="1">
              <a:off x="4000680" y="1143000"/>
              <a:ext cx="2880" cy="2784600"/>
            </a:xfrm>
            <a:prstGeom prst="line">
              <a:avLst/>
            </a:prstGeom>
            <a:ln w="101520">
              <a:solidFill>
                <a:srgbClr val="fac0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41" name="Group 45"/>
          <p:cNvGrpSpPr/>
          <p:nvPr/>
        </p:nvGrpSpPr>
        <p:grpSpPr>
          <a:xfrm>
            <a:off x="1285920" y="1143000"/>
            <a:ext cx="283680" cy="2786040"/>
            <a:chOff x="1285920" y="1143000"/>
            <a:chExt cx="283680" cy="2786040"/>
          </a:xfrm>
        </p:grpSpPr>
        <p:grpSp>
          <p:nvGrpSpPr>
            <p:cNvPr id="542" name="Group 46"/>
            <p:cNvGrpSpPr/>
            <p:nvPr/>
          </p:nvGrpSpPr>
          <p:grpSpPr>
            <a:xfrm>
              <a:off x="1285920" y="1143000"/>
              <a:ext cx="282240" cy="2498760"/>
              <a:chOff x="1285920" y="1143000"/>
              <a:chExt cx="282240" cy="2498760"/>
            </a:xfrm>
          </p:grpSpPr>
          <p:sp>
            <p:nvSpPr>
              <p:cNvPr id="543" name="AutoShape 47"/>
              <p:cNvSpPr/>
              <p:nvPr/>
            </p:nvSpPr>
            <p:spPr>
              <a:xfrm>
                <a:off x="1285920" y="1143000"/>
                <a:ext cx="282240" cy="2498760"/>
              </a:xfrm>
              <a:custGeom>
                <a:avLst/>
                <a:gdLst>
                  <a:gd name="textAreaLeft" fmla="*/ 13680 w 282240"/>
                  <a:gd name="textAreaRight" fmla="*/ 268560 w 282240"/>
                  <a:gd name="textAreaTop" fmla="*/ 13680 h 2498760"/>
                  <a:gd name="textAreaBottom" fmla="*/ 2485080 h 2498760"/>
                </a:gdLst>
                <a:ahLst/>
                <a:rect l="textAreaLeft" t="textAreaTop" r="textAreaRight" b="textAreaBottom"/>
                <a:pathLst>
                  <a:path w="21600" h="191016">
                    <a:moveTo>
                      <a:pt x="3600" y="0"/>
                    </a:moveTo>
                    <a:arcTo wR="3600" hR="3600" stAng="16200000" swAng="-5400000"/>
                    <a:lnTo>
                      <a:pt x="0" y="187416"/>
                    </a:lnTo>
                    <a:arcTo wR="3600" hR="3600" stAng="10800000" swAng="-5400000"/>
                    <a:lnTo>
                      <a:pt x="18000" y="191016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ac090"/>
              </a:solidFill>
              <a:ln w="25560">
                <a:solidFill>
                  <a:srgbClr val="fac09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4" name="AutoShape 48"/>
              <p:cNvSpPr/>
              <p:nvPr/>
            </p:nvSpPr>
            <p:spPr>
              <a:xfrm>
                <a:off x="1355040" y="1276200"/>
                <a:ext cx="137160" cy="2293920"/>
              </a:xfrm>
              <a:custGeom>
                <a:avLst/>
                <a:gdLst>
                  <a:gd name="textAreaLeft" fmla="*/ 6480 w 137160"/>
                  <a:gd name="textAreaRight" fmla="*/ 130680 w 137160"/>
                  <a:gd name="textAreaTop" fmla="*/ 6480 h 2293920"/>
                  <a:gd name="textAreaBottom" fmla="*/ 2287440 h 2293920"/>
                </a:gdLst>
                <a:ahLst/>
                <a:rect l="textAreaLeft" t="textAreaTop" r="textAreaRight" b="textAreaBottom"/>
                <a:pathLst>
                  <a:path w="21600" h="360358">
                    <a:moveTo>
                      <a:pt x="3600" y="0"/>
                    </a:moveTo>
                    <a:arcTo wR="3600" hR="3600" stAng="16200000" swAng="-5400000"/>
                    <a:lnTo>
                      <a:pt x="0" y="356758"/>
                    </a:lnTo>
                    <a:arcTo wR="3600" hR="3600" stAng="10800000" swAng="-5400000"/>
                    <a:lnTo>
                      <a:pt x="18000" y="36035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45" name="Line 49"/>
            <p:cNvSpPr/>
            <p:nvPr/>
          </p:nvSpPr>
          <p:spPr>
            <a:xfrm flipH="1">
              <a:off x="1566720" y="1144440"/>
              <a:ext cx="2880" cy="2784600"/>
            </a:xfrm>
            <a:prstGeom prst="line">
              <a:avLst/>
            </a:prstGeom>
            <a:ln w="101520">
              <a:solidFill>
                <a:srgbClr val="fac0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46" name="AutoShape 50"/>
          <p:cNvSpPr/>
          <p:nvPr/>
        </p:nvSpPr>
        <p:spPr>
          <a:xfrm rot="5100000">
            <a:off x="3116160" y="1423800"/>
            <a:ext cx="45720" cy="46080"/>
          </a:xfrm>
          <a:custGeom>
            <a:avLst/>
            <a:gdLst>
              <a:gd name="textAreaLeft" fmla="*/ 18720 w 45720"/>
              <a:gd name="textAreaRight" fmla="*/ 27000 w 45720"/>
              <a:gd name="textAreaTop" fmla="*/ 19080 h 46080"/>
              <a:gd name="textAreaBottom" fmla="*/ 27000 h 46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AutoShape 51"/>
          <p:cNvSpPr/>
          <p:nvPr/>
        </p:nvSpPr>
        <p:spPr>
          <a:xfrm rot="5100000">
            <a:off x="3312720" y="1359000"/>
            <a:ext cx="46080" cy="46080"/>
          </a:xfrm>
          <a:custGeom>
            <a:avLst/>
            <a:gdLst>
              <a:gd name="textAreaLeft" fmla="*/ 19080 w 46080"/>
              <a:gd name="textAreaRight" fmla="*/ 27000 w 46080"/>
              <a:gd name="textAreaTop" fmla="*/ 19080 h 46080"/>
              <a:gd name="textAreaBottom" fmla="*/ 27000 h 46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AutoShape 52"/>
          <p:cNvSpPr/>
          <p:nvPr/>
        </p:nvSpPr>
        <p:spPr>
          <a:xfrm rot="5100000">
            <a:off x="2147400" y="1359000"/>
            <a:ext cx="46080" cy="46080"/>
          </a:xfrm>
          <a:custGeom>
            <a:avLst/>
            <a:gdLst>
              <a:gd name="textAreaLeft" fmla="*/ 19080 w 46080"/>
              <a:gd name="textAreaRight" fmla="*/ 27000 w 46080"/>
              <a:gd name="textAreaTop" fmla="*/ 19080 h 46080"/>
              <a:gd name="textAreaBottom" fmla="*/ 27000 h 46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AutoShape 53"/>
          <p:cNvSpPr/>
          <p:nvPr/>
        </p:nvSpPr>
        <p:spPr>
          <a:xfrm rot="5100000">
            <a:off x="2344320" y="1452600"/>
            <a:ext cx="46080" cy="46080"/>
          </a:xfrm>
          <a:custGeom>
            <a:avLst/>
            <a:gdLst>
              <a:gd name="textAreaLeft" fmla="*/ 19080 w 46080"/>
              <a:gd name="textAreaRight" fmla="*/ 27000 w 46080"/>
              <a:gd name="textAreaTop" fmla="*/ 19080 h 46080"/>
              <a:gd name="textAreaBottom" fmla="*/ 27000 h 46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AutoShape 54"/>
          <p:cNvSpPr/>
          <p:nvPr/>
        </p:nvSpPr>
        <p:spPr>
          <a:xfrm rot="5100000">
            <a:off x="2790360" y="1359000"/>
            <a:ext cx="46080" cy="46080"/>
          </a:xfrm>
          <a:custGeom>
            <a:avLst/>
            <a:gdLst>
              <a:gd name="textAreaLeft" fmla="*/ 19080 w 46080"/>
              <a:gd name="textAreaRight" fmla="*/ 27000 w 46080"/>
              <a:gd name="textAreaTop" fmla="*/ 19080 h 46080"/>
              <a:gd name="textAreaBottom" fmla="*/ 27000 h 46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AutoShape 55"/>
          <p:cNvSpPr/>
          <p:nvPr/>
        </p:nvSpPr>
        <p:spPr>
          <a:xfrm rot="14880000">
            <a:off x="1668240" y="4173120"/>
            <a:ext cx="428760" cy="1000080"/>
          </a:xfrm>
          <a:custGeom>
            <a:avLst/>
            <a:gdLst>
              <a:gd name="textAreaLeft" fmla="*/ 0 w 428760"/>
              <a:gd name="textAreaRight" fmla="*/ 429120 w 428760"/>
              <a:gd name="textAreaTop" fmla="*/ 0 h 1000080"/>
              <a:gd name="textAreaBottom" fmla="*/ 1000440 h 1000080"/>
            </a:gdLst>
            <a:ahLst/>
            <a:rect l="textAreaLeft" t="textAreaTop" r="textAreaRight" b="textAreaBottom"/>
            <a:pathLst>
              <a:path w="327890" h="942109">
                <a:moveTo>
                  <a:pt x="0" y="0"/>
                </a:moveTo>
                <a:cubicBezTo>
                  <a:pt x="98136" y="105063"/>
                  <a:pt x="196273" y="210127"/>
                  <a:pt x="249382" y="346363"/>
                </a:cubicBezTo>
                <a:cubicBezTo>
                  <a:pt x="302491" y="482599"/>
                  <a:pt x="309418" y="718127"/>
                  <a:pt x="318654" y="817418"/>
                </a:cubicBezTo>
                <a:cubicBezTo>
                  <a:pt x="327890" y="916709"/>
                  <a:pt x="316345" y="929409"/>
                  <a:pt x="304800" y="942109"/>
                </a:cubicBezTo>
              </a:path>
            </a:pathLst>
          </a:custGeom>
          <a:noFill/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52" name="Group 56"/>
          <p:cNvGrpSpPr/>
          <p:nvPr/>
        </p:nvGrpSpPr>
        <p:grpSpPr>
          <a:xfrm>
            <a:off x="1544760" y="214200"/>
            <a:ext cx="525240" cy="1212840"/>
            <a:chOff x="1544760" y="214200"/>
            <a:chExt cx="525240" cy="1212840"/>
          </a:xfrm>
        </p:grpSpPr>
        <p:pic>
          <p:nvPicPr>
            <p:cNvPr id="553" name="Picture 57" descr=""/>
            <p:cNvPicPr/>
            <p:nvPr/>
          </p:nvPicPr>
          <p:blipFill>
            <a:blip r:embed="rId7"/>
            <a:stretch/>
          </p:blipFill>
          <p:spPr>
            <a:xfrm>
              <a:off x="1754280" y="281160"/>
              <a:ext cx="127080" cy="10555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54" name="Group 58"/>
            <p:cNvGrpSpPr/>
            <p:nvPr/>
          </p:nvGrpSpPr>
          <p:grpSpPr>
            <a:xfrm>
              <a:off x="1544760" y="214200"/>
              <a:ext cx="506160" cy="412920"/>
              <a:chOff x="1544760" y="214200"/>
              <a:chExt cx="506160" cy="412920"/>
            </a:xfrm>
          </p:grpSpPr>
          <p:grpSp>
            <p:nvGrpSpPr>
              <p:cNvPr id="555" name="Group 59"/>
              <p:cNvGrpSpPr/>
              <p:nvPr/>
            </p:nvGrpSpPr>
            <p:grpSpPr>
              <a:xfrm>
                <a:off x="1601640" y="318960"/>
                <a:ext cx="412920" cy="155880"/>
                <a:chOff x="1601640" y="318960"/>
                <a:chExt cx="412920" cy="155880"/>
              </a:xfrm>
            </p:grpSpPr>
            <p:pic>
              <p:nvPicPr>
                <p:cNvPr id="556" name="Picture 60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601640" y="318960"/>
                  <a:ext cx="412920" cy="155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57" name="Text Box 61"/>
                <p:cNvSpPr/>
                <p:nvPr/>
              </p:nvSpPr>
              <p:spPr>
                <a:xfrm>
                  <a:off x="1657440" y="351000"/>
                  <a:ext cx="306360" cy="5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58" name="Group 62"/>
              <p:cNvGrpSpPr/>
              <p:nvPr/>
            </p:nvGrpSpPr>
            <p:grpSpPr>
              <a:xfrm>
                <a:off x="1601640" y="392040"/>
                <a:ext cx="412920" cy="160560"/>
                <a:chOff x="1601640" y="392040"/>
                <a:chExt cx="412920" cy="160560"/>
              </a:xfrm>
            </p:grpSpPr>
            <p:pic>
              <p:nvPicPr>
                <p:cNvPr id="559" name="Picture 63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601640" y="392040"/>
                  <a:ext cx="412920" cy="160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60" name="Text Box 64"/>
                <p:cNvSpPr/>
                <p:nvPr/>
              </p:nvSpPr>
              <p:spPr>
                <a:xfrm>
                  <a:off x="1657440" y="426960"/>
                  <a:ext cx="306360" cy="54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61" name="Group 65"/>
              <p:cNvGrpSpPr/>
              <p:nvPr/>
            </p:nvGrpSpPr>
            <p:grpSpPr>
              <a:xfrm>
                <a:off x="1544760" y="214200"/>
                <a:ext cx="506160" cy="203400"/>
                <a:chOff x="1544760" y="214200"/>
                <a:chExt cx="506160" cy="203400"/>
              </a:xfrm>
            </p:grpSpPr>
            <p:pic>
              <p:nvPicPr>
                <p:cNvPr id="562" name="Picture 66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544760" y="214200"/>
                  <a:ext cx="506160" cy="203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63" name="Text Box 67"/>
                <p:cNvSpPr/>
                <p:nvPr/>
              </p:nvSpPr>
              <p:spPr>
                <a:xfrm>
                  <a:off x="1603440" y="250920"/>
                  <a:ext cx="393480" cy="9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64" name="Group 68"/>
              <p:cNvGrpSpPr/>
              <p:nvPr/>
            </p:nvGrpSpPr>
            <p:grpSpPr>
              <a:xfrm>
                <a:off x="1601640" y="366840"/>
                <a:ext cx="412920" cy="160200"/>
                <a:chOff x="1601640" y="366840"/>
                <a:chExt cx="412920" cy="160200"/>
              </a:xfrm>
            </p:grpSpPr>
            <p:pic>
              <p:nvPicPr>
                <p:cNvPr id="565" name="Picture 69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1601640" y="366840"/>
                  <a:ext cx="412920" cy="160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66" name="Text Box 70"/>
                <p:cNvSpPr/>
                <p:nvPr/>
              </p:nvSpPr>
              <p:spPr>
                <a:xfrm>
                  <a:off x="1657440" y="401760"/>
                  <a:ext cx="306360" cy="54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67" name="Group 71"/>
              <p:cNvGrpSpPr/>
              <p:nvPr/>
            </p:nvGrpSpPr>
            <p:grpSpPr>
              <a:xfrm>
                <a:off x="1601640" y="419040"/>
                <a:ext cx="412920" cy="155520"/>
                <a:chOff x="1601640" y="419040"/>
                <a:chExt cx="412920" cy="155520"/>
              </a:xfrm>
            </p:grpSpPr>
            <p:pic>
              <p:nvPicPr>
                <p:cNvPr id="568" name="Picture 72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1601640" y="419040"/>
                  <a:ext cx="412920" cy="155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69" name="Text Box 73"/>
                <p:cNvSpPr/>
                <p:nvPr/>
              </p:nvSpPr>
              <p:spPr>
                <a:xfrm>
                  <a:off x="1657440" y="452520"/>
                  <a:ext cx="306360" cy="54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70" name="Group 74"/>
              <p:cNvGrpSpPr/>
              <p:nvPr/>
            </p:nvGrpSpPr>
            <p:grpSpPr>
              <a:xfrm>
                <a:off x="1601640" y="471600"/>
                <a:ext cx="412920" cy="155520"/>
                <a:chOff x="1601640" y="471600"/>
                <a:chExt cx="412920" cy="155520"/>
              </a:xfrm>
            </p:grpSpPr>
            <p:pic>
              <p:nvPicPr>
                <p:cNvPr id="571" name="Picture 75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1601640" y="471600"/>
                  <a:ext cx="412920" cy="155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72" name="Text Box 76"/>
                <p:cNvSpPr/>
                <p:nvPr/>
              </p:nvSpPr>
              <p:spPr>
                <a:xfrm>
                  <a:off x="1657440" y="503280"/>
                  <a:ext cx="306360" cy="54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73" name="Group 77"/>
            <p:cNvGrpSpPr/>
            <p:nvPr/>
          </p:nvGrpSpPr>
          <p:grpSpPr>
            <a:xfrm>
              <a:off x="1577880" y="1042920"/>
              <a:ext cx="492120" cy="384120"/>
              <a:chOff x="1577880" y="1042920"/>
              <a:chExt cx="492120" cy="384120"/>
            </a:xfrm>
          </p:grpSpPr>
          <p:pic>
            <p:nvPicPr>
              <p:cNvPr id="574" name="Picture 78" descr=""/>
              <p:cNvPicPr/>
              <p:nvPr/>
            </p:nvPicPr>
            <p:blipFill>
              <a:blip r:embed="rId14"/>
              <a:stretch/>
            </p:blipFill>
            <p:spPr>
              <a:xfrm>
                <a:off x="1577880" y="1042920"/>
                <a:ext cx="492120" cy="384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5" name="Text Box 79"/>
              <p:cNvSpPr/>
              <p:nvPr/>
            </p:nvSpPr>
            <p:spPr>
              <a:xfrm>
                <a:off x="1652760" y="1092240"/>
                <a:ext cx="342720" cy="237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576" name="Group 80"/>
          <p:cNvGrpSpPr/>
          <p:nvPr/>
        </p:nvGrpSpPr>
        <p:grpSpPr>
          <a:xfrm>
            <a:off x="3473280" y="214200"/>
            <a:ext cx="525600" cy="1212840"/>
            <a:chOff x="3473280" y="214200"/>
            <a:chExt cx="525600" cy="1212840"/>
          </a:xfrm>
        </p:grpSpPr>
        <p:pic>
          <p:nvPicPr>
            <p:cNvPr id="577" name="Picture 81" descr=""/>
            <p:cNvPicPr/>
            <p:nvPr/>
          </p:nvPicPr>
          <p:blipFill>
            <a:blip r:embed="rId15"/>
            <a:stretch/>
          </p:blipFill>
          <p:spPr>
            <a:xfrm>
              <a:off x="3681360" y="281160"/>
              <a:ext cx="128520" cy="10555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78" name="Group 82"/>
            <p:cNvGrpSpPr/>
            <p:nvPr/>
          </p:nvGrpSpPr>
          <p:grpSpPr>
            <a:xfrm>
              <a:off x="3473280" y="214200"/>
              <a:ext cx="509760" cy="412920"/>
              <a:chOff x="3473280" y="214200"/>
              <a:chExt cx="509760" cy="412920"/>
            </a:xfrm>
          </p:grpSpPr>
          <p:grpSp>
            <p:nvGrpSpPr>
              <p:cNvPr id="579" name="Group 83"/>
              <p:cNvGrpSpPr/>
              <p:nvPr/>
            </p:nvGrpSpPr>
            <p:grpSpPr>
              <a:xfrm>
                <a:off x="3530520" y="318960"/>
                <a:ext cx="414360" cy="155880"/>
                <a:chOff x="3530520" y="318960"/>
                <a:chExt cx="414360" cy="155880"/>
              </a:xfrm>
            </p:grpSpPr>
            <p:pic>
              <p:nvPicPr>
                <p:cNvPr id="580" name="Picture 84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3530520" y="318960"/>
                  <a:ext cx="414360" cy="155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81" name="Text Box 85"/>
                <p:cNvSpPr/>
                <p:nvPr/>
              </p:nvSpPr>
              <p:spPr>
                <a:xfrm>
                  <a:off x="3584520" y="351000"/>
                  <a:ext cx="311040" cy="5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82" name="Group 86"/>
              <p:cNvGrpSpPr/>
              <p:nvPr/>
            </p:nvGrpSpPr>
            <p:grpSpPr>
              <a:xfrm>
                <a:off x="3530520" y="392040"/>
                <a:ext cx="414360" cy="160560"/>
                <a:chOff x="3530520" y="392040"/>
                <a:chExt cx="414360" cy="160560"/>
              </a:xfrm>
            </p:grpSpPr>
            <p:pic>
              <p:nvPicPr>
                <p:cNvPr id="583" name="Picture 87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3530520" y="392040"/>
                  <a:ext cx="414360" cy="160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84" name="Text Box 88"/>
                <p:cNvSpPr/>
                <p:nvPr/>
              </p:nvSpPr>
              <p:spPr>
                <a:xfrm>
                  <a:off x="3584520" y="426960"/>
                  <a:ext cx="311040" cy="54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85" name="Group 89"/>
              <p:cNvGrpSpPr/>
              <p:nvPr/>
            </p:nvGrpSpPr>
            <p:grpSpPr>
              <a:xfrm>
                <a:off x="3473280" y="214200"/>
                <a:ext cx="509760" cy="203400"/>
                <a:chOff x="3473280" y="214200"/>
                <a:chExt cx="509760" cy="203400"/>
              </a:xfrm>
            </p:grpSpPr>
            <p:pic>
              <p:nvPicPr>
                <p:cNvPr id="586" name="Picture 90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3473280" y="214200"/>
                  <a:ext cx="509760" cy="203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87" name="Text Box 91"/>
                <p:cNvSpPr/>
                <p:nvPr/>
              </p:nvSpPr>
              <p:spPr>
                <a:xfrm>
                  <a:off x="3530520" y="250920"/>
                  <a:ext cx="399960" cy="9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88" name="Group 92"/>
              <p:cNvGrpSpPr/>
              <p:nvPr/>
            </p:nvGrpSpPr>
            <p:grpSpPr>
              <a:xfrm>
                <a:off x="3530520" y="366840"/>
                <a:ext cx="414360" cy="160200"/>
                <a:chOff x="3530520" y="366840"/>
                <a:chExt cx="414360" cy="160200"/>
              </a:xfrm>
            </p:grpSpPr>
            <p:pic>
              <p:nvPicPr>
                <p:cNvPr id="589" name="Picture 93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3530520" y="366840"/>
                  <a:ext cx="414360" cy="160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90" name="Text Box 94"/>
                <p:cNvSpPr/>
                <p:nvPr/>
              </p:nvSpPr>
              <p:spPr>
                <a:xfrm>
                  <a:off x="3584520" y="401760"/>
                  <a:ext cx="311040" cy="54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91" name="Group 95"/>
              <p:cNvGrpSpPr/>
              <p:nvPr/>
            </p:nvGrpSpPr>
            <p:grpSpPr>
              <a:xfrm>
                <a:off x="3530520" y="419040"/>
                <a:ext cx="414360" cy="155520"/>
                <a:chOff x="3530520" y="419040"/>
                <a:chExt cx="414360" cy="155520"/>
              </a:xfrm>
            </p:grpSpPr>
            <p:pic>
              <p:nvPicPr>
                <p:cNvPr id="592" name="Picture 96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3530520" y="419040"/>
                  <a:ext cx="414360" cy="155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93" name="Text Box 97"/>
                <p:cNvSpPr/>
                <p:nvPr/>
              </p:nvSpPr>
              <p:spPr>
                <a:xfrm>
                  <a:off x="3584520" y="452520"/>
                  <a:ext cx="311040" cy="54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94" name="Group 98"/>
              <p:cNvGrpSpPr/>
              <p:nvPr/>
            </p:nvGrpSpPr>
            <p:grpSpPr>
              <a:xfrm>
                <a:off x="3530520" y="471600"/>
                <a:ext cx="414360" cy="155520"/>
                <a:chOff x="3530520" y="471600"/>
                <a:chExt cx="414360" cy="155520"/>
              </a:xfrm>
            </p:grpSpPr>
            <p:pic>
              <p:nvPicPr>
                <p:cNvPr id="595" name="Picture 99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3530520" y="471600"/>
                  <a:ext cx="414360" cy="155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96" name="Text Box 100"/>
                <p:cNvSpPr/>
                <p:nvPr/>
              </p:nvSpPr>
              <p:spPr>
                <a:xfrm>
                  <a:off x="3584520" y="503280"/>
                  <a:ext cx="311040" cy="54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97" name="Group 101"/>
            <p:cNvGrpSpPr/>
            <p:nvPr/>
          </p:nvGrpSpPr>
          <p:grpSpPr>
            <a:xfrm>
              <a:off x="3503520" y="1042920"/>
              <a:ext cx="495360" cy="384120"/>
              <a:chOff x="3503520" y="1042920"/>
              <a:chExt cx="495360" cy="384120"/>
            </a:xfrm>
          </p:grpSpPr>
          <p:pic>
            <p:nvPicPr>
              <p:cNvPr id="598" name="Picture 102" descr=""/>
              <p:cNvPicPr/>
              <p:nvPr/>
            </p:nvPicPr>
            <p:blipFill>
              <a:blip r:embed="rId22"/>
              <a:stretch/>
            </p:blipFill>
            <p:spPr>
              <a:xfrm>
                <a:off x="3503520" y="1042920"/>
                <a:ext cx="495360" cy="384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9" name="Text Box 103"/>
              <p:cNvSpPr/>
              <p:nvPr/>
            </p:nvSpPr>
            <p:spPr>
              <a:xfrm>
                <a:off x="3581280" y="1092240"/>
                <a:ext cx="344520" cy="237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0" name="Group 1"/>
          <p:cNvGrpSpPr/>
          <p:nvPr/>
        </p:nvGrpSpPr>
        <p:grpSpPr>
          <a:xfrm>
            <a:off x="1566720" y="1279440"/>
            <a:ext cx="2509920" cy="2657520"/>
            <a:chOff x="1566720" y="1279440"/>
            <a:chExt cx="2509920" cy="2657520"/>
          </a:xfrm>
        </p:grpSpPr>
        <p:pic>
          <p:nvPicPr>
            <p:cNvPr id="601" name="Picture 2" descr=""/>
            <p:cNvPicPr/>
            <p:nvPr/>
          </p:nvPicPr>
          <p:blipFill>
            <a:blip r:embed="rId1"/>
            <a:stretch/>
          </p:blipFill>
          <p:spPr>
            <a:xfrm>
              <a:off x="1566720" y="1279440"/>
              <a:ext cx="2509920" cy="265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2" name="Text Box 3"/>
            <p:cNvSpPr/>
            <p:nvPr/>
          </p:nvSpPr>
          <p:spPr>
            <a:xfrm>
              <a:off x="1571760" y="1285920"/>
              <a:ext cx="2498760" cy="264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03" name="Group 4"/>
          <p:cNvGrpSpPr/>
          <p:nvPr/>
        </p:nvGrpSpPr>
        <p:grpSpPr>
          <a:xfrm>
            <a:off x="1785960" y="4500720"/>
            <a:ext cx="1998720" cy="1998360"/>
            <a:chOff x="1785960" y="4500720"/>
            <a:chExt cx="1998720" cy="1998360"/>
          </a:xfrm>
        </p:grpSpPr>
        <p:grpSp>
          <p:nvGrpSpPr>
            <p:cNvPr id="604" name="Group 5"/>
            <p:cNvGrpSpPr/>
            <p:nvPr/>
          </p:nvGrpSpPr>
          <p:grpSpPr>
            <a:xfrm>
              <a:off x="1785960" y="4500720"/>
              <a:ext cx="1998720" cy="1998360"/>
              <a:chOff x="1785960" y="4500720"/>
              <a:chExt cx="1998720" cy="1998360"/>
            </a:xfrm>
          </p:grpSpPr>
          <p:pic>
            <p:nvPicPr>
              <p:cNvPr id="605" name="Picture 6" descr=""/>
              <p:cNvPicPr/>
              <p:nvPr/>
            </p:nvPicPr>
            <p:blipFill>
              <a:blip r:embed="rId2"/>
              <a:stretch/>
            </p:blipFill>
            <p:spPr>
              <a:xfrm>
                <a:off x="1785960" y="4500720"/>
                <a:ext cx="1998720" cy="1998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6" name="Text Box 7"/>
              <p:cNvSpPr/>
              <p:nvPr/>
            </p:nvSpPr>
            <p:spPr>
              <a:xfrm rot="17940000">
                <a:off x="2092320" y="4806360"/>
                <a:ext cx="1384200" cy="138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07" name="AutoShape 8"/>
            <p:cNvSpPr/>
            <p:nvPr/>
          </p:nvSpPr>
          <p:spPr>
            <a:xfrm rot="16860000">
              <a:off x="1945440" y="4658040"/>
              <a:ext cx="1677960" cy="1682640"/>
            </a:xfrm>
            <a:custGeom>
              <a:avLst/>
              <a:gdLst>
                <a:gd name="textAreaLeft" fmla="*/ 772200 w 1677960"/>
                <a:gd name="textAreaRight" fmla="*/ 905760 w 1677960"/>
                <a:gd name="textAreaTop" fmla="*/ 774360 h 1682640"/>
                <a:gd name="textAreaBottom" fmla="*/ 908280 h 1682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9941" y="9941"/>
                  </a:lnTo>
                  <a:lnTo>
                    <a:pt x="10800" y="0"/>
                  </a:lnTo>
                  <a:lnTo>
                    <a:pt x="11659" y="9941"/>
                  </a:lnTo>
                  <a:lnTo>
                    <a:pt x="21600" y="10800"/>
                  </a:lnTo>
                  <a:lnTo>
                    <a:pt x="11659" y="11659"/>
                  </a:lnTo>
                  <a:lnTo>
                    <a:pt x="10800" y="21600"/>
                  </a:lnTo>
                  <a:lnTo>
                    <a:pt x="9941" y="11659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ebf1de"/>
            </a:solidFill>
            <a:ln w="25560">
              <a:solidFill>
                <a:srgbClr val="ebf1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8" name="Oval 9"/>
            <p:cNvSpPr/>
            <p:nvPr/>
          </p:nvSpPr>
          <p:spPr>
            <a:xfrm rot="17940000">
              <a:off x="2645640" y="5359680"/>
              <a:ext cx="277560" cy="279360"/>
            </a:xfrm>
            <a:prstGeom prst="ellipse">
              <a:avLst/>
            </a:prstGeom>
            <a:gradFill rotWithShape="0">
              <a:gsLst>
                <a:gs pos="0">
                  <a:srgbClr val="156b13"/>
                </a:gs>
                <a:gs pos="100000">
                  <a:srgbClr val="63252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09" name="Group 10"/>
          <p:cNvGrpSpPr/>
          <p:nvPr/>
        </p:nvGrpSpPr>
        <p:grpSpPr>
          <a:xfrm>
            <a:off x="1704960" y="3890880"/>
            <a:ext cx="2663280" cy="2539440"/>
            <a:chOff x="1704960" y="3890880"/>
            <a:chExt cx="2663280" cy="2539440"/>
          </a:xfrm>
        </p:grpSpPr>
        <p:sp>
          <p:nvSpPr>
            <p:cNvPr id="610" name="AutoShape 11"/>
            <p:cNvSpPr/>
            <p:nvPr/>
          </p:nvSpPr>
          <p:spPr>
            <a:xfrm rot="1800000">
              <a:off x="2000160" y="4292640"/>
              <a:ext cx="2072880" cy="1735560"/>
            </a:xfrm>
            <a:custGeom>
              <a:avLst/>
              <a:gdLst>
                <a:gd name="textAreaLeft" fmla="*/ 42840 w 2072880"/>
                <a:gd name="textAreaRight" fmla="*/ 2073240 w 2072880"/>
                <a:gd name="textAreaTop" fmla="*/ 0 h 1735560"/>
                <a:gd name="textAreaBottom" fmla="*/ 867960 h 1735560"/>
              </a:gdLst>
              <a:ahLst/>
              <a:rect l="textAreaLeft" t="textAreaTop" r="textAreaRight" b="textAreaBottom"/>
              <a:pathLst>
                <a:path w="1755053" h="1113994">
                  <a:moveTo>
                    <a:pt x="36404" y="398230"/>
                  </a:moveTo>
                  <a:lnTo>
                    <a:pt x="36403" y="398229"/>
                  </a:lnTo>
                  <a:cubicBezTo>
                    <a:pt x="147086" y="161984"/>
                    <a:pt x="489222" y="-1"/>
                    <a:pt x="877527" y="0"/>
                  </a:cubicBezTo>
                  <a:cubicBezTo>
                    <a:pt x="1362171" y="0"/>
                    <a:pt x="1755054" y="249376"/>
                    <a:pt x="1755054" y="556997"/>
                  </a:cubicBezTo>
                  <a:cubicBezTo>
                    <a:pt x="1755054" y="556997"/>
                    <a:pt x="1755053" y="556998"/>
                    <a:pt x="1755053" y="556998"/>
                  </a:cubicBezTo>
                  <a:lnTo>
                    <a:pt x="1476555" y="556997"/>
                  </a:lnTo>
                  <a:cubicBezTo>
                    <a:pt x="1476555" y="403186"/>
                    <a:pt x="1208361" y="278498"/>
                    <a:pt x="877527" y="278498"/>
                  </a:cubicBezTo>
                  <a:cubicBezTo>
                    <a:pt x="633707" y="278497"/>
                    <a:pt x="414216" y="347203"/>
                    <a:pt x="322498" y="452233"/>
                  </a:cubicBezTo>
                  <a:close/>
                </a:path>
              </a:pathLst>
            </a:custGeom>
            <a:gradFill rotWithShape="0">
              <a:gsLst>
                <a:gs pos="0">
                  <a:srgbClr val="156b13"/>
                </a:gs>
                <a:gs pos="100000">
                  <a:srgbClr val="ddebcf"/>
                </a:gs>
              </a:gsLst>
              <a:lin ang="5400000"/>
            </a:gradFill>
            <a:ln w="255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1" name="Oval 12"/>
            <p:cNvSpPr/>
            <p:nvPr/>
          </p:nvSpPr>
          <p:spPr>
            <a:xfrm rot="18360000">
              <a:off x="2283480" y="4239360"/>
              <a:ext cx="418680" cy="317160"/>
            </a:xfrm>
            <a:prstGeom prst="ellipse">
              <a:avLst/>
            </a:prstGeom>
            <a:gradFill rotWithShape="0">
              <a:gsLst>
                <a:gs pos="0">
                  <a:srgbClr val="156b13"/>
                </a:gs>
                <a:gs pos="100000">
                  <a:srgbClr val="63252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" name="Oval 13"/>
            <p:cNvSpPr/>
            <p:nvPr/>
          </p:nvSpPr>
          <p:spPr>
            <a:xfrm rot="18360000">
              <a:off x="3560760" y="5335200"/>
              <a:ext cx="418680" cy="317160"/>
            </a:xfrm>
            <a:prstGeom prst="ellipse">
              <a:avLst/>
            </a:prstGeom>
            <a:gradFill rotWithShape="0">
              <a:gsLst>
                <a:gs pos="0">
                  <a:srgbClr val="156b13"/>
                </a:gs>
                <a:gs pos="100000">
                  <a:srgbClr val="63252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13" name="Group 14"/>
          <p:cNvGrpSpPr/>
          <p:nvPr/>
        </p:nvGrpSpPr>
        <p:grpSpPr>
          <a:xfrm>
            <a:off x="2500200" y="2786040"/>
            <a:ext cx="1096920" cy="2152800"/>
            <a:chOff x="2500200" y="2786040"/>
            <a:chExt cx="1096920" cy="2152800"/>
          </a:xfrm>
        </p:grpSpPr>
        <p:sp>
          <p:nvSpPr>
            <p:cNvPr id="614" name="AutoShape 15"/>
            <p:cNvSpPr/>
            <p:nvPr/>
          </p:nvSpPr>
          <p:spPr>
            <a:xfrm>
              <a:off x="2500200" y="2786040"/>
              <a:ext cx="1065240" cy="2103480"/>
            </a:xfrm>
            <a:custGeom>
              <a:avLst/>
              <a:gdLst>
                <a:gd name="textAreaLeft" fmla="*/ 0 w 1065240"/>
                <a:gd name="textAreaRight" fmla="*/ 1065600 w 1065240"/>
                <a:gd name="textAreaTop" fmla="*/ 0 h 2103480"/>
                <a:gd name="textAreaBottom" fmla="*/ 2103840 h 2103480"/>
              </a:gdLst>
              <a:ahLst/>
              <a:rect l="textAreaLeft" t="textAreaTop" r="textAreaRight" b="textAreaBottom"/>
              <a:pathLst>
                <a:path w="1066800" h="2105891">
                  <a:moveTo>
                    <a:pt x="0" y="0"/>
                  </a:moveTo>
                  <a:lnTo>
                    <a:pt x="249382" y="0"/>
                  </a:lnTo>
                  <a:lnTo>
                    <a:pt x="1066800" y="2105891"/>
                  </a:lnTo>
                  <a:lnTo>
                    <a:pt x="831273" y="2105891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3"/>
              <a:srcRect/>
              <a:stretch/>
            </a:blipFill>
            <a:ln w="25560">
              <a:solidFill>
                <a:srgbClr val="77933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5" name="Oval 16"/>
            <p:cNvSpPr/>
            <p:nvPr/>
          </p:nvSpPr>
          <p:spPr>
            <a:xfrm>
              <a:off x="3241800" y="4583160"/>
              <a:ext cx="355320" cy="355680"/>
            </a:xfrm>
            <a:prstGeom prst="ellipse">
              <a:avLst/>
            </a:prstGeom>
            <a:gradFill rotWithShape="0">
              <a:gsLst>
                <a:gs pos="0">
                  <a:srgbClr val="156b13"/>
                </a:gs>
                <a:gs pos="100000">
                  <a:srgbClr val="d7e4b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16" name="AutoShape 17"/>
          <p:cNvSpPr/>
          <p:nvPr/>
        </p:nvSpPr>
        <p:spPr>
          <a:xfrm>
            <a:off x="3754440" y="4489560"/>
            <a:ext cx="328680" cy="941400"/>
          </a:xfrm>
          <a:custGeom>
            <a:avLst/>
            <a:gdLst>
              <a:gd name="textAreaLeft" fmla="*/ 0 w 328680"/>
              <a:gd name="textAreaRight" fmla="*/ 329040 w 328680"/>
              <a:gd name="textAreaTop" fmla="*/ 0 h 941400"/>
              <a:gd name="textAreaBottom" fmla="*/ 941760 h 941400"/>
            </a:gdLst>
            <a:ahLst/>
            <a:rect l="textAreaLeft" t="textAreaTop" r="textAreaRight" b="textAreaBottom"/>
            <a:pathLst>
              <a:path w="327890" h="942109">
                <a:moveTo>
                  <a:pt x="0" y="0"/>
                </a:moveTo>
                <a:cubicBezTo>
                  <a:pt x="98136" y="105063"/>
                  <a:pt x="196273" y="210127"/>
                  <a:pt x="249382" y="346363"/>
                </a:cubicBezTo>
                <a:cubicBezTo>
                  <a:pt x="302491" y="482599"/>
                  <a:pt x="309418" y="718127"/>
                  <a:pt x="318654" y="817418"/>
                </a:cubicBezTo>
                <a:cubicBezTo>
                  <a:pt x="327890" y="916709"/>
                  <a:pt x="316345" y="929409"/>
                  <a:pt x="304800" y="942109"/>
                </a:cubicBezTo>
              </a:path>
            </a:pathLst>
          </a:custGeom>
          <a:noFill/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Rectangle 18"/>
          <p:cNvSpPr/>
          <p:nvPr/>
        </p:nvSpPr>
        <p:spPr>
          <a:xfrm>
            <a:off x="1571760" y="1357200"/>
            <a:ext cx="2500200" cy="785880"/>
          </a:xfrm>
          <a:prstGeom prst="rect">
            <a:avLst/>
          </a:prstGeom>
          <a:gradFill rotWithShape="0">
            <a:gsLst>
              <a:gs pos="0">
                <a:srgbClr val="8c3d91"/>
              </a:gs>
              <a:gs pos="100000">
                <a:srgbClr val="660066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18" name="Group 19"/>
          <p:cNvGrpSpPr/>
          <p:nvPr/>
        </p:nvGrpSpPr>
        <p:grpSpPr>
          <a:xfrm>
            <a:off x="928800" y="428760"/>
            <a:ext cx="3713040" cy="923760"/>
            <a:chOff x="928800" y="428760"/>
            <a:chExt cx="3713040" cy="923760"/>
          </a:xfrm>
        </p:grpSpPr>
        <p:sp>
          <p:nvSpPr>
            <p:cNvPr id="619" name="AutoShape 20"/>
            <p:cNvSpPr/>
            <p:nvPr/>
          </p:nvSpPr>
          <p:spPr>
            <a:xfrm>
              <a:off x="1006560" y="612720"/>
              <a:ext cx="1031760" cy="568440"/>
            </a:xfrm>
            <a:custGeom>
              <a:avLst/>
              <a:gdLst>
                <a:gd name="textAreaLeft" fmla="*/ 0 w 1031760"/>
                <a:gd name="textAreaRight" fmla="*/ 1032120 w 1031760"/>
                <a:gd name="textAreaTop" fmla="*/ 0 h 568440"/>
                <a:gd name="textAreaBottom" fmla="*/ 568800 h 568440"/>
              </a:gdLst>
              <a:ahLst/>
              <a:rect l="textAreaLeft" t="textAreaTop" r="textAreaRight" b="textAreaBottom"/>
              <a:pathLst>
                <a:path w="1482437" h="817418">
                  <a:moveTo>
                    <a:pt x="0" y="0"/>
                  </a:moveTo>
                  <a:lnTo>
                    <a:pt x="512618" y="0"/>
                  </a:lnTo>
                  <a:lnTo>
                    <a:pt x="1052946" y="263237"/>
                  </a:lnTo>
                  <a:lnTo>
                    <a:pt x="1482437" y="817418"/>
                  </a:lnTo>
                  <a:lnTo>
                    <a:pt x="872837" y="789709"/>
                  </a:lnTo>
                  <a:lnTo>
                    <a:pt x="595746" y="526473"/>
                  </a:lnTo>
                  <a:lnTo>
                    <a:pt x="13855" y="48490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Rectangle 21"/>
            <p:cNvSpPr/>
            <p:nvPr/>
          </p:nvSpPr>
          <p:spPr>
            <a:xfrm>
              <a:off x="928800" y="428760"/>
              <a:ext cx="147600" cy="247680"/>
            </a:xfrm>
            <a:prstGeom prst="rect">
              <a:avLst/>
            </a:prstGeom>
            <a:solidFill>
              <a:srgbClr val="fac090"/>
            </a:solidFill>
            <a:ln w="57240">
              <a:solidFill>
                <a:srgbClr val="fac0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Rectangle 22"/>
            <p:cNvSpPr/>
            <p:nvPr/>
          </p:nvSpPr>
          <p:spPr>
            <a:xfrm>
              <a:off x="928800" y="876240"/>
              <a:ext cx="196560" cy="247680"/>
            </a:xfrm>
            <a:prstGeom prst="rect">
              <a:avLst/>
            </a:prstGeom>
            <a:solidFill>
              <a:srgbClr val="fac090"/>
            </a:solidFill>
            <a:ln w="57240">
              <a:solidFill>
                <a:srgbClr val="fac0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AutoShape 23"/>
            <p:cNvSpPr/>
            <p:nvPr/>
          </p:nvSpPr>
          <p:spPr>
            <a:xfrm>
              <a:off x="977760" y="477720"/>
              <a:ext cx="1176480" cy="743040"/>
            </a:xfrm>
            <a:custGeom>
              <a:avLst/>
              <a:gdLst>
                <a:gd name="textAreaLeft" fmla="*/ 0 w 1176480"/>
                <a:gd name="textAreaRight" fmla="*/ 1176840 w 1176480"/>
                <a:gd name="textAreaTop" fmla="*/ 0 h 743040"/>
                <a:gd name="textAreaBottom" fmla="*/ 743400 h 743040"/>
              </a:gdLst>
              <a:ahLst/>
              <a:rect l="textAreaLeft" t="textAreaTop" r="textAreaRight" b="textAreaBottom"/>
              <a:pathLst>
                <a:path w="1690255" h="1066800">
                  <a:moveTo>
                    <a:pt x="27709" y="32015"/>
                  </a:moveTo>
                  <a:lnTo>
                    <a:pt x="13855" y="27709"/>
                  </a:lnTo>
                  <a:lnTo>
                    <a:pt x="471055" y="27709"/>
                  </a:lnTo>
                  <a:lnTo>
                    <a:pt x="803564" y="124691"/>
                  </a:lnTo>
                  <a:lnTo>
                    <a:pt x="1108364" y="290945"/>
                  </a:lnTo>
                  <a:lnTo>
                    <a:pt x="1246909" y="207818"/>
                  </a:lnTo>
                  <a:lnTo>
                    <a:pt x="1690255" y="152400"/>
                  </a:lnTo>
                  <a:lnTo>
                    <a:pt x="1690255" y="415636"/>
                  </a:lnTo>
                  <a:lnTo>
                    <a:pt x="1537855" y="374073"/>
                  </a:lnTo>
                  <a:lnTo>
                    <a:pt x="1343891" y="387927"/>
                  </a:lnTo>
                  <a:lnTo>
                    <a:pt x="1274619" y="484909"/>
                  </a:lnTo>
                  <a:lnTo>
                    <a:pt x="1274619" y="623454"/>
                  </a:lnTo>
                  <a:lnTo>
                    <a:pt x="1648691" y="942109"/>
                  </a:lnTo>
                  <a:lnTo>
                    <a:pt x="1648691" y="1066800"/>
                  </a:lnTo>
                  <a:lnTo>
                    <a:pt x="1468582" y="1039091"/>
                  </a:lnTo>
                  <a:lnTo>
                    <a:pt x="1025237" y="651163"/>
                  </a:lnTo>
                  <a:lnTo>
                    <a:pt x="997528" y="484909"/>
                  </a:lnTo>
                  <a:lnTo>
                    <a:pt x="748146" y="346363"/>
                  </a:lnTo>
                  <a:lnTo>
                    <a:pt x="457200" y="249382"/>
                  </a:lnTo>
                  <a:lnTo>
                    <a:pt x="13855" y="235527"/>
                  </a:lnTo>
                  <a:lnTo>
                    <a:pt x="0" y="0"/>
                  </a:lnTo>
                  <a:lnTo>
                    <a:pt x="27709" y="32015"/>
                  </a:lnTo>
                  <a:close/>
                </a:path>
              </a:pathLst>
            </a:custGeom>
            <a:solidFill>
              <a:srgbClr val="fac090"/>
            </a:solidFill>
            <a:ln w="25560">
              <a:solidFill>
                <a:srgbClr val="fac0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AutoShape 24"/>
            <p:cNvSpPr/>
            <p:nvPr/>
          </p:nvSpPr>
          <p:spPr>
            <a:xfrm>
              <a:off x="1084320" y="863640"/>
              <a:ext cx="606240" cy="307800"/>
            </a:xfrm>
            <a:custGeom>
              <a:avLst/>
              <a:gdLst>
                <a:gd name="textAreaLeft" fmla="*/ 0 w 606240"/>
                <a:gd name="textAreaRight" fmla="*/ 606600 w 606240"/>
                <a:gd name="textAreaTop" fmla="*/ 0 h 307800"/>
                <a:gd name="textAreaBottom" fmla="*/ 308160 h 307800"/>
              </a:gdLst>
              <a:ahLst/>
              <a:rect l="textAreaLeft" t="textAreaTop" r="textAreaRight" b="textAreaBottom"/>
              <a:pathLst>
                <a:path w="872836" h="443346">
                  <a:moveTo>
                    <a:pt x="0" y="0"/>
                  </a:moveTo>
                  <a:lnTo>
                    <a:pt x="263236" y="0"/>
                  </a:lnTo>
                  <a:lnTo>
                    <a:pt x="512618" y="69273"/>
                  </a:lnTo>
                  <a:lnTo>
                    <a:pt x="803563" y="263237"/>
                  </a:lnTo>
                  <a:lnTo>
                    <a:pt x="872836" y="443346"/>
                  </a:lnTo>
                  <a:lnTo>
                    <a:pt x="651163" y="443346"/>
                  </a:lnTo>
                  <a:lnTo>
                    <a:pt x="568036" y="304800"/>
                  </a:lnTo>
                  <a:lnTo>
                    <a:pt x="332509" y="193964"/>
                  </a:lnTo>
                  <a:lnTo>
                    <a:pt x="13854" y="16625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c090"/>
            </a:solidFill>
            <a:ln w="25560">
              <a:solidFill>
                <a:srgbClr val="fac0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AutoShape 25"/>
            <p:cNvSpPr/>
            <p:nvPr/>
          </p:nvSpPr>
          <p:spPr>
            <a:xfrm flipH="1">
              <a:off x="3540240" y="612720"/>
              <a:ext cx="1030320" cy="568440"/>
            </a:xfrm>
            <a:custGeom>
              <a:avLst/>
              <a:gdLst>
                <a:gd name="textAreaLeft" fmla="*/ 360 w 1030320"/>
                <a:gd name="textAreaRight" fmla="*/ 1031040 w 1030320"/>
                <a:gd name="textAreaTop" fmla="*/ 0 h 568440"/>
                <a:gd name="textAreaBottom" fmla="*/ 568800 h 568440"/>
              </a:gdLst>
              <a:ahLst/>
              <a:rect l="textAreaLeft" t="textAreaTop" r="textAreaRight" b="textAreaBottom"/>
              <a:pathLst>
                <a:path w="1482437" h="817418">
                  <a:moveTo>
                    <a:pt x="0" y="0"/>
                  </a:moveTo>
                  <a:lnTo>
                    <a:pt x="512618" y="0"/>
                  </a:lnTo>
                  <a:lnTo>
                    <a:pt x="1052946" y="263237"/>
                  </a:lnTo>
                  <a:lnTo>
                    <a:pt x="1482437" y="817418"/>
                  </a:lnTo>
                  <a:lnTo>
                    <a:pt x="872837" y="789709"/>
                  </a:lnTo>
                  <a:lnTo>
                    <a:pt x="595746" y="526473"/>
                  </a:lnTo>
                  <a:lnTo>
                    <a:pt x="13855" y="48490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Rectangle 26"/>
            <p:cNvSpPr/>
            <p:nvPr/>
          </p:nvSpPr>
          <p:spPr>
            <a:xfrm flipH="1">
              <a:off x="4494240" y="428760"/>
              <a:ext cx="147600" cy="247680"/>
            </a:xfrm>
            <a:prstGeom prst="rect">
              <a:avLst/>
            </a:prstGeom>
            <a:solidFill>
              <a:srgbClr val="fac090"/>
            </a:solidFill>
            <a:ln w="57240">
              <a:solidFill>
                <a:srgbClr val="fac0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Rectangle 27"/>
            <p:cNvSpPr/>
            <p:nvPr/>
          </p:nvSpPr>
          <p:spPr>
            <a:xfrm flipH="1">
              <a:off x="4442760" y="876240"/>
              <a:ext cx="196920" cy="247680"/>
            </a:xfrm>
            <a:prstGeom prst="rect">
              <a:avLst/>
            </a:prstGeom>
            <a:solidFill>
              <a:srgbClr val="fac090"/>
            </a:solidFill>
            <a:ln w="57240">
              <a:solidFill>
                <a:srgbClr val="fac0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AutoShape 28"/>
            <p:cNvSpPr/>
            <p:nvPr/>
          </p:nvSpPr>
          <p:spPr>
            <a:xfrm flipH="1">
              <a:off x="3415680" y="477720"/>
              <a:ext cx="1176120" cy="743040"/>
            </a:xfrm>
            <a:custGeom>
              <a:avLst/>
              <a:gdLst>
                <a:gd name="textAreaLeft" fmla="*/ -360 w 1176120"/>
                <a:gd name="textAreaRight" fmla="*/ 1176120 w 1176120"/>
                <a:gd name="textAreaTop" fmla="*/ 0 h 743040"/>
                <a:gd name="textAreaBottom" fmla="*/ 743400 h 743040"/>
              </a:gdLst>
              <a:ahLst/>
              <a:rect l="textAreaLeft" t="textAreaTop" r="textAreaRight" b="textAreaBottom"/>
              <a:pathLst>
                <a:path w="1690255" h="1066800">
                  <a:moveTo>
                    <a:pt x="27709" y="32015"/>
                  </a:moveTo>
                  <a:lnTo>
                    <a:pt x="13855" y="27709"/>
                  </a:lnTo>
                  <a:lnTo>
                    <a:pt x="471055" y="27709"/>
                  </a:lnTo>
                  <a:lnTo>
                    <a:pt x="803564" y="124691"/>
                  </a:lnTo>
                  <a:lnTo>
                    <a:pt x="1108364" y="290945"/>
                  </a:lnTo>
                  <a:lnTo>
                    <a:pt x="1246909" y="207818"/>
                  </a:lnTo>
                  <a:lnTo>
                    <a:pt x="1690255" y="152400"/>
                  </a:lnTo>
                  <a:lnTo>
                    <a:pt x="1690255" y="415636"/>
                  </a:lnTo>
                  <a:lnTo>
                    <a:pt x="1537855" y="374073"/>
                  </a:lnTo>
                  <a:lnTo>
                    <a:pt x="1343891" y="387927"/>
                  </a:lnTo>
                  <a:lnTo>
                    <a:pt x="1274619" y="484909"/>
                  </a:lnTo>
                  <a:lnTo>
                    <a:pt x="1274619" y="623454"/>
                  </a:lnTo>
                  <a:lnTo>
                    <a:pt x="1648691" y="942109"/>
                  </a:lnTo>
                  <a:lnTo>
                    <a:pt x="1648691" y="1066800"/>
                  </a:lnTo>
                  <a:lnTo>
                    <a:pt x="1468582" y="1039091"/>
                  </a:lnTo>
                  <a:lnTo>
                    <a:pt x="1025237" y="651163"/>
                  </a:lnTo>
                  <a:lnTo>
                    <a:pt x="997528" y="484909"/>
                  </a:lnTo>
                  <a:lnTo>
                    <a:pt x="748146" y="346363"/>
                  </a:lnTo>
                  <a:lnTo>
                    <a:pt x="457200" y="249382"/>
                  </a:lnTo>
                  <a:lnTo>
                    <a:pt x="13855" y="235527"/>
                  </a:lnTo>
                  <a:lnTo>
                    <a:pt x="0" y="0"/>
                  </a:lnTo>
                  <a:lnTo>
                    <a:pt x="27709" y="32015"/>
                  </a:lnTo>
                  <a:close/>
                </a:path>
              </a:pathLst>
            </a:custGeom>
            <a:solidFill>
              <a:srgbClr val="fac090"/>
            </a:solidFill>
            <a:ln w="25560">
              <a:solidFill>
                <a:srgbClr val="fac0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AutoShape 29"/>
            <p:cNvSpPr/>
            <p:nvPr/>
          </p:nvSpPr>
          <p:spPr>
            <a:xfrm flipH="1">
              <a:off x="3879000" y="863640"/>
              <a:ext cx="606600" cy="307800"/>
            </a:xfrm>
            <a:custGeom>
              <a:avLst/>
              <a:gdLst>
                <a:gd name="textAreaLeft" fmla="*/ -360 w 606600"/>
                <a:gd name="textAreaRight" fmla="*/ 606600 w 606600"/>
                <a:gd name="textAreaTop" fmla="*/ 0 h 307800"/>
                <a:gd name="textAreaBottom" fmla="*/ 308160 h 307800"/>
              </a:gdLst>
              <a:ahLst/>
              <a:rect l="textAreaLeft" t="textAreaTop" r="textAreaRight" b="textAreaBottom"/>
              <a:pathLst>
                <a:path w="872836" h="443346">
                  <a:moveTo>
                    <a:pt x="0" y="0"/>
                  </a:moveTo>
                  <a:lnTo>
                    <a:pt x="263236" y="0"/>
                  </a:lnTo>
                  <a:lnTo>
                    <a:pt x="512618" y="69273"/>
                  </a:lnTo>
                  <a:lnTo>
                    <a:pt x="803563" y="263237"/>
                  </a:lnTo>
                  <a:lnTo>
                    <a:pt x="872836" y="443346"/>
                  </a:lnTo>
                  <a:lnTo>
                    <a:pt x="651163" y="443346"/>
                  </a:lnTo>
                  <a:lnTo>
                    <a:pt x="568036" y="304800"/>
                  </a:lnTo>
                  <a:lnTo>
                    <a:pt x="332509" y="193964"/>
                  </a:lnTo>
                  <a:lnTo>
                    <a:pt x="13854" y="16625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c090"/>
            </a:solidFill>
            <a:ln w="25560">
              <a:solidFill>
                <a:srgbClr val="fac0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AutoShape 30"/>
            <p:cNvSpPr/>
            <p:nvPr/>
          </p:nvSpPr>
          <p:spPr>
            <a:xfrm>
              <a:off x="2023920" y="1143000"/>
              <a:ext cx="1617840" cy="209520"/>
            </a:xfrm>
            <a:prstGeom prst="roundRect">
              <a:avLst>
                <a:gd name="adj" fmla="val 16667"/>
              </a:avLst>
            </a:prstGeom>
            <a:solidFill>
              <a:srgbClr val="fac090"/>
            </a:solidFill>
            <a:ln w="25560">
              <a:solidFill>
                <a:srgbClr val="fac0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30" name="Group 31"/>
          <p:cNvGrpSpPr/>
          <p:nvPr/>
        </p:nvGrpSpPr>
        <p:grpSpPr>
          <a:xfrm>
            <a:off x="2500200" y="642960"/>
            <a:ext cx="641520" cy="712800"/>
            <a:chOff x="2500200" y="642960"/>
            <a:chExt cx="641520" cy="712800"/>
          </a:xfrm>
        </p:grpSpPr>
        <p:sp>
          <p:nvSpPr>
            <p:cNvPr id="631" name="AutoShape 32"/>
            <p:cNvSpPr/>
            <p:nvPr/>
          </p:nvSpPr>
          <p:spPr>
            <a:xfrm>
              <a:off x="2571840" y="642960"/>
              <a:ext cx="498240" cy="712800"/>
            </a:xfrm>
            <a:prstGeom prst="flowChartExtract">
              <a:avLst/>
            </a:prstGeom>
            <a:gradFill rotWithShape="0">
              <a:gsLst>
                <a:gs pos="0">
                  <a:srgbClr val="e6e6e6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AutoShape 33"/>
            <p:cNvSpPr/>
            <p:nvPr/>
          </p:nvSpPr>
          <p:spPr>
            <a:xfrm>
              <a:off x="2500200" y="1143000"/>
              <a:ext cx="641520" cy="1411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AutoShape 34"/>
            <p:cNvSpPr/>
            <p:nvPr/>
          </p:nvSpPr>
          <p:spPr>
            <a:xfrm>
              <a:off x="2652840" y="785880"/>
              <a:ext cx="345960" cy="1411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34" name="Group 35"/>
          <p:cNvGrpSpPr/>
          <p:nvPr/>
        </p:nvGrpSpPr>
        <p:grpSpPr>
          <a:xfrm>
            <a:off x="1542960" y="1609560"/>
            <a:ext cx="2478240" cy="1198800"/>
            <a:chOff x="1542960" y="1609560"/>
            <a:chExt cx="2478240" cy="1198800"/>
          </a:xfrm>
        </p:grpSpPr>
        <p:pic>
          <p:nvPicPr>
            <p:cNvPr id="635" name="Picture 36" descr=""/>
            <p:cNvPicPr/>
            <p:nvPr/>
          </p:nvPicPr>
          <p:blipFill>
            <a:blip r:embed="rId4"/>
            <a:stretch/>
          </p:blipFill>
          <p:spPr>
            <a:xfrm>
              <a:off x="1542960" y="1609560"/>
              <a:ext cx="2478240" cy="119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6" name="Text Box 37"/>
            <p:cNvSpPr/>
            <p:nvPr/>
          </p:nvSpPr>
          <p:spPr>
            <a:xfrm>
              <a:off x="1571760" y="1643040"/>
              <a:ext cx="2427120" cy="114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37" name="Group 38"/>
          <p:cNvGrpSpPr/>
          <p:nvPr/>
        </p:nvGrpSpPr>
        <p:grpSpPr>
          <a:xfrm>
            <a:off x="1285920" y="1143000"/>
            <a:ext cx="283680" cy="2786040"/>
            <a:chOff x="1285920" y="1143000"/>
            <a:chExt cx="283680" cy="2786040"/>
          </a:xfrm>
        </p:grpSpPr>
        <p:grpSp>
          <p:nvGrpSpPr>
            <p:cNvPr id="638" name="Group 39"/>
            <p:cNvGrpSpPr/>
            <p:nvPr/>
          </p:nvGrpSpPr>
          <p:grpSpPr>
            <a:xfrm>
              <a:off x="1285920" y="1143000"/>
              <a:ext cx="282240" cy="2498760"/>
              <a:chOff x="1285920" y="1143000"/>
              <a:chExt cx="282240" cy="2498760"/>
            </a:xfrm>
          </p:grpSpPr>
          <p:sp>
            <p:nvSpPr>
              <p:cNvPr id="639" name="AutoShape 40"/>
              <p:cNvSpPr/>
              <p:nvPr/>
            </p:nvSpPr>
            <p:spPr>
              <a:xfrm>
                <a:off x="1285920" y="1143000"/>
                <a:ext cx="282240" cy="2498760"/>
              </a:xfrm>
              <a:custGeom>
                <a:avLst/>
                <a:gdLst>
                  <a:gd name="textAreaLeft" fmla="*/ 13680 w 282240"/>
                  <a:gd name="textAreaRight" fmla="*/ 268560 w 282240"/>
                  <a:gd name="textAreaTop" fmla="*/ 13680 h 2498760"/>
                  <a:gd name="textAreaBottom" fmla="*/ 2485080 h 2498760"/>
                </a:gdLst>
                <a:ahLst/>
                <a:rect l="textAreaLeft" t="textAreaTop" r="textAreaRight" b="textAreaBottom"/>
                <a:pathLst>
                  <a:path w="21600" h="191016">
                    <a:moveTo>
                      <a:pt x="3600" y="0"/>
                    </a:moveTo>
                    <a:arcTo wR="3600" hR="3600" stAng="16200000" swAng="-5400000"/>
                    <a:lnTo>
                      <a:pt x="0" y="187416"/>
                    </a:lnTo>
                    <a:arcTo wR="3600" hR="3600" stAng="10800000" swAng="-5400000"/>
                    <a:lnTo>
                      <a:pt x="18000" y="191016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ac090"/>
              </a:solidFill>
              <a:ln w="25560">
                <a:solidFill>
                  <a:srgbClr val="fac09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AutoShape 41"/>
              <p:cNvSpPr/>
              <p:nvPr/>
            </p:nvSpPr>
            <p:spPr>
              <a:xfrm>
                <a:off x="1355040" y="1276200"/>
                <a:ext cx="137160" cy="2293920"/>
              </a:xfrm>
              <a:custGeom>
                <a:avLst/>
                <a:gdLst>
                  <a:gd name="textAreaLeft" fmla="*/ 6480 w 137160"/>
                  <a:gd name="textAreaRight" fmla="*/ 130680 w 137160"/>
                  <a:gd name="textAreaTop" fmla="*/ 6480 h 2293920"/>
                  <a:gd name="textAreaBottom" fmla="*/ 2287440 h 2293920"/>
                </a:gdLst>
                <a:ahLst/>
                <a:rect l="textAreaLeft" t="textAreaTop" r="textAreaRight" b="textAreaBottom"/>
                <a:pathLst>
                  <a:path w="21600" h="360358">
                    <a:moveTo>
                      <a:pt x="3600" y="0"/>
                    </a:moveTo>
                    <a:arcTo wR="3600" hR="3600" stAng="16200000" swAng="-5400000"/>
                    <a:lnTo>
                      <a:pt x="0" y="356758"/>
                    </a:lnTo>
                    <a:arcTo wR="3600" hR="3600" stAng="10800000" swAng="-5400000"/>
                    <a:lnTo>
                      <a:pt x="18000" y="36035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41" name="Line 42"/>
            <p:cNvSpPr/>
            <p:nvPr/>
          </p:nvSpPr>
          <p:spPr>
            <a:xfrm flipH="1">
              <a:off x="1566720" y="1144440"/>
              <a:ext cx="2880" cy="2784600"/>
            </a:xfrm>
            <a:prstGeom prst="line">
              <a:avLst/>
            </a:prstGeom>
            <a:ln w="101520">
              <a:solidFill>
                <a:srgbClr val="fac0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42" name="Group 43"/>
          <p:cNvGrpSpPr/>
          <p:nvPr/>
        </p:nvGrpSpPr>
        <p:grpSpPr>
          <a:xfrm>
            <a:off x="4000680" y="1143000"/>
            <a:ext cx="285120" cy="2784600"/>
            <a:chOff x="4000680" y="1143000"/>
            <a:chExt cx="285120" cy="2784600"/>
          </a:xfrm>
        </p:grpSpPr>
        <p:grpSp>
          <p:nvGrpSpPr>
            <p:cNvPr id="643" name="Group 44"/>
            <p:cNvGrpSpPr/>
            <p:nvPr/>
          </p:nvGrpSpPr>
          <p:grpSpPr>
            <a:xfrm>
              <a:off x="4003560" y="1143000"/>
              <a:ext cx="282240" cy="2498760"/>
              <a:chOff x="4003560" y="1143000"/>
              <a:chExt cx="282240" cy="2498760"/>
            </a:xfrm>
          </p:grpSpPr>
          <p:sp>
            <p:nvSpPr>
              <p:cNvPr id="644" name="AutoShape 45"/>
              <p:cNvSpPr/>
              <p:nvPr/>
            </p:nvSpPr>
            <p:spPr>
              <a:xfrm>
                <a:off x="4003560" y="1143000"/>
                <a:ext cx="282240" cy="2498760"/>
              </a:xfrm>
              <a:custGeom>
                <a:avLst/>
                <a:gdLst>
                  <a:gd name="textAreaLeft" fmla="*/ 13680 w 282240"/>
                  <a:gd name="textAreaRight" fmla="*/ 268560 w 282240"/>
                  <a:gd name="textAreaTop" fmla="*/ 13680 h 2498760"/>
                  <a:gd name="textAreaBottom" fmla="*/ 2485080 h 2498760"/>
                </a:gdLst>
                <a:ahLst/>
                <a:rect l="textAreaLeft" t="textAreaTop" r="textAreaRight" b="textAreaBottom"/>
                <a:pathLst>
                  <a:path w="21600" h="191016">
                    <a:moveTo>
                      <a:pt x="3600" y="0"/>
                    </a:moveTo>
                    <a:arcTo wR="3600" hR="3600" stAng="16200000" swAng="-5400000"/>
                    <a:lnTo>
                      <a:pt x="0" y="187416"/>
                    </a:lnTo>
                    <a:arcTo wR="3600" hR="3600" stAng="10800000" swAng="-5400000"/>
                    <a:lnTo>
                      <a:pt x="18000" y="191016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ac090"/>
              </a:solidFill>
              <a:ln w="25560">
                <a:solidFill>
                  <a:srgbClr val="fac09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AutoShape 46"/>
              <p:cNvSpPr/>
              <p:nvPr/>
            </p:nvSpPr>
            <p:spPr>
              <a:xfrm>
                <a:off x="4074120" y="1276200"/>
                <a:ext cx="140400" cy="2293920"/>
              </a:xfrm>
              <a:custGeom>
                <a:avLst/>
                <a:gdLst>
                  <a:gd name="textAreaLeft" fmla="*/ 6840 w 140400"/>
                  <a:gd name="textAreaRight" fmla="*/ 133560 w 140400"/>
                  <a:gd name="textAreaTop" fmla="*/ 6840 h 2293920"/>
                  <a:gd name="textAreaBottom" fmla="*/ 2287080 h 2293920"/>
                </a:gdLst>
                <a:ahLst/>
                <a:rect l="textAreaLeft" t="textAreaTop" r="textAreaRight" b="textAreaBottom"/>
                <a:pathLst>
                  <a:path w="21600" h="352063">
                    <a:moveTo>
                      <a:pt x="3600" y="0"/>
                    </a:moveTo>
                    <a:arcTo wR="3600" hR="3600" stAng="16200000" swAng="-5400000"/>
                    <a:lnTo>
                      <a:pt x="0" y="348463"/>
                    </a:lnTo>
                    <a:arcTo wR="3600" hR="3600" stAng="10800000" swAng="-5400000"/>
                    <a:lnTo>
                      <a:pt x="18000" y="352063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46" name="Line 47"/>
            <p:cNvSpPr/>
            <p:nvPr/>
          </p:nvSpPr>
          <p:spPr>
            <a:xfrm flipH="1">
              <a:off x="4000680" y="1143000"/>
              <a:ext cx="2880" cy="2784600"/>
            </a:xfrm>
            <a:prstGeom prst="line">
              <a:avLst/>
            </a:prstGeom>
            <a:ln w="101520">
              <a:solidFill>
                <a:srgbClr val="fac0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47" name="Group 48"/>
          <p:cNvGrpSpPr/>
          <p:nvPr/>
        </p:nvGrpSpPr>
        <p:grpSpPr>
          <a:xfrm>
            <a:off x="3473280" y="214200"/>
            <a:ext cx="525600" cy="1212840"/>
            <a:chOff x="3473280" y="214200"/>
            <a:chExt cx="525600" cy="1212840"/>
          </a:xfrm>
        </p:grpSpPr>
        <p:pic>
          <p:nvPicPr>
            <p:cNvPr id="648" name="Picture 49" descr=""/>
            <p:cNvPicPr/>
            <p:nvPr/>
          </p:nvPicPr>
          <p:blipFill>
            <a:blip r:embed="rId5"/>
            <a:stretch/>
          </p:blipFill>
          <p:spPr>
            <a:xfrm>
              <a:off x="3681360" y="281160"/>
              <a:ext cx="128520" cy="10555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49" name="Group 50"/>
            <p:cNvGrpSpPr/>
            <p:nvPr/>
          </p:nvGrpSpPr>
          <p:grpSpPr>
            <a:xfrm>
              <a:off x="3473280" y="214200"/>
              <a:ext cx="509760" cy="412920"/>
              <a:chOff x="3473280" y="214200"/>
              <a:chExt cx="509760" cy="412920"/>
            </a:xfrm>
          </p:grpSpPr>
          <p:grpSp>
            <p:nvGrpSpPr>
              <p:cNvPr id="650" name="Group 51"/>
              <p:cNvGrpSpPr/>
              <p:nvPr/>
            </p:nvGrpSpPr>
            <p:grpSpPr>
              <a:xfrm>
                <a:off x="3530520" y="318960"/>
                <a:ext cx="414360" cy="155880"/>
                <a:chOff x="3530520" y="318960"/>
                <a:chExt cx="414360" cy="155880"/>
              </a:xfrm>
            </p:grpSpPr>
            <p:pic>
              <p:nvPicPr>
                <p:cNvPr id="651" name="Picture 5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3530520" y="318960"/>
                  <a:ext cx="414360" cy="155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52" name="Text Box 53"/>
                <p:cNvSpPr/>
                <p:nvPr/>
              </p:nvSpPr>
              <p:spPr>
                <a:xfrm>
                  <a:off x="3584520" y="351000"/>
                  <a:ext cx="311040" cy="5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53" name="Group 54"/>
              <p:cNvGrpSpPr/>
              <p:nvPr/>
            </p:nvGrpSpPr>
            <p:grpSpPr>
              <a:xfrm>
                <a:off x="3530520" y="392040"/>
                <a:ext cx="414360" cy="160560"/>
                <a:chOff x="3530520" y="392040"/>
                <a:chExt cx="414360" cy="160560"/>
              </a:xfrm>
            </p:grpSpPr>
            <p:pic>
              <p:nvPicPr>
                <p:cNvPr id="654" name="Picture 55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3530520" y="392040"/>
                  <a:ext cx="414360" cy="160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55" name="Text Box 56"/>
                <p:cNvSpPr/>
                <p:nvPr/>
              </p:nvSpPr>
              <p:spPr>
                <a:xfrm>
                  <a:off x="3584520" y="426960"/>
                  <a:ext cx="311040" cy="54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56" name="Group 57"/>
              <p:cNvGrpSpPr/>
              <p:nvPr/>
            </p:nvGrpSpPr>
            <p:grpSpPr>
              <a:xfrm>
                <a:off x="3473280" y="214200"/>
                <a:ext cx="509760" cy="203400"/>
                <a:chOff x="3473280" y="214200"/>
                <a:chExt cx="509760" cy="203400"/>
              </a:xfrm>
            </p:grpSpPr>
            <p:pic>
              <p:nvPicPr>
                <p:cNvPr id="657" name="Picture 58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3473280" y="214200"/>
                  <a:ext cx="509760" cy="203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58" name="Text Box 59"/>
                <p:cNvSpPr/>
                <p:nvPr/>
              </p:nvSpPr>
              <p:spPr>
                <a:xfrm>
                  <a:off x="3530520" y="250920"/>
                  <a:ext cx="399960" cy="9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59" name="Group 60"/>
              <p:cNvGrpSpPr/>
              <p:nvPr/>
            </p:nvGrpSpPr>
            <p:grpSpPr>
              <a:xfrm>
                <a:off x="3530520" y="366840"/>
                <a:ext cx="414360" cy="160200"/>
                <a:chOff x="3530520" y="366840"/>
                <a:chExt cx="414360" cy="160200"/>
              </a:xfrm>
            </p:grpSpPr>
            <p:pic>
              <p:nvPicPr>
                <p:cNvPr id="660" name="Picture 61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3530520" y="366840"/>
                  <a:ext cx="414360" cy="160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61" name="Text Box 62"/>
                <p:cNvSpPr/>
                <p:nvPr/>
              </p:nvSpPr>
              <p:spPr>
                <a:xfrm>
                  <a:off x="3584520" y="401760"/>
                  <a:ext cx="311040" cy="54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62" name="Group 63"/>
              <p:cNvGrpSpPr/>
              <p:nvPr/>
            </p:nvGrpSpPr>
            <p:grpSpPr>
              <a:xfrm>
                <a:off x="3530520" y="419040"/>
                <a:ext cx="414360" cy="155520"/>
                <a:chOff x="3530520" y="419040"/>
                <a:chExt cx="414360" cy="155520"/>
              </a:xfrm>
            </p:grpSpPr>
            <p:pic>
              <p:nvPicPr>
                <p:cNvPr id="663" name="Picture 64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3530520" y="419040"/>
                  <a:ext cx="414360" cy="155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64" name="Text Box 65"/>
                <p:cNvSpPr/>
                <p:nvPr/>
              </p:nvSpPr>
              <p:spPr>
                <a:xfrm>
                  <a:off x="3584520" y="452520"/>
                  <a:ext cx="311040" cy="54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65" name="Group 66"/>
              <p:cNvGrpSpPr/>
              <p:nvPr/>
            </p:nvGrpSpPr>
            <p:grpSpPr>
              <a:xfrm>
                <a:off x="3530520" y="471600"/>
                <a:ext cx="414360" cy="155520"/>
                <a:chOff x="3530520" y="471600"/>
                <a:chExt cx="414360" cy="155520"/>
              </a:xfrm>
            </p:grpSpPr>
            <p:pic>
              <p:nvPicPr>
                <p:cNvPr id="666" name="Picture 67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3530520" y="471600"/>
                  <a:ext cx="414360" cy="155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67" name="Text Box 68"/>
                <p:cNvSpPr/>
                <p:nvPr/>
              </p:nvSpPr>
              <p:spPr>
                <a:xfrm>
                  <a:off x="3584520" y="503280"/>
                  <a:ext cx="311040" cy="54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68" name="Group 69"/>
            <p:cNvGrpSpPr/>
            <p:nvPr/>
          </p:nvGrpSpPr>
          <p:grpSpPr>
            <a:xfrm>
              <a:off x="3503520" y="1042920"/>
              <a:ext cx="495360" cy="384120"/>
              <a:chOff x="3503520" y="1042920"/>
              <a:chExt cx="495360" cy="384120"/>
            </a:xfrm>
          </p:grpSpPr>
          <p:pic>
            <p:nvPicPr>
              <p:cNvPr id="669" name="Picture 70" descr=""/>
              <p:cNvPicPr/>
              <p:nvPr/>
            </p:nvPicPr>
            <p:blipFill>
              <a:blip r:embed="rId12"/>
              <a:stretch/>
            </p:blipFill>
            <p:spPr>
              <a:xfrm>
                <a:off x="3503520" y="1042920"/>
                <a:ext cx="495360" cy="384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70" name="Text Box 71"/>
              <p:cNvSpPr/>
              <p:nvPr/>
            </p:nvSpPr>
            <p:spPr>
              <a:xfrm>
                <a:off x="3581280" y="1092240"/>
                <a:ext cx="344520" cy="237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671" name="Group 72"/>
          <p:cNvGrpSpPr/>
          <p:nvPr/>
        </p:nvGrpSpPr>
        <p:grpSpPr>
          <a:xfrm>
            <a:off x="1544760" y="214200"/>
            <a:ext cx="525240" cy="1212840"/>
            <a:chOff x="1544760" y="214200"/>
            <a:chExt cx="525240" cy="1212840"/>
          </a:xfrm>
        </p:grpSpPr>
        <p:pic>
          <p:nvPicPr>
            <p:cNvPr id="672" name="Picture 73" descr=""/>
            <p:cNvPicPr/>
            <p:nvPr/>
          </p:nvPicPr>
          <p:blipFill>
            <a:blip r:embed="rId13"/>
            <a:stretch/>
          </p:blipFill>
          <p:spPr>
            <a:xfrm>
              <a:off x="1755720" y="281160"/>
              <a:ext cx="128520" cy="10555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73" name="Group 74"/>
            <p:cNvGrpSpPr/>
            <p:nvPr/>
          </p:nvGrpSpPr>
          <p:grpSpPr>
            <a:xfrm>
              <a:off x="1544760" y="214200"/>
              <a:ext cx="512640" cy="412920"/>
              <a:chOff x="1544760" y="214200"/>
              <a:chExt cx="512640" cy="412920"/>
            </a:xfrm>
          </p:grpSpPr>
          <p:grpSp>
            <p:nvGrpSpPr>
              <p:cNvPr id="674" name="Group 75"/>
              <p:cNvGrpSpPr/>
              <p:nvPr/>
            </p:nvGrpSpPr>
            <p:grpSpPr>
              <a:xfrm>
                <a:off x="1601640" y="318960"/>
                <a:ext cx="417600" cy="155880"/>
                <a:chOff x="1601640" y="318960"/>
                <a:chExt cx="417600" cy="155880"/>
              </a:xfrm>
            </p:grpSpPr>
            <p:pic>
              <p:nvPicPr>
                <p:cNvPr id="675" name="Picture 76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1601640" y="318960"/>
                  <a:ext cx="417600" cy="155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76" name="Text Box 77"/>
                <p:cNvSpPr/>
                <p:nvPr/>
              </p:nvSpPr>
              <p:spPr>
                <a:xfrm>
                  <a:off x="1657440" y="351000"/>
                  <a:ext cx="309600" cy="5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77" name="Group 78"/>
              <p:cNvGrpSpPr/>
              <p:nvPr/>
            </p:nvGrpSpPr>
            <p:grpSpPr>
              <a:xfrm>
                <a:off x="1601640" y="392040"/>
                <a:ext cx="417600" cy="160560"/>
                <a:chOff x="1601640" y="392040"/>
                <a:chExt cx="417600" cy="160560"/>
              </a:xfrm>
            </p:grpSpPr>
            <p:pic>
              <p:nvPicPr>
                <p:cNvPr id="678" name="Picture 79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1601640" y="392040"/>
                  <a:ext cx="417600" cy="160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79" name="Text Box 80"/>
                <p:cNvSpPr/>
                <p:nvPr/>
              </p:nvSpPr>
              <p:spPr>
                <a:xfrm>
                  <a:off x="1657440" y="426960"/>
                  <a:ext cx="309600" cy="54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80" name="Group 81"/>
              <p:cNvGrpSpPr/>
              <p:nvPr/>
            </p:nvGrpSpPr>
            <p:grpSpPr>
              <a:xfrm>
                <a:off x="1544760" y="214200"/>
                <a:ext cx="512640" cy="203400"/>
                <a:chOff x="1544760" y="214200"/>
                <a:chExt cx="512640" cy="203400"/>
              </a:xfrm>
            </p:grpSpPr>
            <p:pic>
              <p:nvPicPr>
                <p:cNvPr id="681" name="Picture 82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1544760" y="214200"/>
                  <a:ext cx="512640" cy="203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82" name="Text Box 83"/>
                <p:cNvSpPr/>
                <p:nvPr/>
              </p:nvSpPr>
              <p:spPr>
                <a:xfrm>
                  <a:off x="1604880" y="250920"/>
                  <a:ext cx="398520" cy="9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83" name="Group 84"/>
              <p:cNvGrpSpPr/>
              <p:nvPr/>
            </p:nvGrpSpPr>
            <p:grpSpPr>
              <a:xfrm>
                <a:off x="1601640" y="366840"/>
                <a:ext cx="417600" cy="160200"/>
                <a:chOff x="1601640" y="366840"/>
                <a:chExt cx="417600" cy="160200"/>
              </a:xfrm>
            </p:grpSpPr>
            <p:pic>
              <p:nvPicPr>
                <p:cNvPr id="684" name="Picture 85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1601640" y="366840"/>
                  <a:ext cx="417600" cy="160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85" name="Text Box 86"/>
                <p:cNvSpPr/>
                <p:nvPr/>
              </p:nvSpPr>
              <p:spPr>
                <a:xfrm>
                  <a:off x="1657440" y="401760"/>
                  <a:ext cx="309600" cy="54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86" name="Group 87"/>
              <p:cNvGrpSpPr/>
              <p:nvPr/>
            </p:nvGrpSpPr>
            <p:grpSpPr>
              <a:xfrm>
                <a:off x="1601640" y="419040"/>
                <a:ext cx="417600" cy="155520"/>
                <a:chOff x="1601640" y="419040"/>
                <a:chExt cx="417600" cy="155520"/>
              </a:xfrm>
            </p:grpSpPr>
            <p:pic>
              <p:nvPicPr>
                <p:cNvPr id="687" name="Picture 88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1601640" y="419040"/>
                  <a:ext cx="417600" cy="155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88" name="Text Box 89"/>
                <p:cNvSpPr/>
                <p:nvPr/>
              </p:nvSpPr>
              <p:spPr>
                <a:xfrm>
                  <a:off x="1657440" y="452520"/>
                  <a:ext cx="309600" cy="54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89" name="Group 90"/>
              <p:cNvGrpSpPr/>
              <p:nvPr/>
            </p:nvGrpSpPr>
            <p:grpSpPr>
              <a:xfrm>
                <a:off x="1601640" y="471600"/>
                <a:ext cx="417600" cy="155520"/>
                <a:chOff x="1601640" y="471600"/>
                <a:chExt cx="417600" cy="155520"/>
              </a:xfrm>
            </p:grpSpPr>
            <p:pic>
              <p:nvPicPr>
                <p:cNvPr id="690" name="Picture 91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1601640" y="471600"/>
                  <a:ext cx="417600" cy="155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91" name="Text Box 92"/>
                <p:cNvSpPr/>
                <p:nvPr/>
              </p:nvSpPr>
              <p:spPr>
                <a:xfrm>
                  <a:off x="1657440" y="503280"/>
                  <a:ext cx="309600" cy="54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92" name="Group 93"/>
            <p:cNvGrpSpPr/>
            <p:nvPr/>
          </p:nvGrpSpPr>
          <p:grpSpPr>
            <a:xfrm>
              <a:off x="1571760" y="1042920"/>
              <a:ext cx="498240" cy="384120"/>
              <a:chOff x="1571760" y="1042920"/>
              <a:chExt cx="498240" cy="384120"/>
            </a:xfrm>
          </p:grpSpPr>
          <p:pic>
            <p:nvPicPr>
              <p:cNvPr id="693" name="Picture 94" descr=""/>
              <p:cNvPicPr/>
              <p:nvPr/>
            </p:nvPicPr>
            <p:blipFill>
              <a:blip r:embed="rId20"/>
              <a:stretch/>
            </p:blipFill>
            <p:spPr>
              <a:xfrm>
                <a:off x="1571760" y="1042920"/>
                <a:ext cx="498240" cy="384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94" name="Text Box 95"/>
              <p:cNvSpPr/>
              <p:nvPr/>
            </p:nvSpPr>
            <p:spPr>
              <a:xfrm>
                <a:off x="1652760" y="1092240"/>
                <a:ext cx="347400" cy="237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cxnSp>
        <p:nvCxnSpPr>
          <p:cNvPr id="695" name="AutoShape 96"/>
          <p:cNvCxnSpPr/>
          <p:nvPr/>
        </p:nvCxnSpPr>
        <p:spPr>
          <a:xfrm flipH="1">
            <a:off x="2246040" y="1429920"/>
            <a:ext cx="181440" cy="252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696" name="AutoShape 97"/>
          <p:cNvCxnSpPr/>
          <p:nvPr/>
        </p:nvCxnSpPr>
        <p:spPr>
          <a:xfrm flipH="1">
            <a:off x="2534400" y="1429920"/>
            <a:ext cx="180360" cy="252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697" name="AutoShape 98"/>
          <p:cNvCxnSpPr/>
          <p:nvPr/>
        </p:nvCxnSpPr>
        <p:spPr>
          <a:xfrm flipH="1">
            <a:off x="2889000" y="1429920"/>
            <a:ext cx="181440" cy="252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698" name="AutoShape 99"/>
          <p:cNvCxnSpPr/>
          <p:nvPr/>
        </p:nvCxnSpPr>
        <p:spPr>
          <a:xfrm flipH="1">
            <a:off x="3177360" y="1429920"/>
            <a:ext cx="180360" cy="252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triangle" w="med"/>
          </a:ln>
        </p:spPr>
      </p:cxnSp>
      <p:pic>
        <p:nvPicPr>
          <p:cNvPr id="699" name="Picture 100" descr=""/>
          <p:cNvPicPr/>
          <p:nvPr/>
        </p:nvPicPr>
        <p:blipFill>
          <a:blip r:embed="rId21"/>
          <a:stretch/>
        </p:blipFill>
        <p:spPr>
          <a:xfrm>
            <a:off x="5389560" y="-208080"/>
            <a:ext cx="3303720" cy="2017800"/>
          </a:xfrm>
          <a:prstGeom prst="rect">
            <a:avLst/>
          </a:prstGeom>
          <a:ln w="0">
            <a:noFill/>
          </a:ln>
        </p:spPr>
      </p:pic>
      <p:pic>
        <p:nvPicPr>
          <p:cNvPr id="700" name="Picture 101" descr=""/>
          <p:cNvPicPr/>
          <p:nvPr/>
        </p:nvPicPr>
        <p:blipFill>
          <a:blip r:embed="rId22"/>
          <a:stretch/>
        </p:blipFill>
        <p:spPr>
          <a:xfrm>
            <a:off x="4127400" y="1262160"/>
            <a:ext cx="5430960" cy="2554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Rectangle 1"/>
          <p:cNvSpPr/>
          <p:nvPr/>
        </p:nvSpPr>
        <p:spPr>
          <a:xfrm>
            <a:off x="1571760" y="1143000"/>
            <a:ext cx="2428920" cy="2786040"/>
          </a:xfrm>
          <a:prstGeom prst="rect">
            <a:avLst/>
          </a:prstGeom>
          <a:solidFill>
            <a:srgbClr val="004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02" name="Group 2"/>
          <p:cNvGrpSpPr/>
          <p:nvPr/>
        </p:nvGrpSpPr>
        <p:grpSpPr>
          <a:xfrm>
            <a:off x="2639880" y="1279440"/>
            <a:ext cx="1436760" cy="2657520"/>
            <a:chOff x="2639880" y="1279440"/>
            <a:chExt cx="1436760" cy="2657520"/>
          </a:xfrm>
        </p:grpSpPr>
        <p:pic>
          <p:nvPicPr>
            <p:cNvPr id="703" name="Picture 3" descr=""/>
            <p:cNvPicPr/>
            <p:nvPr/>
          </p:nvPicPr>
          <p:blipFill>
            <a:blip r:embed="rId1"/>
            <a:stretch/>
          </p:blipFill>
          <p:spPr>
            <a:xfrm>
              <a:off x="2639880" y="1279440"/>
              <a:ext cx="1436760" cy="265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4" name="Text Box 4"/>
            <p:cNvSpPr/>
            <p:nvPr/>
          </p:nvSpPr>
          <p:spPr>
            <a:xfrm>
              <a:off x="2643120" y="1285920"/>
              <a:ext cx="1427400" cy="264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05" name="Group 5"/>
          <p:cNvGrpSpPr/>
          <p:nvPr/>
        </p:nvGrpSpPr>
        <p:grpSpPr>
          <a:xfrm>
            <a:off x="1663560" y="4384080"/>
            <a:ext cx="2241720" cy="2242080"/>
            <a:chOff x="1663560" y="4384080"/>
            <a:chExt cx="2241720" cy="2242080"/>
          </a:xfrm>
        </p:grpSpPr>
        <p:grpSp>
          <p:nvGrpSpPr>
            <p:cNvPr id="706" name="Group 6"/>
            <p:cNvGrpSpPr/>
            <p:nvPr/>
          </p:nvGrpSpPr>
          <p:grpSpPr>
            <a:xfrm>
              <a:off x="1728720" y="4444920"/>
              <a:ext cx="2112480" cy="2112480"/>
              <a:chOff x="1728720" y="4444920"/>
              <a:chExt cx="2112480" cy="2112480"/>
            </a:xfrm>
          </p:grpSpPr>
          <p:pic>
            <p:nvPicPr>
              <p:cNvPr id="707" name="Picture 7" descr=""/>
              <p:cNvPicPr/>
              <p:nvPr/>
            </p:nvPicPr>
            <p:blipFill>
              <a:blip r:embed="rId2"/>
              <a:stretch/>
            </p:blipFill>
            <p:spPr>
              <a:xfrm>
                <a:off x="1728720" y="4444920"/>
                <a:ext cx="2112480" cy="2112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8" name="Text Box 8"/>
              <p:cNvSpPr/>
              <p:nvPr/>
            </p:nvSpPr>
            <p:spPr>
              <a:xfrm>
                <a:off x="2050920" y="4770000"/>
                <a:ext cx="1466640" cy="1466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09" name="AutoShape 9"/>
            <p:cNvSpPr/>
            <p:nvPr/>
          </p:nvSpPr>
          <p:spPr>
            <a:xfrm rot="20520000">
              <a:off x="1894680" y="4615200"/>
              <a:ext cx="1778760" cy="1779480"/>
            </a:xfrm>
            <a:custGeom>
              <a:avLst/>
              <a:gdLst>
                <a:gd name="textAreaLeft" fmla="*/ 818640 w 1778760"/>
                <a:gd name="textAreaRight" fmla="*/ 960120 w 1778760"/>
                <a:gd name="textAreaTop" fmla="*/ 819000 h 1779480"/>
                <a:gd name="textAreaBottom" fmla="*/ 960480 h 177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9941" y="9941"/>
                  </a:lnTo>
                  <a:lnTo>
                    <a:pt x="10800" y="0"/>
                  </a:lnTo>
                  <a:lnTo>
                    <a:pt x="11659" y="9941"/>
                  </a:lnTo>
                  <a:lnTo>
                    <a:pt x="21600" y="10800"/>
                  </a:lnTo>
                  <a:lnTo>
                    <a:pt x="11659" y="11659"/>
                  </a:lnTo>
                  <a:lnTo>
                    <a:pt x="10800" y="21600"/>
                  </a:lnTo>
                  <a:lnTo>
                    <a:pt x="9941" y="11659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ebf1de"/>
            </a:solidFill>
            <a:ln w="25560">
              <a:solidFill>
                <a:srgbClr val="ebf1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0" name="Oval 10"/>
            <p:cNvSpPr/>
            <p:nvPr/>
          </p:nvSpPr>
          <p:spPr>
            <a:xfrm>
              <a:off x="2638080" y="5356080"/>
              <a:ext cx="295200" cy="295200"/>
            </a:xfrm>
            <a:prstGeom prst="ellipse">
              <a:avLst/>
            </a:prstGeom>
            <a:gradFill rotWithShape="0">
              <a:gsLst>
                <a:gs pos="0">
                  <a:srgbClr val="156b13"/>
                </a:gs>
                <a:gs pos="100000">
                  <a:srgbClr val="63252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11" name="Group 11"/>
          <p:cNvGrpSpPr/>
          <p:nvPr/>
        </p:nvGrpSpPr>
        <p:grpSpPr>
          <a:xfrm>
            <a:off x="1828800" y="5293440"/>
            <a:ext cx="1871280" cy="1297800"/>
            <a:chOff x="1828800" y="5293440"/>
            <a:chExt cx="1871280" cy="1297800"/>
          </a:xfrm>
        </p:grpSpPr>
        <p:sp>
          <p:nvSpPr>
            <p:cNvPr id="712" name="AutoShape 12"/>
            <p:cNvSpPr/>
            <p:nvPr/>
          </p:nvSpPr>
          <p:spPr>
            <a:xfrm flipV="1" rot="180000">
              <a:off x="1859040" y="5339520"/>
              <a:ext cx="1810800" cy="1204560"/>
            </a:xfrm>
            <a:custGeom>
              <a:avLst/>
              <a:gdLst>
                <a:gd name="textAreaLeft" fmla="*/ 37440 w 1810800"/>
                <a:gd name="textAreaRight" fmla="*/ 1811160 w 1810800"/>
                <a:gd name="textAreaTop" fmla="*/ 360 h 1204560"/>
                <a:gd name="textAreaBottom" fmla="*/ 603360 h 1204560"/>
              </a:gdLst>
              <a:ahLst/>
              <a:rect l="textAreaLeft" t="textAreaTop" r="textAreaRight" b="textAreaBottom"/>
              <a:pathLst>
                <a:path w="1755053" h="1113994">
                  <a:moveTo>
                    <a:pt x="36404" y="398230"/>
                  </a:moveTo>
                  <a:lnTo>
                    <a:pt x="36403" y="398229"/>
                  </a:lnTo>
                  <a:cubicBezTo>
                    <a:pt x="147086" y="161984"/>
                    <a:pt x="489222" y="-1"/>
                    <a:pt x="877527" y="0"/>
                  </a:cubicBezTo>
                  <a:cubicBezTo>
                    <a:pt x="1362171" y="0"/>
                    <a:pt x="1755054" y="249376"/>
                    <a:pt x="1755054" y="556997"/>
                  </a:cubicBezTo>
                  <a:cubicBezTo>
                    <a:pt x="1755054" y="556997"/>
                    <a:pt x="1755053" y="556998"/>
                    <a:pt x="1755053" y="556998"/>
                  </a:cubicBezTo>
                  <a:lnTo>
                    <a:pt x="1476555" y="556997"/>
                  </a:lnTo>
                  <a:cubicBezTo>
                    <a:pt x="1476555" y="403186"/>
                    <a:pt x="1208361" y="278498"/>
                    <a:pt x="877527" y="278498"/>
                  </a:cubicBezTo>
                  <a:cubicBezTo>
                    <a:pt x="633707" y="278497"/>
                    <a:pt x="414216" y="347203"/>
                    <a:pt x="322498" y="452233"/>
                  </a:cubicBezTo>
                  <a:close/>
                </a:path>
              </a:pathLst>
            </a:custGeom>
            <a:gradFill rotWithShape="0">
              <a:gsLst>
                <a:gs pos="0">
                  <a:srgbClr val="156b13"/>
                </a:gs>
                <a:gs pos="100000">
                  <a:srgbClr val="ddebcf"/>
                </a:gs>
              </a:gsLst>
              <a:lin ang="5400000"/>
            </a:gradFill>
            <a:ln w="255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3" name="Oval 13"/>
            <p:cNvSpPr/>
            <p:nvPr/>
          </p:nvSpPr>
          <p:spPr>
            <a:xfrm flipV="1">
              <a:off x="3366720" y="6019200"/>
              <a:ext cx="278640" cy="290160"/>
            </a:xfrm>
            <a:prstGeom prst="ellipse">
              <a:avLst/>
            </a:prstGeom>
            <a:gradFill rotWithShape="0">
              <a:gsLst>
                <a:gs pos="0">
                  <a:srgbClr val="156b13"/>
                </a:gs>
                <a:gs pos="100000">
                  <a:srgbClr val="63252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4" name="Oval 14"/>
            <p:cNvSpPr/>
            <p:nvPr/>
          </p:nvSpPr>
          <p:spPr>
            <a:xfrm flipV="1">
              <a:off x="1949040" y="6001920"/>
              <a:ext cx="276840" cy="290160"/>
            </a:xfrm>
            <a:prstGeom prst="ellipse">
              <a:avLst/>
            </a:prstGeom>
            <a:gradFill rotWithShape="0">
              <a:gsLst>
                <a:gs pos="0">
                  <a:srgbClr val="156b13"/>
                </a:gs>
                <a:gs pos="100000">
                  <a:srgbClr val="63252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15" name="Group 15"/>
          <p:cNvGrpSpPr/>
          <p:nvPr/>
        </p:nvGrpSpPr>
        <p:grpSpPr>
          <a:xfrm>
            <a:off x="2627280" y="3840120"/>
            <a:ext cx="254160" cy="2540160"/>
            <a:chOff x="2627280" y="3840120"/>
            <a:chExt cx="254160" cy="2540160"/>
          </a:xfrm>
        </p:grpSpPr>
        <p:pic>
          <p:nvPicPr>
            <p:cNvPr id="716" name="Picture 16" descr=""/>
            <p:cNvPicPr/>
            <p:nvPr/>
          </p:nvPicPr>
          <p:blipFill>
            <a:blip r:embed="rId3"/>
            <a:stretch/>
          </p:blipFill>
          <p:spPr>
            <a:xfrm>
              <a:off x="2627280" y="3840120"/>
              <a:ext cx="254160" cy="254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7" name="Text Box 17"/>
            <p:cNvSpPr/>
            <p:nvPr/>
          </p:nvSpPr>
          <p:spPr>
            <a:xfrm>
              <a:off x="2643120" y="3857760"/>
              <a:ext cx="212760" cy="24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18" name="Oval 18"/>
          <p:cNvSpPr/>
          <p:nvPr/>
        </p:nvSpPr>
        <p:spPr>
          <a:xfrm rot="21000000">
            <a:off x="2596680" y="6118200"/>
            <a:ext cx="357120" cy="357120"/>
          </a:xfrm>
          <a:prstGeom prst="ellipse">
            <a:avLst/>
          </a:prstGeom>
          <a:gradFill rotWithShape="0">
            <a:gsLst>
              <a:gs pos="0">
                <a:srgbClr val="156b13"/>
              </a:gs>
              <a:gs pos="100000">
                <a:srgbClr val="d7e4b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AutoShape 19"/>
          <p:cNvSpPr/>
          <p:nvPr/>
        </p:nvSpPr>
        <p:spPr>
          <a:xfrm rot="5400000">
            <a:off x="3654000" y="5981760"/>
            <a:ext cx="328680" cy="941400"/>
          </a:xfrm>
          <a:custGeom>
            <a:avLst/>
            <a:gdLst>
              <a:gd name="textAreaLeft" fmla="*/ 0 w 328680"/>
              <a:gd name="textAreaRight" fmla="*/ 329040 w 328680"/>
              <a:gd name="textAreaTop" fmla="*/ 0 h 941400"/>
              <a:gd name="textAreaBottom" fmla="*/ 941760 h 941400"/>
            </a:gdLst>
            <a:ahLst/>
            <a:rect l="textAreaLeft" t="textAreaTop" r="textAreaRight" b="textAreaBottom"/>
            <a:pathLst>
              <a:path w="327890" h="942109">
                <a:moveTo>
                  <a:pt x="0" y="0"/>
                </a:moveTo>
                <a:cubicBezTo>
                  <a:pt x="98136" y="105063"/>
                  <a:pt x="196273" y="210127"/>
                  <a:pt x="249382" y="346363"/>
                </a:cubicBezTo>
                <a:cubicBezTo>
                  <a:pt x="302491" y="482599"/>
                  <a:pt x="309418" y="718127"/>
                  <a:pt x="318654" y="817418"/>
                </a:cubicBezTo>
                <a:cubicBezTo>
                  <a:pt x="327890" y="916709"/>
                  <a:pt x="316345" y="929409"/>
                  <a:pt x="304800" y="942109"/>
                </a:cubicBezTo>
              </a:path>
            </a:pathLst>
          </a:custGeom>
          <a:noFill/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20" name="Group 20"/>
          <p:cNvGrpSpPr/>
          <p:nvPr/>
        </p:nvGrpSpPr>
        <p:grpSpPr>
          <a:xfrm>
            <a:off x="1566720" y="1279440"/>
            <a:ext cx="2509920" cy="1511280"/>
            <a:chOff x="1566720" y="1279440"/>
            <a:chExt cx="2509920" cy="1511280"/>
          </a:xfrm>
        </p:grpSpPr>
        <p:pic>
          <p:nvPicPr>
            <p:cNvPr id="721" name="Picture 21" descr=""/>
            <p:cNvPicPr/>
            <p:nvPr/>
          </p:nvPicPr>
          <p:blipFill>
            <a:blip r:embed="rId4"/>
            <a:stretch/>
          </p:blipFill>
          <p:spPr>
            <a:xfrm>
              <a:off x="1566720" y="1279440"/>
              <a:ext cx="2509920" cy="151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2" name="Text Box 22"/>
            <p:cNvSpPr/>
            <p:nvPr/>
          </p:nvSpPr>
          <p:spPr>
            <a:xfrm>
              <a:off x="1571760" y="1285920"/>
              <a:ext cx="2498760" cy="149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3" name="Group 23"/>
          <p:cNvGrpSpPr/>
          <p:nvPr/>
        </p:nvGrpSpPr>
        <p:grpSpPr>
          <a:xfrm>
            <a:off x="928800" y="428760"/>
            <a:ext cx="3713040" cy="923760"/>
            <a:chOff x="928800" y="428760"/>
            <a:chExt cx="3713040" cy="923760"/>
          </a:xfrm>
        </p:grpSpPr>
        <p:sp>
          <p:nvSpPr>
            <p:cNvPr id="724" name="AutoShape 24"/>
            <p:cNvSpPr/>
            <p:nvPr/>
          </p:nvSpPr>
          <p:spPr>
            <a:xfrm>
              <a:off x="1006560" y="612720"/>
              <a:ext cx="1031760" cy="568440"/>
            </a:xfrm>
            <a:custGeom>
              <a:avLst/>
              <a:gdLst>
                <a:gd name="textAreaLeft" fmla="*/ 0 w 1031760"/>
                <a:gd name="textAreaRight" fmla="*/ 1032120 w 1031760"/>
                <a:gd name="textAreaTop" fmla="*/ 0 h 568440"/>
                <a:gd name="textAreaBottom" fmla="*/ 568800 h 568440"/>
              </a:gdLst>
              <a:ahLst/>
              <a:rect l="textAreaLeft" t="textAreaTop" r="textAreaRight" b="textAreaBottom"/>
              <a:pathLst>
                <a:path w="1482437" h="817418">
                  <a:moveTo>
                    <a:pt x="0" y="0"/>
                  </a:moveTo>
                  <a:lnTo>
                    <a:pt x="512618" y="0"/>
                  </a:lnTo>
                  <a:lnTo>
                    <a:pt x="1052946" y="263237"/>
                  </a:lnTo>
                  <a:lnTo>
                    <a:pt x="1482437" y="817418"/>
                  </a:lnTo>
                  <a:lnTo>
                    <a:pt x="872837" y="789709"/>
                  </a:lnTo>
                  <a:lnTo>
                    <a:pt x="595746" y="526473"/>
                  </a:lnTo>
                  <a:lnTo>
                    <a:pt x="13855" y="48490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5" name="Rectangle 25"/>
            <p:cNvSpPr/>
            <p:nvPr/>
          </p:nvSpPr>
          <p:spPr>
            <a:xfrm>
              <a:off x="928800" y="428760"/>
              <a:ext cx="147600" cy="247680"/>
            </a:xfrm>
            <a:prstGeom prst="rect">
              <a:avLst/>
            </a:prstGeom>
            <a:solidFill>
              <a:srgbClr val="fac090"/>
            </a:solidFill>
            <a:ln w="57240">
              <a:solidFill>
                <a:srgbClr val="fac0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6" name="Rectangle 26"/>
            <p:cNvSpPr/>
            <p:nvPr/>
          </p:nvSpPr>
          <p:spPr>
            <a:xfrm>
              <a:off x="928800" y="876240"/>
              <a:ext cx="196560" cy="247680"/>
            </a:xfrm>
            <a:prstGeom prst="rect">
              <a:avLst/>
            </a:prstGeom>
            <a:solidFill>
              <a:srgbClr val="fac090"/>
            </a:solidFill>
            <a:ln w="57240">
              <a:solidFill>
                <a:srgbClr val="fac0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7" name="AutoShape 27"/>
            <p:cNvSpPr/>
            <p:nvPr/>
          </p:nvSpPr>
          <p:spPr>
            <a:xfrm>
              <a:off x="977760" y="477720"/>
              <a:ext cx="1176480" cy="743040"/>
            </a:xfrm>
            <a:custGeom>
              <a:avLst/>
              <a:gdLst>
                <a:gd name="textAreaLeft" fmla="*/ 0 w 1176480"/>
                <a:gd name="textAreaRight" fmla="*/ 1176840 w 1176480"/>
                <a:gd name="textAreaTop" fmla="*/ 0 h 743040"/>
                <a:gd name="textAreaBottom" fmla="*/ 743400 h 743040"/>
              </a:gdLst>
              <a:ahLst/>
              <a:rect l="textAreaLeft" t="textAreaTop" r="textAreaRight" b="textAreaBottom"/>
              <a:pathLst>
                <a:path w="1690255" h="1066800">
                  <a:moveTo>
                    <a:pt x="27709" y="32015"/>
                  </a:moveTo>
                  <a:lnTo>
                    <a:pt x="13855" y="27709"/>
                  </a:lnTo>
                  <a:lnTo>
                    <a:pt x="471055" y="27709"/>
                  </a:lnTo>
                  <a:lnTo>
                    <a:pt x="803564" y="124691"/>
                  </a:lnTo>
                  <a:lnTo>
                    <a:pt x="1108364" y="290945"/>
                  </a:lnTo>
                  <a:lnTo>
                    <a:pt x="1246909" y="207818"/>
                  </a:lnTo>
                  <a:lnTo>
                    <a:pt x="1690255" y="152400"/>
                  </a:lnTo>
                  <a:lnTo>
                    <a:pt x="1690255" y="415636"/>
                  </a:lnTo>
                  <a:lnTo>
                    <a:pt x="1537855" y="374073"/>
                  </a:lnTo>
                  <a:lnTo>
                    <a:pt x="1343891" y="387927"/>
                  </a:lnTo>
                  <a:lnTo>
                    <a:pt x="1274619" y="484909"/>
                  </a:lnTo>
                  <a:lnTo>
                    <a:pt x="1274619" y="623454"/>
                  </a:lnTo>
                  <a:lnTo>
                    <a:pt x="1648691" y="942109"/>
                  </a:lnTo>
                  <a:lnTo>
                    <a:pt x="1648691" y="1066800"/>
                  </a:lnTo>
                  <a:lnTo>
                    <a:pt x="1468582" y="1039091"/>
                  </a:lnTo>
                  <a:lnTo>
                    <a:pt x="1025237" y="651163"/>
                  </a:lnTo>
                  <a:lnTo>
                    <a:pt x="997528" y="484909"/>
                  </a:lnTo>
                  <a:lnTo>
                    <a:pt x="748146" y="346363"/>
                  </a:lnTo>
                  <a:lnTo>
                    <a:pt x="457200" y="249382"/>
                  </a:lnTo>
                  <a:lnTo>
                    <a:pt x="13855" y="235527"/>
                  </a:lnTo>
                  <a:lnTo>
                    <a:pt x="0" y="0"/>
                  </a:lnTo>
                  <a:lnTo>
                    <a:pt x="27709" y="32015"/>
                  </a:lnTo>
                  <a:close/>
                </a:path>
              </a:pathLst>
            </a:custGeom>
            <a:solidFill>
              <a:srgbClr val="fac090"/>
            </a:solidFill>
            <a:ln w="25560">
              <a:solidFill>
                <a:srgbClr val="fac0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8" name="AutoShape 28"/>
            <p:cNvSpPr/>
            <p:nvPr/>
          </p:nvSpPr>
          <p:spPr>
            <a:xfrm>
              <a:off x="1084320" y="863640"/>
              <a:ext cx="606240" cy="307800"/>
            </a:xfrm>
            <a:custGeom>
              <a:avLst/>
              <a:gdLst>
                <a:gd name="textAreaLeft" fmla="*/ 0 w 606240"/>
                <a:gd name="textAreaRight" fmla="*/ 606600 w 606240"/>
                <a:gd name="textAreaTop" fmla="*/ 0 h 307800"/>
                <a:gd name="textAreaBottom" fmla="*/ 308160 h 307800"/>
              </a:gdLst>
              <a:ahLst/>
              <a:rect l="textAreaLeft" t="textAreaTop" r="textAreaRight" b="textAreaBottom"/>
              <a:pathLst>
                <a:path w="872836" h="443346">
                  <a:moveTo>
                    <a:pt x="0" y="0"/>
                  </a:moveTo>
                  <a:lnTo>
                    <a:pt x="263236" y="0"/>
                  </a:lnTo>
                  <a:lnTo>
                    <a:pt x="512618" y="69273"/>
                  </a:lnTo>
                  <a:lnTo>
                    <a:pt x="803563" y="263237"/>
                  </a:lnTo>
                  <a:lnTo>
                    <a:pt x="872836" y="443346"/>
                  </a:lnTo>
                  <a:lnTo>
                    <a:pt x="651163" y="443346"/>
                  </a:lnTo>
                  <a:lnTo>
                    <a:pt x="568036" y="304800"/>
                  </a:lnTo>
                  <a:lnTo>
                    <a:pt x="332509" y="193964"/>
                  </a:lnTo>
                  <a:lnTo>
                    <a:pt x="13854" y="16625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c090"/>
            </a:solidFill>
            <a:ln w="25560">
              <a:solidFill>
                <a:srgbClr val="fac0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9" name="AutoShape 29"/>
            <p:cNvSpPr/>
            <p:nvPr/>
          </p:nvSpPr>
          <p:spPr>
            <a:xfrm flipH="1">
              <a:off x="3537720" y="612720"/>
              <a:ext cx="1032120" cy="568440"/>
            </a:xfrm>
            <a:custGeom>
              <a:avLst/>
              <a:gdLst>
                <a:gd name="textAreaLeft" fmla="*/ -360 w 1032120"/>
                <a:gd name="textAreaRight" fmla="*/ 1032120 w 1032120"/>
                <a:gd name="textAreaTop" fmla="*/ 0 h 568440"/>
                <a:gd name="textAreaBottom" fmla="*/ 568800 h 568440"/>
              </a:gdLst>
              <a:ahLst/>
              <a:rect l="textAreaLeft" t="textAreaTop" r="textAreaRight" b="textAreaBottom"/>
              <a:pathLst>
                <a:path w="1482437" h="817418">
                  <a:moveTo>
                    <a:pt x="0" y="0"/>
                  </a:moveTo>
                  <a:lnTo>
                    <a:pt x="512618" y="0"/>
                  </a:lnTo>
                  <a:lnTo>
                    <a:pt x="1052946" y="263237"/>
                  </a:lnTo>
                  <a:lnTo>
                    <a:pt x="1482437" y="817418"/>
                  </a:lnTo>
                  <a:lnTo>
                    <a:pt x="872837" y="789709"/>
                  </a:lnTo>
                  <a:lnTo>
                    <a:pt x="595746" y="526473"/>
                  </a:lnTo>
                  <a:lnTo>
                    <a:pt x="13855" y="48490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0" name="Rectangle 30"/>
            <p:cNvSpPr/>
            <p:nvPr/>
          </p:nvSpPr>
          <p:spPr>
            <a:xfrm flipH="1">
              <a:off x="4494240" y="428760"/>
              <a:ext cx="147600" cy="247680"/>
            </a:xfrm>
            <a:prstGeom prst="rect">
              <a:avLst/>
            </a:prstGeom>
            <a:solidFill>
              <a:srgbClr val="fac090"/>
            </a:solidFill>
            <a:ln w="57240">
              <a:solidFill>
                <a:srgbClr val="fac0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1" name="Rectangle 31"/>
            <p:cNvSpPr/>
            <p:nvPr/>
          </p:nvSpPr>
          <p:spPr>
            <a:xfrm flipH="1">
              <a:off x="4442760" y="876240"/>
              <a:ext cx="196920" cy="247680"/>
            </a:xfrm>
            <a:prstGeom prst="rect">
              <a:avLst/>
            </a:prstGeom>
            <a:solidFill>
              <a:srgbClr val="fac090"/>
            </a:solidFill>
            <a:ln w="57240">
              <a:solidFill>
                <a:srgbClr val="fac0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2" name="AutoShape 32"/>
            <p:cNvSpPr/>
            <p:nvPr/>
          </p:nvSpPr>
          <p:spPr>
            <a:xfrm flipH="1">
              <a:off x="3415680" y="477720"/>
              <a:ext cx="1176120" cy="743040"/>
            </a:xfrm>
            <a:custGeom>
              <a:avLst/>
              <a:gdLst>
                <a:gd name="textAreaLeft" fmla="*/ -360 w 1176120"/>
                <a:gd name="textAreaRight" fmla="*/ 1176120 w 1176120"/>
                <a:gd name="textAreaTop" fmla="*/ 0 h 743040"/>
                <a:gd name="textAreaBottom" fmla="*/ 743400 h 743040"/>
              </a:gdLst>
              <a:ahLst/>
              <a:rect l="textAreaLeft" t="textAreaTop" r="textAreaRight" b="textAreaBottom"/>
              <a:pathLst>
                <a:path w="1690255" h="1066800">
                  <a:moveTo>
                    <a:pt x="27709" y="32015"/>
                  </a:moveTo>
                  <a:lnTo>
                    <a:pt x="13855" y="27709"/>
                  </a:lnTo>
                  <a:lnTo>
                    <a:pt x="471055" y="27709"/>
                  </a:lnTo>
                  <a:lnTo>
                    <a:pt x="803564" y="124691"/>
                  </a:lnTo>
                  <a:lnTo>
                    <a:pt x="1108364" y="290945"/>
                  </a:lnTo>
                  <a:lnTo>
                    <a:pt x="1246909" y="207818"/>
                  </a:lnTo>
                  <a:lnTo>
                    <a:pt x="1690255" y="152400"/>
                  </a:lnTo>
                  <a:lnTo>
                    <a:pt x="1690255" y="415636"/>
                  </a:lnTo>
                  <a:lnTo>
                    <a:pt x="1537855" y="374073"/>
                  </a:lnTo>
                  <a:lnTo>
                    <a:pt x="1343891" y="387927"/>
                  </a:lnTo>
                  <a:lnTo>
                    <a:pt x="1274619" y="484909"/>
                  </a:lnTo>
                  <a:lnTo>
                    <a:pt x="1274619" y="623454"/>
                  </a:lnTo>
                  <a:lnTo>
                    <a:pt x="1648691" y="942109"/>
                  </a:lnTo>
                  <a:lnTo>
                    <a:pt x="1648691" y="1066800"/>
                  </a:lnTo>
                  <a:lnTo>
                    <a:pt x="1468582" y="1039091"/>
                  </a:lnTo>
                  <a:lnTo>
                    <a:pt x="1025237" y="651163"/>
                  </a:lnTo>
                  <a:lnTo>
                    <a:pt x="997528" y="484909"/>
                  </a:lnTo>
                  <a:lnTo>
                    <a:pt x="748146" y="346363"/>
                  </a:lnTo>
                  <a:lnTo>
                    <a:pt x="457200" y="249382"/>
                  </a:lnTo>
                  <a:lnTo>
                    <a:pt x="13855" y="235527"/>
                  </a:lnTo>
                  <a:lnTo>
                    <a:pt x="0" y="0"/>
                  </a:lnTo>
                  <a:lnTo>
                    <a:pt x="27709" y="32015"/>
                  </a:lnTo>
                  <a:close/>
                </a:path>
              </a:pathLst>
            </a:custGeom>
            <a:solidFill>
              <a:srgbClr val="fac090"/>
            </a:solidFill>
            <a:ln w="25560">
              <a:solidFill>
                <a:srgbClr val="fac0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3" name="AutoShape 33"/>
            <p:cNvSpPr/>
            <p:nvPr/>
          </p:nvSpPr>
          <p:spPr>
            <a:xfrm flipH="1">
              <a:off x="3879000" y="863640"/>
              <a:ext cx="606600" cy="307800"/>
            </a:xfrm>
            <a:custGeom>
              <a:avLst/>
              <a:gdLst>
                <a:gd name="textAreaLeft" fmla="*/ -360 w 606600"/>
                <a:gd name="textAreaRight" fmla="*/ 606600 w 606600"/>
                <a:gd name="textAreaTop" fmla="*/ 0 h 307800"/>
                <a:gd name="textAreaBottom" fmla="*/ 308160 h 307800"/>
              </a:gdLst>
              <a:ahLst/>
              <a:rect l="textAreaLeft" t="textAreaTop" r="textAreaRight" b="textAreaBottom"/>
              <a:pathLst>
                <a:path w="872836" h="443346">
                  <a:moveTo>
                    <a:pt x="0" y="0"/>
                  </a:moveTo>
                  <a:lnTo>
                    <a:pt x="263236" y="0"/>
                  </a:lnTo>
                  <a:lnTo>
                    <a:pt x="512618" y="69273"/>
                  </a:lnTo>
                  <a:lnTo>
                    <a:pt x="803563" y="263237"/>
                  </a:lnTo>
                  <a:lnTo>
                    <a:pt x="872836" y="443346"/>
                  </a:lnTo>
                  <a:lnTo>
                    <a:pt x="651163" y="443346"/>
                  </a:lnTo>
                  <a:lnTo>
                    <a:pt x="568036" y="304800"/>
                  </a:lnTo>
                  <a:lnTo>
                    <a:pt x="332509" y="193964"/>
                  </a:lnTo>
                  <a:lnTo>
                    <a:pt x="13854" y="16625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c090"/>
            </a:solidFill>
            <a:ln w="25560">
              <a:solidFill>
                <a:srgbClr val="fac0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4" name="AutoShape 34"/>
            <p:cNvSpPr/>
            <p:nvPr/>
          </p:nvSpPr>
          <p:spPr>
            <a:xfrm>
              <a:off x="2023920" y="1143000"/>
              <a:ext cx="1617840" cy="209520"/>
            </a:xfrm>
            <a:prstGeom prst="roundRect">
              <a:avLst>
                <a:gd name="adj" fmla="val 16667"/>
              </a:avLst>
            </a:prstGeom>
            <a:solidFill>
              <a:srgbClr val="fac090"/>
            </a:solidFill>
            <a:ln w="25560">
              <a:solidFill>
                <a:srgbClr val="fac0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35" name="Group 35"/>
          <p:cNvGrpSpPr/>
          <p:nvPr/>
        </p:nvGrpSpPr>
        <p:grpSpPr>
          <a:xfrm>
            <a:off x="2500200" y="642960"/>
            <a:ext cx="641520" cy="712800"/>
            <a:chOff x="2500200" y="642960"/>
            <a:chExt cx="641520" cy="712800"/>
          </a:xfrm>
        </p:grpSpPr>
        <p:sp>
          <p:nvSpPr>
            <p:cNvPr id="736" name="AutoShape 36"/>
            <p:cNvSpPr/>
            <p:nvPr/>
          </p:nvSpPr>
          <p:spPr>
            <a:xfrm>
              <a:off x="2571840" y="642960"/>
              <a:ext cx="498240" cy="712800"/>
            </a:xfrm>
            <a:prstGeom prst="flowChartExtract">
              <a:avLst/>
            </a:prstGeom>
            <a:gradFill rotWithShape="0">
              <a:gsLst>
                <a:gs pos="0">
                  <a:srgbClr val="e6e6e6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7" name="AutoShape 37"/>
            <p:cNvSpPr/>
            <p:nvPr/>
          </p:nvSpPr>
          <p:spPr>
            <a:xfrm>
              <a:off x="2500200" y="1143000"/>
              <a:ext cx="641520" cy="1411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8" name="AutoShape 38"/>
            <p:cNvSpPr/>
            <p:nvPr/>
          </p:nvSpPr>
          <p:spPr>
            <a:xfrm>
              <a:off x="2652840" y="785880"/>
              <a:ext cx="345960" cy="1411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39" name="Group 39"/>
          <p:cNvGrpSpPr/>
          <p:nvPr/>
        </p:nvGrpSpPr>
        <p:grpSpPr>
          <a:xfrm>
            <a:off x="1544760" y="214200"/>
            <a:ext cx="525240" cy="1212840"/>
            <a:chOff x="1544760" y="214200"/>
            <a:chExt cx="525240" cy="1212840"/>
          </a:xfrm>
        </p:grpSpPr>
        <p:pic>
          <p:nvPicPr>
            <p:cNvPr id="740" name="Picture 40" descr=""/>
            <p:cNvPicPr/>
            <p:nvPr/>
          </p:nvPicPr>
          <p:blipFill>
            <a:blip r:embed="rId5"/>
            <a:stretch/>
          </p:blipFill>
          <p:spPr>
            <a:xfrm>
              <a:off x="1754280" y="281160"/>
              <a:ext cx="127080" cy="10555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41" name="Group 41"/>
            <p:cNvGrpSpPr/>
            <p:nvPr/>
          </p:nvGrpSpPr>
          <p:grpSpPr>
            <a:xfrm>
              <a:off x="1544760" y="214200"/>
              <a:ext cx="506160" cy="412920"/>
              <a:chOff x="1544760" y="214200"/>
              <a:chExt cx="506160" cy="412920"/>
            </a:xfrm>
          </p:grpSpPr>
          <p:grpSp>
            <p:nvGrpSpPr>
              <p:cNvPr id="742" name="Group 42"/>
              <p:cNvGrpSpPr/>
              <p:nvPr/>
            </p:nvGrpSpPr>
            <p:grpSpPr>
              <a:xfrm>
                <a:off x="1601640" y="318960"/>
                <a:ext cx="412920" cy="155880"/>
                <a:chOff x="1601640" y="318960"/>
                <a:chExt cx="412920" cy="155880"/>
              </a:xfrm>
            </p:grpSpPr>
            <p:pic>
              <p:nvPicPr>
                <p:cNvPr id="743" name="Picture 43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601640" y="318960"/>
                  <a:ext cx="412920" cy="155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44" name="Text Box 44"/>
                <p:cNvSpPr/>
                <p:nvPr/>
              </p:nvSpPr>
              <p:spPr>
                <a:xfrm>
                  <a:off x="1657440" y="351000"/>
                  <a:ext cx="306360" cy="5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45" name="Group 45"/>
              <p:cNvGrpSpPr/>
              <p:nvPr/>
            </p:nvGrpSpPr>
            <p:grpSpPr>
              <a:xfrm>
                <a:off x="1601640" y="392040"/>
                <a:ext cx="412920" cy="160560"/>
                <a:chOff x="1601640" y="392040"/>
                <a:chExt cx="412920" cy="160560"/>
              </a:xfrm>
            </p:grpSpPr>
            <p:pic>
              <p:nvPicPr>
                <p:cNvPr id="746" name="Picture 46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601640" y="392040"/>
                  <a:ext cx="412920" cy="160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47" name="Text Box 47"/>
                <p:cNvSpPr/>
                <p:nvPr/>
              </p:nvSpPr>
              <p:spPr>
                <a:xfrm>
                  <a:off x="1657440" y="426960"/>
                  <a:ext cx="306360" cy="54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48" name="Group 48"/>
              <p:cNvGrpSpPr/>
              <p:nvPr/>
            </p:nvGrpSpPr>
            <p:grpSpPr>
              <a:xfrm>
                <a:off x="1544760" y="214200"/>
                <a:ext cx="506160" cy="203400"/>
                <a:chOff x="1544760" y="214200"/>
                <a:chExt cx="506160" cy="203400"/>
              </a:xfrm>
            </p:grpSpPr>
            <p:pic>
              <p:nvPicPr>
                <p:cNvPr id="749" name="Picture 49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544760" y="214200"/>
                  <a:ext cx="506160" cy="203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50" name="Text Box 50"/>
                <p:cNvSpPr/>
                <p:nvPr/>
              </p:nvSpPr>
              <p:spPr>
                <a:xfrm>
                  <a:off x="1603440" y="250920"/>
                  <a:ext cx="393480" cy="9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51" name="Group 51"/>
              <p:cNvGrpSpPr/>
              <p:nvPr/>
            </p:nvGrpSpPr>
            <p:grpSpPr>
              <a:xfrm>
                <a:off x="1601640" y="366840"/>
                <a:ext cx="412920" cy="160200"/>
                <a:chOff x="1601640" y="366840"/>
                <a:chExt cx="412920" cy="160200"/>
              </a:xfrm>
            </p:grpSpPr>
            <p:pic>
              <p:nvPicPr>
                <p:cNvPr id="752" name="Picture 52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601640" y="366840"/>
                  <a:ext cx="412920" cy="160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53" name="Text Box 53"/>
                <p:cNvSpPr/>
                <p:nvPr/>
              </p:nvSpPr>
              <p:spPr>
                <a:xfrm>
                  <a:off x="1657440" y="401760"/>
                  <a:ext cx="306360" cy="54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54" name="Group 54"/>
              <p:cNvGrpSpPr/>
              <p:nvPr/>
            </p:nvGrpSpPr>
            <p:grpSpPr>
              <a:xfrm>
                <a:off x="1601640" y="419040"/>
                <a:ext cx="412920" cy="155520"/>
                <a:chOff x="1601640" y="419040"/>
                <a:chExt cx="412920" cy="155520"/>
              </a:xfrm>
            </p:grpSpPr>
            <p:pic>
              <p:nvPicPr>
                <p:cNvPr id="755" name="Picture 55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601640" y="419040"/>
                  <a:ext cx="412920" cy="155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56" name="Text Box 56"/>
                <p:cNvSpPr/>
                <p:nvPr/>
              </p:nvSpPr>
              <p:spPr>
                <a:xfrm>
                  <a:off x="1657440" y="452520"/>
                  <a:ext cx="306360" cy="54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57" name="Group 57"/>
              <p:cNvGrpSpPr/>
              <p:nvPr/>
            </p:nvGrpSpPr>
            <p:grpSpPr>
              <a:xfrm>
                <a:off x="1601640" y="471600"/>
                <a:ext cx="412920" cy="155520"/>
                <a:chOff x="1601640" y="471600"/>
                <a:chExt cx="412920" cy="155520"/>
              </a:xfrm>
            </p:grpSpPr>
            <p:pic>
              <p:nvPicPr>
                <p:cNvPr id="758" name="Picture 5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1601640" y="471600"/>
                  <a:ext cx="412920" cy="155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59" name="Text Box 59"/>
                <p:cNvSpPr/>
                <p:nvPr/>
              </p:nvSpPr>
              <p:spPr>
                <a:xfrm>
                  <a:off x="1657440" y="503280"/>
                  <a:ext cx="306360" cy="54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60" name="Group 60"/>
            <p:cNvGrpSpPr/>
            <p:nvPr/>
          </p:nvGrpSpPr>
          <p:grpSpPr>
            <a:xfrm>
              <a:off x="1577880" y="1042920"/>
              <a:ext cx="492120" cy="384120"/>
              <a:chOff x="1577880" y="1042920"/>
              <a:chExt cx="492120" cy="384120"/>
            </a:xfrm>
          </p:grpSpPr>
          <p:pic>
            <p:nvPicPr>
              <p:cNvPr id="761" name="Picture 61" descr=""/>
              <p:cNvPicPr/>
              <p:nvPr/>
            </p:nvPicPr>
            <p:blipFill>
              <a:blip r:embed="rId12"/>
              <a:stretch/>
            </p:blipFill>
            <p:spPr>
              <a:xfrm>
                <a:off x="1577880" y="1042920"/>
                <a:ext cx="492120" cy="384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62" name="Text Box 62"/>
              <p:cNvSpPr/>
              <p:nvPr/>
            </p:nvSpPr>
            <p:spPr>
              <a:xfrm>
                <a:off x="1652760" y="1092240"/>
                <a:ext cx="342720" cy="237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763" name="Group 63"/>
          <p:cNvGrpSpPr/>
          <p:nvPr/>
        </p:nvGrpSpPr>
        <p:grpSpPr>
          <a:xfrm>
            <a:off x="1542960" y="2755800"/>
            <a:ext cx="2478240" cy="1198800"/>
            <a:chOff x="1542960" y="2755800"/>
            <a:chExt cx="2478240" cy="1198800"/>
          </a:xfrm>
        </p:grpSpPr>
        <p:pic>
          <p:nvPicPr>
            <p:cNvPr id="764" name="Picture 64" descr=""/>
            <p:cNvPicPr/>
            <p:nvPr/>
          </p:nvPicPr>
          <p:blipFill>
            <a:blip r:embed="rId13"/>
            <a:stretch/>
          </p:blipFill>
          <p:spPr>
            <a:xfrm>
              <a:off x="1542960" y="2755800"/>
              <a:ext cx="2478240" cy="119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5" name="Text Box 65"/>
            <p:cNvSpPr/>
            <p:nvPr/>
          </p:nvSpPr>
          <p:spPr>
            <a:xfrm>
              <a:off x="1571760" y="2786040"/>
              <a:ext cx="2427120" cy="114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66" name="Group 66"/>
          <p:cNvGrpSpPr/>
          <p:nvPr/>
        </p:nvGrpSpPr>
        <p:grpSpPr>
          <a:xfrm>
            <a:off x="1285920" y="1143000"/>
            <a:ext cx="283680" cy="2786040"/>
            <a:chOff x="1285920" y="1143000"/>
            <a:chExt cx="283680" cy="2786040"/>
          </a:xfrm>
        </p:grpSpPr>
        <p:grpSp>
          <p:nvGrpSpPr>
            <p:cNvPr id="767" name="Group 67"/>
            <p:cNvGrpSpPr/>
            <p:nvPr/>
          </p:nvGrpSpPr>
          <p:grpSpPr>
            <a:xfrm>
              <a:off x="1285920" y="1143000"/>
              <a:ext cx="282240" cy="2498760"/>
              <a:chOff x="1285920" y="1143000"/>
              <a:chExt cx="282240" cy="2498760"/>
            </a:xfrm>
          </p:grpSpPr>
          <p:sp>
            <p:nvSpPr>
              <p:cNvPr id="768" name="AutoShape 68"/>
              <p:cNvSpPr/>
              <p:nvPr/>
            </p:nvSpPr>
            <p:spPr>
              <a:xfrm>
                <a:off x="1285920" y="1143000"/>
                <a:ext cx="282240" cy="2498760"/>
              </a:xfrm>
              <a:custGeom>
                <a:avLst/>
                <a:gdLst>
                  <a:gd name="textAreaLeft" fmla="*/ 13680 w 282240"/>
                  <a:gd name="textAreaRight" fmla="*/ 268560 w 282240"/>
                  <a:gd name="textAreaTop" fmla="*/ 13680 h 2498760"/>
                  <a:gd name="textAreaBottom" fmla="*/ 2485080 h 2498760"/>
                </a:gdLst>
                <a:ahLst/>
                <a:rect l="textAreaLeft" t="textAreaTop" r="textAreaRight" b="textAreaBottom"/>
                <a:pathLst>
                  <a:path w="21600" h="191016">
                    <a:moveTo>
                      <a:pt x="3600" y="0"/>
                    </a:moveTo>
                    <a:arcTo wR="3600" hR="3600" stAng="16200000" swAng="-5400000"/>
                    <a:lnTo>
                      <a:pt x="0" y="187416"/>
                    </a:lnTo>
                    <a:arcTo wR="3600" hR="3600" stAng="10800000" swAng="-5400000"/>
                    <a:lnTo>
                      <a:pt x="18000" y="191016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ac090"/>
              </a:solidFill>
              <a:ln w="25560">
                <a:solidFill>
                  <a:srgbClr val="fac09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AutoShape 69"/>
              <p:cNvSpPr/>
              <p:nvPr/>
            </p:nvSpPr>
            <p:spPr>
              <a:xfrm>
                <a:off x="1355040" y="1276200"/>
                <a:ext cx="137160" cy="2293920"/>
              </a:xfrm>
              <a:custGeom>
                <a:avLst/>
                <a:gdLst>
                  <a:gd name="textAreaLeft" fmla="*/ 6480 w 137160"/>
                  <a:gd name="textAreaRight" fmla="*/ 130680 w 137160"/>
                  <a:gd name="textAreaTop" fmla="*/ 6480 h 2293920"/>
                  <a:gd name="textAreaBottom" fmla="*/ 2287440 h 2293920"/>
                </a:gdLst>
                <a:ahLst/>
                <a:rect l="textAreaLeft" t="textAreaTop" r="textAreaRight" b="textAreaBottom"/>
                <a:pathLst>
                  <a:path w="21600" h="360358">
                    <a:moveTo>
                      <a:pt x="3600" y="0"/>
                    </a:moveTo>
                    <a:arcTo wR="3600" hR="3600" stAng="16200000" swAng="-5400000"/>
                    <a:lnTo>
                      <a:pt x="0" y="356758"/>
                    </a:lnTo>
                    <a:arcTo wR="3600" hR="3600" stAng="10800000" swAng="-5400000"/>
                    <a:lnTo>
                      <a:pt x="18000" y="36035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70" name="Line 70"/>
            <p:cNvSpPr/>
            <p:nvPr/>
          </p:nvSpPr>
          <p:spPr>
            <a:xfrm flipH="1">
              <a:off x="1566720" y="1144440"/>
              <a:ext cx="2880" cy="2784600"/>
            </a:xfrm>
            <a:prstGeom prst="line">
              <a:avLst/>
            </a:prstGeom>
            <a:ln w="101520">
              <a:solidFill>
                <a:srgbClr val="fac0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71" name="Group 71"/>
          <p:cNvGrpSpPr/>
          <p:nvPr/>
        </p:nvGrpSpPr>
        <p:grpSpPr>
          <a:xfrm>
            <a:off x="4000680" y="1143000"/>
            <a:ext cx="285120" cy="2784600"/>
            <a:chOff x="4000680" y="1143000"/>
            <a:chExt cx="285120" cy="2784600"/>
          </a:xfrm>
        </p:grpSpPr>
        <p:grpSp>
          <p:nvGrpSpPr>
            <p:cNvPr id="772" name="Group 72"/>
            <p:cNvGrpSpPr/>
            <p:nvPr/>
          </p:nvGrpSpPr>
          <p:grpSpPr>
            <a:xfrm>
              <a:off x="4003560" y="1143000"/>
              <a:ext cx="282240" cy="2498760"/>
              <a:chOff x="4003560" y="1143000"/>
              <a:chExt cx="282240" cy="2498760"/>
            </a:xfrm>
          </p:grpSpPr>
          <p:sp>
            <p:nvSpPr>
              <p:cNvPr id="773" name="AutoShape 73"/>
              <p:cNvSpPr/>
              <p:nvPr/>
            </p:nvSpPr>
            <p:spPr>
              <a:xfrm>
                <a:off x="4003560" y="1143000"/>
                <a:ext cx="282240" cy="2498760"/>
              </a:xfrm>
              <a:custGeom>
                <a:avLst/>
                <a:gdLst>
                  <a:gd name="textAreaLeft" fmla="*/ 13680 w 282240"/>
                  <a:gd name="textAreaRight" fmla="*/ 268560 w 282240"/>
                  <a:gd name="textAreaTop" fmla="*/ 13680 h 2498760"/>
                  <a:gd name="textAreaBottom" fmla="*/ 2485080 h 2498760"/>
                </a:gdLst>
                <a:ahLst/>
                <a:rect l="textAreaLeft" t="textAreaTop" r="textAreaRight" b="textAreaBottom"/>
                <a:pathLst>
                  <a:path w="21600" h="191016">
                    <a:moveTo>
                      <a:pt x="3600" y="0"/>
                    </a:moveTo>
                    <a:arcTo wR="3600" hR="3600" stAng="16200000" swAng="-5400000"/>
                    <a:lnTo>
                      <a:pt x="0" y="187416"/>
                    </a:lnTo>
                    <a:arcTo wR="3600" hR="3600" stAng="10800000" swAng="-5400000"/>
                    <a:lnTo>
                      <a:pt x="18000" y="191016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ac090"/>
              </a:solidFill>
              <a:ln w="25560">
                <a:solidFill>
                  <a:srgbClr val="fac09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AutoShape 74"/>
              <p:cNvSpPr/>
              <p:nvPr/>
            </p:nvSpPr>
            <p:spPr>
              <a:xfrm>
                <a:off x="4074120" y="1276200"/>
                <a:ext cx="140400" cy="2293920"/>
              </a:xfrm>
              <a:custGeom>
                <a:avLst/>
                <a:gdLst>
                  <a:gd name="textAreaLeft" fmla="*/ 6840 w 140400"/>
                  <a:gd name="textAreaRight" fmla="*/ 133560 w 140400"/>
                  <a:gd name="textAreaTop" fmla="*/ 6840 h 2293920"/>
                  <a:gd name="textAreaBottom" fmla="*/ 2287080 h 2293920"/>
                </a:gdLst>
                <a:ahLst/>
                <a:rect l="textAreaLeft" t="textAreaTop" r="textAreaRight" b="textAreaBottom"/>
                <a:pathLst>
                  <a:path w="21600" h="352063">
                    <a:moveTo>
                      <a:pt x="3600" y="0"/>
                    </a:moveTo>
                    <a:arcTo wR="3600" hR="3600" stAng="16200000" swAng="-5400000"/>
                    <a:lnTo>
                      <a:pt x="0" y="348463"/>
                    </a:lnTo>
                    <a:arcTo wR="3600" hR="3600" stAng="10800000" swAng="-5400000"/>
                    <a:lnTo>
                      <a:pt x="18000" y="352063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75" name="Line 75"/>
            <p:cNvSpPr/>
            <p:nvPr/>
          </p:nvSpPr>
          <p:spPr>
            <a:xfrm flipH="1">
              <a:off x="4000680" y="1143000"/>
              <a:ext cx="2880" cy="2784600"/>
            </a:xfrm>
            <a:prstGeom prst="line">
              <a:avLst/>
            </a:prstGeom>
            <a:ln w="101520">
              <a:solidFill>
                <a:srgbClr val="fac0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76" name="Group 76"/>
          <p:cNvGrpSpPr/>
          <p:nvPr/>
        </p:nvGrpSpPr>
        <p:grpSpPr>
          <a:xfrm>
            <a:off x="3494160" y="357120"/>
            <a:ext cx="504720" cy="1427400"/>
            <a:chOff x="3494160" y="357120"/>
            <a:chExt cx="504720" cy="1427400"/>
          </a:xfrm>
        </p:grpSpPr>
        <p:pic>
          <p:nvPicPr>
            <p:cNvPr id="777" name="Picture 77" descr=""/>
            <p:cNvPicPr/>
            <p:nvPr/>
          </p:nvPicPr>
          <p:blipFill>
            <a:blip r:embed="rId14"/>
            <a:stretch/>
          </p:blipFill>
          <p:spPr>
            <a:xfrm>
              <a:off x="3701880" y="490680"/>
              <a:ext cx="130320" cy="1063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78" name="Group 78"/>
            <p:cNvGrpSpPr/>
            <p:nvPr/>
          </p:nvGrpSpPr>
          <p:grpSpPr>
            <a:xfrm>
              <a:off x="3498840" y="1390680"/>
              <a:ext cx="500040" cy="393840"/>
              <a:chOff x="3498840" y="1390680"/>
              <a:chExt cx="500040" cy="393840"/>
            </a:xfrm>
          </p:grpSpPr>
          <p:pic>
            <p:nvPicPr>
              <p:cNvPr id="779" name="Picture 79" descr=""/>
              <p:cNvPicPr/>
              <p:nvPr/>
            </p:nvPicPr>
            <p:blipFill>
              <a:blip r:embed="rId15"/>
              <a:stretch/>
            </p:blipFill>
            <p:spPr>
              <a:xfrm>
                <a:off x="3498840" y="1390680"/>
                <a:ext cx="500040" cy="393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80" name="Text Box 80"/>
              <p:cNvSpPr/>
              <p:nvPr/>
            </p:nvSpPr>
            <p:spPr>
              <a:xfrm>
                <a:off x="3576600" y="1444680"/>
                <a:ext cx="347760" cy="24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81" name="Group 81"/>
            <p:cNvGrpSpPr/>
            <p:nvPr/>
          </p:nvGrpSpPr>
          <p:grpSpPr>
            <a:xfrm>
              <a:off x="3494160" y="357120"/>
              <a:ext cx="493560" cy="266400"/>
              <a:chOff x="3494160" y="357120"/>
              <a:chExt cx="493560" cy="266400"/>
            </a:xfrm>
          </p:grpSpPr>
          <p:grpSp>
            <p:nvGrpSpPr>
              <p:cNvPr id="782" name="Group 82"/>
              <p:cNvGrpSpPr/>
              <p:nvPr/>
            </p:nvGrpSpPr>
            <p:grpSpPr>
              <a:xfrm>
                <a:off x="3551400" y="438840"/>
                <a:ext cx="398160" cy="135720"/>
                <a:chOff x="3551400" y="438840"/>
                <a:chExt cx="398160" cy="135720"/>
              </a:xfrm>
            </p:grpSpPr>
            <p:pic>
              <p:nvPicPr>
                <p:cNvPr id="783" name="Picture 8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3551400" y="438840"/>
                  <a:ext cx="398160" cy="1357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84" name="Text Box 84"/>
                <p:cNvSpPr/>
                <p:nvPr/>
              </p:nvSpPr>
              <p:spPr>
                <a:xfrm>
                  <a:off x="3606840" y="468720"/>
                  <a:ext cx="293760" cy="44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85" name="Group 85"/>
              <p:cNvGrpSpPr/>
              <p:nvPr/>
            </p:nvGrpSpPr>
            <p:grpSpPr>
              <a:xfrm>
                <a:off x="3551400" y="491040"/>
                <a:ext cx="398160" cy="132480"/>
                <a:chOff x="3551400" y="491040"/>
                <a:chExt cx="398160" cy="132480"/>
              </a:xfrm>
            </p:grpSpPr>
            <p:pic>
              <p:nvPicPr>
                <p:cNvPr id="786" name="Picture 86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3551400" y="491040"/>
                  <a:ext cx="398160" cy="132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87" name="Text Box 87"/>
                <p:cNvSpPr/>
                <p:nvPr/>
              </p:nvSpPr>
              <p:spPr>
                <a:xfrm>
                  <a:off x="3606840" y="519120"/>
                  <a:ext cx="293760" cy="44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88" name="Group 88"/>
              <p:cNvGrpSpPr/>
              <p:nvPr/>
            </p:nvGrpSpPr>
            <p:grpSpPr>
              <a:xfrm>
                <a:off x="3494160" y="357120"/>
                <a:ext cx="493560" cy="172080"/>
                <a:chOff x="3494160" y="357120"/>
                <a:chExt cx="493560" cy="172080"/>
              </a:xfrm>
            </p:grpSpPr>
            <p:pic>
              <p:nvPicPr>
                <p:cNvPr id="789" name="Picture 89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3494160" y="357120"/>
                  <a:ext cx="493560" cy="1720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0" name="Text Box 90"/>
                <p:cNvSpPr/>
                <p:nvPr/>
              </p:nvSpPr>
              <p:spPr>
                <a:xfrm>
                  <a:off x="3552840" y="387000"/>
                  <a:ext cx="384120" cy="77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240" bIns="3024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cxnSp>
        <p:nvCxnSpPr>
          <p:cNvPr id="791" name="AutoShape 91"/>
          <p:cNvCxnSpPr/>
          <p:nvPr/>
        </p:nvCxnSpPr>
        <p:spPr>
          <a:xfrm flipV="1">
            <a:off x="2962080" y="1501560"/>
            <a:ext cx="216360" cy="14328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triangle" w="med"/>
          </a:ln>
        </p:spPr>
      </p:cxnSp>
      <p:pic>
        <p:nvPicPr>
          <p:cNvPr id="792" name="Picture 92" descr=""/>
          <p:cNvPicPr/>
          <p:nvPr/>
        </p:nvPicPr>
        <p:blipFill>
          <a:blip r:embed="rId19"/>
          <a:stretch/>
        </p:blipFill>
        <p:spPr>
          <a:xfrm>
            <a:off x="5389560" y="-208080"/>
            <a:ext cx="3303720" cy="2017800"/>
          </a:xfrm>
          <a:prstGeom prst="rect">
            <a:avLst/>
          </a:prstGeom>
          <a:ln w="0">
            <a:noFill/>
          </a:ln>
        </p:spPr>
      </p:pic>
      <p:pic>
        <p:nvPicPr>
          <p:cNvPr id="793" name="Picture 93" descr=""/>
          <p:cNvPicPr/>
          <p:nvPr/>
        </p:nvPicPr>
        <p:blipFill>
          <a:blip r:embed="rId20"/>
          <a:stretch/>
        </p:blipFill>
        <p:spPr>
          <a:xfrm>
            <a:off x="4127400" y="1262160"/>
            <a:ext cx="5430960" cy="2554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4" name="Group 1"/>
          <p:cNvGrpSpPr/>
          <p:nvPr/>
        </p:nvGrpSpPr>
        <p:grpSpPr>
          <a:xfrm>
            <a:off x="1566720" y="1133640"/>
            <a:ext cx="2509920" cy="2803320"/>
            <a:chOff x="1566720" y="1133640"/>
            <a:chExt cx="2509920" cy="2803320"/>
          </a:xfrm>
        </p:grpSpPr>
        <p:pic>
          <p:nvPicPr>
            <p:cNvPr id="795" name="Picture 2" descr=""/>
            <p:cNvPicPr/>
            <p:nvPr/>
          </p:nvPicPr>
          <p:blipFill>
            <a:blip r:embed="rId1"/>
            <a:stretch/>
          </p:blipFill>
          <p:spPr>
            <a:xfrm>
              <a:off x="1566720" y="1133640"/>
              <a:ext cx="2509920" cy="280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6" name="Text Box 3"/>
            <p:cNvSpPr/>
            <p:nvPr/>
          </p:nvSpPr>
          <p:spPr>
            <a:xfrm>
              <a:off x="1571760" y="1143000"/>
              <a:ext cx="2498760" cy="278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97" name="Group 4"/>
          <p:cNvGrpSpPr/>
          <p:nvPr/>
        </p:nvGrpSpPr>
        <p:grpSpPr>
          <a:xfrm>
            <a:off x="1785960" y="4500720"/>
            <a:ext cx="1998720" cy="1998360"/>
            <a:chOff x="1785960" y="4500720"/>
            <a:chExt cx="1998720" cy="1998360"/>
          </a:xfrm>
        </p:grpSpPr>
        <p:grpSp>
          <p:nvGrpSpPr>
            <p:cNvPr id="798" name="Group 5"/>
            <p:cNvGrpSpPr/>
            <p:nvPr/>
          </p:nvGrpSpPr>
          <p:grpSpPr>
            <a:xfrm>
              <a:off x="1785960" y="4500720"/>
              <a:ext cx="1998720" cy="1998360"/>
              <a:chOff x="1785960" y="4500720"/>
              <a:chExt cx="1998720" cy="1998360"/>
            </a:xfrm>
          </p:grpSpPr>
          <p:pic>
            <p:nvPicPr>
              <p:cNvPr id="799" name="Picture 6" descr=""/>
              <p:cNvPicPr/>
              <p:nvPr/>
            </p:nvPicPr>
            <p:blipFill>
              <a:blip r:embed="rId2"/>
              <a:stretch/>
            </p:blipFill>
            <p:spPr>
              <a:xfrm>
                <a:off x="1785960" y="4500720"/>
                <a:ext cx="1998720" cy="1998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0" name="Text Box 7"/>
              <p:cNvSpPr/>
              <p:nvPr/>
            </p:nvSpPr>
            <p:spPr>
              <a:xfrm rot="16500000">
                <a:off x="2092320" y="4806360"/>
                <a:ext cx="1384200" cy="138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01" name="AutoShape 8"/>
            <p:cNvSpPr/>
            <p:nvPr/>
          </p:nvSpPr>
          <p:spPr>
            <a:xfrm rot="15480000">
              <a:off x="1946880" y="4658040"/>
              <a:ext cx="1677960" cy="1682640"/>
            </a:xfrm>
            <a:custGeom>
              <a:avLst/>
              <a:gdLst>
                <a:gd name="textAreaLeft" fmla="*/ 772200 w 1677960"/>
                <a:gd name="textAreaRight" fmla="*/ 905760 w 1677960"/>
                <a:gd name="textAreaTop" fmla="*/ 774360 h 1682640"/>
                <a:gd name="textAreaBottom" fmla="*/ 908280 h 1682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9941" y="9941"/>
                  </a:lnTo>
                  <a:lnTo>
                    <a:pt x="10800" y="0"/>
                  </a:lnTo>
                  <a:lnTo>
                    <a:pt x="11659" y="9941"/>
                  </a:lnTo>
                  <a:lnTo>
                    <a:pt x="21600" y="10800"/>
                  </a:lnTo>
                  <a:lnTo>
                    <a:pt x="11659" y="11659"/>
                  </a:lnTo>
                  <a:lnTo>
                    <a:pt x="10800" y="21600"/>
                  </a:lnTo>
                  <a:lnTo>
                    <a:pt x="9941" y="11659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ebf1de"/>
            </a:solidFill>
            <a:ln w="25560">
              <a:solidFill>
                <a:srgbClr val="ebf1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2" name="Oval 9"/>
            <p:cNvSpPr/>
            <p:nvPr/>
          </p:nvSpPr>
          <p:spPr>
            <a:xfrm rot="16500000">
              <a:off x="2645640" y="5359680"/>
              <a:ext cx="277560" cy="279360"/>
            </a:xfrm>
            <a:prstGeom prst="ellipse">
              <a:avLst/>
            </a:prstGeom>
            <a:gradFill rotWithShape="0">
              <a:gsLst>
                <a:gs pos="0">
                  <a:srgbClr val="156b13"/>
                </a:gs>
                <a:gs pos="100000">
                  <a:srgbClr val="63252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03" name="Group 10"/>
          <p:cNvGrpSpPr/>
          <p:nvPr/>
        </p:nvGrpSpPr>
        <p:grpSpPr>
          <a:xfrm>
            <a:off x="1603440" y="4506120"/>
            <a:ext cx="1341000" cy="1896480"/>
            <a:chOff x="1603440" y="4506120"/>
            <a:chExt cx="1341000" cy="1896480"/>
          </a:xfrm>
        </p:grpSpPr>
        <p:sp>
          <p:nvSpPr>
            <p:cNvPr id="804" name="AutoShape 11"/>
            <p:cNvSpPr/>
            <p:nvPr/>
          </p:nvSpPr>
          <p:spPr>
            <a:xfrm rot="15960000">
              <a:off x="1365840" y="4845600"/>
              <a:ext cx="1815840" cy="1217160"/>
            </a:xfrm>
            <a:custGeom>
              <a:avLst/>
              <a:gdLst>
                <a:gd name="textAreaLeft" fmla="*/ 37800 w 1815840"/>
                <a:gd name="textAreaRight" fmla="*/ 1816200 w 1815840"/>
                <a:gd name="textAreaTop" fmla="*/ 0 h 1217160"/>
                <a:gd name="textAreaBottom" fmla="*/ 609480 h 1217160"/>
              </a:gdLst>
              <a:ahLst/>
              <a:rect l="textAreaLeft" t="textAreaTop" r="textAreaRight" b="textAreaBottom"/>
              <a:pathLst>
                <a:path w="1755053" h="1113994">
                  <a:moveTo>
                    <a:pt x="36404" y="398230"/>
                  </a:moveTo>
                  <a:lnTo>
                    <a:pt x="36403" y="398229"/>
                  </a:lnTo>
                  <a:cubicBezTo>
                    <a:pt x="147086" y="161984"/>
                    <a:pt x="489222" y="-1"/>
                    <a:pt x="877527" y="0"/>
                  </a:cubicBezTo>
                  <a:cubicBezTo>
                    <a:pt x="1362171" y="0"/>
                    <a:pt x="1755054" y="249376"/>
                    <a:pt x="1755054" y="556997"/>
                  </a:cubicBezTo>
                  <a:cubicBezTo>
                    <a:pt x="1755054" y="556997"/>
                    <a:pt x="1755053" y="556998"/>
                    <a:pt x="1755053" y="556998"/>
                  </a:cubicBezTo>
                  <a:lnTo>
                    <a:pt x="1476555" y="556997"/>
                  </a:lnTo>
                  <a:cubicBezTo>
                    <a:pt x="1476555" y="403186"/>
                    <a:pt x="1208361" y="278498"/>
                    <a:pt x="877527" y="278498"/>
                  </a:cubicBezTo>
                  <a:cubicBezTo>
                    <a:pt x="633707" y="278497"/>
                    <a:pt x="414216" y="347203"/>
                    <a:pt x="322498" y="452233"/>
                  </a:cubicBezTo>
                  <a:close/>
                </a:path>
              </a:pathLst>
            </a:custGeom>
            <a:gradFill rotWithShape="0">
              <a:gsLst>
                <a:gs pos="0">
                  <a:srgbClr val="156b13"/>
                </a:gs>
                <a:gs pos="100000">
                  <a:srgbClr val="ddebcf"/>
                </a:gs>
              </a:gsLst>
              <a:lin ang="5400000"/>
            </a:gradFill>
            <a:ln w="255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5" name="Oval 12"/>
            <p:cNvSpPr/>
            <p:nvPr/>
          </p:nvSpPr>
          <p:spPr>
            <a:xfrm rot="10980000">
              <a:off x="1942560" y="5986080"/>
              <a:ext cx="293760" cy="277920"/>
            </a:xfrm>
            <a:prstGeom prst="ellipse">
              <a:avLst/>
            </a:prstGeom>
            <a:gradFill rotWithShape="0">
              <a:gsLst>
                <a:gs pos="0">
                  <a:srgbClr val="156b13"/>
                </a:gs>
                <a:gs pos="100000">
                  <a:srgbClr val="63252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6" name="Oval 13"/>
            <p:cNvSpPr/>
            <p:nvPr/>
          </p:nvSpPr>
          <p:spPr>
            <a:xfrm rot="10980000">
              <a:off x="1931760" y="4658040"/>
              <a:ext cx="293400" cy="277920"/>
            </a:xfrm>
            <a:prstGeom prst="ellipse">
              <a:avLst/>
            </a:prstGeom>
            <a:gradFill rotWithShape="0">
              <a:gsLst>
                <a:gs pos="0">
                  <a:srgbClr val="156b13"/>
                </a:gs>
                <a:gs pos="100000">
                  <a:srgbClr val="63252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07" name="Group 14"/>
          <p:cNvGrpSpPr/>
          <p:nvPr/>
        </p:nvGrpSpPr>
        <p:grpSpPr>
          <a:xfrm>
            <a:off x="951840" y="2740680"/>
            <a:ext cx="2688120" cy="2889360"/>
            <a:chOff x="951840" y="2740680"/>
            <a:chExt cx="2688120" cy="2889360"/>
          </a:xfrm>
        </p:grpSpPr>
        <p:sp>
          <p:nvSpPr>
            <p:cNvPr id="808" name="AutoShape 15"/>
            <p:cNvSpPr/>
            <p:nvPr/>
          </p:nvSpPr>
          <p:spPr>
            <a:xfrm rot="2880000">
              <a:off x="1551960" y="2916360"/>
              <a:ext cx="1487520" cy="2277720"/>
            </a:xfrm>
            <a:custGeom>
              <a:avLst/>
              <a:gdLst>
                <a:gd name="textAreaLeft" fmla="*/ 0 w 1487520"/>
                <a:gd name="textAreaRight" fmla="*/ 1487880 w 1487520"/>
                <a:gd name="textAreaTop" fmla="*/ 0 h 2277720"/>
                <a:gd name="textAreaBottom" fmla="*/ 2278080 h 2277720"/>
              </a:gdLst>
              <a:ahLst/>
              <a:rect l="textAreaLeft" t="textAreaTop" r="textAreaRight" b="textAreaBottom"/>
              <a:pathLst>
                <a:path w="1066800" h="2105891">
                  <a:moveTo>
                    <a:pt x="0" y="0"/>
                  </a:moveTo>
                  <a:lnTo>
                    <a:pt x="249382" y="0"/>
                  </a:lnTo>
                  <a:lnTo>
                    <a:pt x="1066800" y="2105891"/>
                  </a:lnTo>
                  <a:lnTo>
                    <a:pt x="831273" y="2105891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3"/>
              <a:srcRect/>
              <a:stretch/>
            </a:blipFill>
            <a:ln w="25560">
              <a:solidFill>
                <a:srgbClr val="77933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9" name="Oval 16"/>
            <p:cNvSpPr/>
            <p:nvPr/>
          </p:nvSpPr>
          <p:spPr>
            <a:xfrm rot="2880000">
              <a:off x="1581480" y="5124240"/>
              <a:ext cx="495720" cy="385200"/>
            </a:xfrm>
            <a:prstGeom prst="ellipse">
              <a:avLst/>
            </a:prstGeom>
            <a:gradFill rotWithShape="0">
              <a:gsLst>
                <a:gs pos="0">
                  <a:srgbClr val="156b13"/>
                </a:gs>
                <a:gs pos="100000">
                  <a:srgbClr val="d7e4b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10" name="Group 17"/>
          <p:cNvGrpSpPr/>
          <p:nvPr/>
        </p:nvGrpSpPr>
        <p:grpSpPr>
          <a:xfrm>
            <a:off x="1566720" y="1352520"/>
            <a:ext cx="2509920" cy="1150920"/>
            <a:chOff x="1566720" y="1352520"/>
            <a:chExt cx="2509920" cy="1150920"/>
          </a:xfrm>
        </p:grpSpPr>
        <p:pic>
          <p:nvPicPr>
            <p:cNvPr id="811" name="Picture 18" descr=""/>
            <p:cNvPicPr/>
            <p:nvPr/>
          </p:nvPicPr>
          <p:blipFill>
            <a:blip r:embed="rId4"/>
            <a:stretch/>
          </p:blipFill>
          <p:spPr>
            <a:xfrm>
              <a:off x="1566720" y="1352520"/>
              <a:ext cx="250992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2" name="Text Box 19"/>
            <p:cNvSpPr/>
            <p:nvPr/>
          </p:nvSpPr>
          <p:spPr>
            <a:xfrm>
              <a:off x="1571760" y="1357200"/>
              <a:ext cx="2498760" cy="114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13" name="Group 20"/>
          <p:cNvGrpSpPr/>
          <p:nvPr/>
        </p:nvGrpSpPr>
        <p:grpSpPr>
          <a:xfrm>
            <a:off x="1542960" y="2328840"/>
            <a:ext cx="2478240" cy="1193760"/>
            <a:chOff x="1542960" y="2328840"/>
            <a:chExt cx="2478240" cy="1193760"/>
          </a:xfrm>
        </p:grpSpPr>
        <p:pic>
          <p:nvPicPr>
            <p:cNvPr id="814" name="Picture 21" descr=""/>
            <p:cNvPicPr/>
            <p:nvPr/>
          </p:nvPicPr>
          <p:blipFill>
            <a:blip r:embed="rId5"/>
            <a:stretch/>
          </p:blipFill>
          <p:spPr>
            <a:xfrm>
              <a:off x="1542960" y="2328840"/>
              <a:ext cx="2478240" cy="119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5" name="Text Box 22"/>
            <p:cNvSpPr/>
            <p:nvPr/>
          </p:nvSpPr>
          <p:spPr>
            <a:xfrm>
              <a:off x="1571760" y="2357280"/>
              <a:ext cx="2427120" cy="114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16" name="Group 23"/>
          <p:cNvGrpSpPr/>
          <p:nvPr/>
        </p:nvGrpSpPr>
        <p:grpSpPr>
          <a:xfrm>
            <a:off x="1285920" y="1143000"/>
            <a:ext cx="283680" cy="2786040"/>
            <a:chOff x="1285920" y="1143000"/>
            <a:chExt cx="283680" cy="2786040"/>
          </a:xfrm>
        </p:grpSpPr>
        <p:grpSp>
          <p:nvGrpSpPr>
            <p:cNvPr id="817" name="Group 24"/>
            <p:cNvGrpSpPr/>
            <p:nvPr/>
          </p:nvGrpSpPr>
          <p:grpSpPr>
            <a:xfrm>
              <a:off x="1285920" y="1143000"/>
              <a:ext cx="282240" cy="2498760"/>
              <a:chOff x="1285920" y="1143000"/>
              <a:chExt cx="282240" cy="2498760"/>
            </a:xfrm>
          </p:grpSpPr>
          <p:sp>
            <p:nvSpPr>
              <p:cNvPr id="818" name="AutoShape 25"/>
              <p:cNvSpPr/>
              <p:nvPr/>
            </p:nvSpPr>
            <p:spPr>
              <a:xfrm>
                <a:off x="1285920" y="1143000"/>
                <a:ext cx="282240" cy="2498760"/>
              </a:xfrm>
              <a:custGeom>
                <a:avLst/>
                <a:gdLst>
                  <a:gd name="textAreaLeft" fmla="*/ 13680 w 282240"/>
                  <a:gd name="textAreaRight" fmla="*/ 268560 w 282240"/>
                  <a:gd name="textAreaTop" fmla="*/ 13680 h 2498760"/>
                  <a:gd name="textAreaBottom" fmla="*/ 2485080 h 2498760"/>
                </a:gdLst>
                <a:ahLst/>
                <a:rect l="textAreaLeft" t="textAreaTop" r="textAreaRight" b="textAreaBottom"/>
                <a:pathLst>
                  <a:path w="21600" h="191016">
                    <a:moveTo>
                      <a:pt x="3600" y="0"/>
                    </a:moveTo>
                    <a:arcTo wR="3600" hR="3600" stAng="16200000" swAng="-5400000"/>
                    <a:lnTo>
                      <a:pt x="0" y="187416"/>
                    </a:lnTo>
                    <a:arcTo wR="3600" hR="3600" stAng="10800000" swAng="-5400000"/>
                    <a:lnTo>
                      <a:pt x="18000" y="191016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ac090"/>
              </a:solidFill>
              <a:ln w="25560">
                <a:solidFill>
                  <a:srgbClr val="fac09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AutoShape 26"/>
              <p:cNvSpPr/>
              <p:nvPr/>
            </p:nvSpPr>
            <p:spPr>
              <a:xfrm>
                <a:off x="1355040" y="1276200"/>
                <a:ext cx="137160" cy="2293920"/>
              </a:xfrm>
              <a:custGeom>
                <a:avLst/>
                <a:gdLst>
                  <a:gd name="textAreaLeft" fmla="*/ 6480 w 137160"/>
                  <a:gd name="textAreaRight" fmla="*/ 130680 w 137160"/>
                  <a:gd name="textAreaTop" fmla="*/ 6480 h 2293920"/>
                  <a:gd name="textAreaBottom" fmla="*/ 2287440 h 2293920"/>
                </a:gdLst>
                <a:ahLst/>
                <a:rect l="textAreaLeft" t="textAreaTop" r="textAreaRight" b="textAreaBottom"/>
                <a:pathLst>
                  <a:path w="21600" h="360358">
                    <a:moveTo>
                      <a:pt x="3600" y="0"/>
                    </a:moveTo>
                    <a:arcTo wR="3600" hR="3600" stAng="16200000" swAng="-5400000"/>
                    <a:lnTo>
                      <a:pt x="0" y="356758"/>
                    </a:lnTo>
                    <a:arcTo wR="3600" hR="3600" stAng="10800000" swAng="-5400000"/>
                    <a:lnTo>
                      <a:pt x="18000" y="36035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20" name="Line 27"/>
            <p:cNvSpPr/>
            <p:nvPr/>
          </p:nvSpPr>
          <p:spPr>
            <a:xfrm flipH="1">
              <a:off x="1566720" y="1144440"/>
              <a:ext cx="2880" cy="2784600"/>
            </a:xfrm>
            <a:prstGeom prst="line">
              <a:avLst/>
            </a:prstGeom>
            <a:ln w="101520">
              <a:solidFill>
                <a:srgbClr val="fac0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21" name="AutoShape 28"/>
          <p:cNvSpPr/>
          <p:nvPr/>
        </p:nvSpPr>
        <p:spPr>
          <a:xfrm rot="13260000">
            <a:off x="1297080" y="4573080"/>
            <a:ext cx="428400" cy="1000440"/>
          </a:xfrm>
          <a:custGeom>
            <a:avLst/>
            <a:gdLst>
              <a:gd name="textAreaLeft" fmla="*/ 0 w 428400"/>
              <a:gd name="textAreaRight" fmla="*/ 428760 w 428400"/>
              <a:gd name="textAreaTop" fmla="*/ 0 h 1000440"/>
              <a:gd name="textAreaBottom" fmla="*/ 1000800 h 1000440"/>
            </a:gdLst>
            <a:ahLst/>
            <a:rect l="textAreaLeft" t="textAreaTop" r="textAreaRight" b="textAreaBottom"/>
            <a:pathLst>
              <a:path w="327890" h="942109">
                <a:moveTo>
                  <a:pt x="0" y="0"/>
                </a:moveTo>
                <a:cubicBezTo>
                  <a:pt x="98136" y="105063"/>
                  <a:pt x="196273" y="210127"/>
                  <a:pt x="249382" y="346363"/>
                </a:cubicBezTo>
                <a:cubicBezTo>
                  <a:pt x="302491" y="482599"/>
                  <a:pt x="309418" y="718127"/>
                  <a:pt x="318654" y="817418"/>
                </a:cubicBezTo>
                <a:cubicBezTo>
                  <a:pt x="327890" y="916709"/>
                  <a:pt x="316345" y="929409"/>
                  <a:pt x="304800" y="942109"/>
                </a:cubicBezTo>
              </a:path>
            </a:pathLst>
          </a:custGeom>
          <a:noFill/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22" name="Group 29"/>
          <p:cNvGrpSpPr/>
          <p:nvPr/>
        </p:nvGrpSpPr>
        <p:grpSpPr>
          <a:xfrm>
            <a:off x="928800" y="428760"/>
            <a:ext cx="3713040" cy="998280"/>
            <a:chOff x="928800" y="428760"/>
            <a:chExt cx="3713040" cy="998280"/>
          </a:xfrm>
        </p:grpSpPr>
        <p:sp>
          <p:nvSpPr>
            <p:cNvPr id="823" name="AutoShape 30"/>
            <p:cNvSpPr/>
            <p:nvPr/>
          </p:nvSpPr>
          <p:spPr>
            <a:xfrm>
              <a:off x="1006560" y="612720"/>
              <a:ext cx="1031760" cy="568440"/>
            </a:xfrm>
            <a:custGeom>
              <a:avLst/>
              <a:gdLst>
                <a:gd name="textAreaLeft" fmla="*/ 0 w 1031760"/>
                <a:gd name="textAreaRight" fmla="*/ 1032120 w 1031760"/>
                <a:gd name="textAreaTop" fmla="*/ 0 h 568440"/>
                <a:gd name="textAreaBottom" fmla="*/ 568800 h 568440"/>
              </a:gdLst>
              <a:ahLst/>
              <a:rect l="textAreaLeft" t="textAreaTop" r="textAreaRight" b="textAreaBottom"/>
              <a:pathLst>
                <a:path w="1482437" h="817418">
                  <a:moveTo>
                    <a:pt x="0" y="0"/>
                  </a:moveTo>
                  <a:lnTo>
                    <a:pt x="512618" y="0"/>
                  </a:lnTo>
                  <a:lnTo>
                    <a:pt x="1052946" y="263237"/>
                  </a:lnTo>
                  <a:lnTo>
                    <a:pt x="1482437" y="817418"/>
                  </a:lnTo>
                  <a:lnTo>
                    <a:pt x="872837" y="789709"/>
                  </a:lnTo>
                  <a:lnTo>
                    <a:pt x="595746" y="526473"/>
                  </a:lnTo>
                  <a:lnTo>
                    <a:pt x="13855" y="48490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4" name="Rectangle 31"/>
            <p:cNvSpPr/>
            <p:nvPr/>
          </p:nvSpPr>
          <p:spPr>
            <a:xfrm>
              <a:off x="928800" y="428760"/>
              <a:ext cx="147600" cy="247680"/>
            </a:xfrm>
            <a:prstGeom prst="rect">
              <a:avLst/>
            </a:prstGeom>
            <a:solidFill>
              <a:srgbClr val="fac090"/>
            </a:solidFill>
            <a:ln w="57240">
              <a:solidFill>
                <a:srgbClr val="fac0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5" name="Rectangle 32"/>
            <p:cNvSpPr/>
            <p:nvPr/>
          </p:nvSpPr>
          <p:spPr>
            <a:xfrm>
              <a:off x="928800" y="876240"/>
              <a:ext cx="196560" cy="247680"/>
            </a:xfrm>
            <a:prstGeom prst="rect">
              <a:avLst/>
            </a:prstGeom>
            <a:solidFill>
              <a:srgbClr val="fac090"/>
            </a:solidFill>
            <a:ln w="57240">
              <a:solidFill>
                <a:srgbClr val="fac0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6" name="AutoShape 33"/>
            <p:cNvSpPr/>
            <p:nvPr/>
          </p:nvSpPr>
          <p:spPr>
            <a:xfrm>
              <a:off x="977760" y="477720"/>
              <a:ext cx="1176480" cy="741600"/>
            </a:xfrm>
            <a:custGeom>
              <a:avLst/>
              <a:gdLst>
                <a:gd name="textAreaLeft" fmla="*/ 0 w 1176480"/>
                <a:gd name="textAreaRight" fmla="*/ 1176840 w 1176480"/>
                <a:gd name="textAreaTop" fmla="*/ 0 h 741600"/>
                <a:gd name="textAreaBottom" fmla="*/ 741960 h 741600"/>
              </a:gdLst>
              <a:ahLst/>
              <a:rect l="textAreaLeft" t="textAreaTop" r="textAreaRight" b="textAreaBottom"/>
              <a:pathLst>
                <a:path w="1690255" h="1066800">
                  <a:moveTo>
                    <a:pt x="27709" y="32015"/>
                  </a:moveTo>
                  <a:lnTo>
                    <a:pt x="13855" y="27709"/>
                  </a:lnTo>
                  <a:lnTo>
                    <a:pt x="471055" y="27709"/>
                  </a:lnTo>
                  <a:lnTo>
                    <a:pt x="803564" y="124691"/>
                  </a:lnTo>
                  <a:lnTo>
                    <a:pt x="1108364" y="290945"/>
                  </a:lnTo>
                  <a:lnTo>
                    <a:pt x="1246909" y="207818"/>
                  </a:lnTo>
                  <a:lnTo>
                    <a:pt x="1690255" y="152400"/>
                  </a:lnTo>
                  <a:lnTo>
                    <a:pt x="1690255" y="415636"/>
                  </a:lnTo>
                  <a:lnTo>
                    <a:pt x="1537855" y="374073"/>
                  </a:lnTo>
                  <a:lnTo>
                    <a:pt x="1343891" y="387927"/>
                  </a:lnTo>
                  <a:lnTo>
                    <a:pt x="1274619" y="484909"/>
                  </a:lnTo>
                  <a:lnTo>
                    <a:pt x="1274619" y="623454"/>
                  </a:lnTo>
                  <a:lnTo>
                    <a:pt x="1648691" y="942109"/>
                  </a:lnTo>
                  <a:lnTo>
                    <a:pt x="1648691" y="1066800"/>
                  </a:lnTo>
                  <a:lnTo>
                    <a:pt x="1468582" y="1039091"/>
                  </a:lnTo>
                  <a:lnTo>
                    <a:pt x="1025237" y="651163"/>
                  </a:lnTo>
                  <a:lnTo>
                    <a:pt x="997528" y="484909"/>
                  </a:lnTo>
                  <a:lnTo>
                    <a:pt x="748146" y="346363"/>
                  </a:lnTo>
                  <a:lnTo>
                    <a:pt x="457200" y="249382"/>
                  </a:lnTo>
                  <a:lnTo>
                    <a:pt x="13855" y="235527"/>
                  </a:lnTo>
                  <a:lnTo>
                    <a:pt x="0" y="0"/>
                  </a:lnTo>
                  <a:lnTo>
                    <a:pt x="27709" y="32015"/>
                  </a:lnTo>
                  <a:close/>
                </a:path>
              </a:pathLst>
            </a:custGeom>
            <a:solidFill>
              <a:srgbClr val="fac090"/>
            </a:solidFill>
            <a:ln w="25560">
              <a:solidFill>
                <a:srgbClr val="fac0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7" name="AutoShape 34"/>
            <p:cNvSpPr/>
            <p:nvPr/>
          </p:nvSpPr>
          <p:spPr>
            <a:xfrm>
              <a:off x="1084320" y="863640"/>
              <a:ext cx="606240" cy="306360"/>
            </a:xfrm>
            <a:custGeom>
              <a:avLst/>
              <a:gdLst>
                <a:gd name="textAreaLeft" fmla="*/ 0 w 606240"/>
                <a:gd name="textAreaRight" fmla="*/ 606600 w 606240"/>
                <a:gd name="textAreaTop" fmla="*/ 0 h 306360"/>
                <a:gd name="textAreaBottom" fmla="*/ 306720 h 306360"/>
              </a:gdLst>
              <a:ahLst/>
              <a:rect l="textAreaLeft" t="textAreaTop" r="textAreaRight" b="textAreaBottom"/>
              <a:pathLst>
                <a:path w="872836" h="443346">
                  <a:moveTo>
                    <a:pt x="0" y="0"/>
                  </a:moveTo>
                  <a:lnTo>
                    <a:pt x="263236" y="0"/>
                  </a:lnTo>
                  <a:lnTo>
                    <a:pt x="512618" y="69273"/>
                  </a:lnTo>
                  <a:lnTo>
                    <a:pt x="803563" y="263237"/>
                  </a:lnTo>
                  <a:lnTo>
                    <a:pt x="872836" y="443346"/>
                  </a:lnTo>
                  <a:lnTo>
                    <a:pt x="651163" y="443346"/>
                  </a:lnTo>
                  <a:lnTo>
                    <a:pt x="568036" y="304800"/>
                  </a:lnTo>
                  <a:lnTo>
                    <a:pt x="332509" y="193964"/>
                  </a:lnTo>
                  <a:lnTo>
                    <a:pt x="13854" y="16625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c090"/>
            </a:solidFill>
            <a:ln w="25560">
              <a:solidFill>
                <a:srgbClr val="fac0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8" name="Rectangle 35"/>
            <p:cNvSpPr/>
            <p:nvPr/>
          </p:nvSpPr>
          <p:spPr>
            <a:xfrm flipH="1">
              <a:off x="4494240" y="428760"/>
              <a:ext cx="147600" cy="247680"/>
            </a:xfrm>
            <a:prstGeom prst="rect">
              <a:avLst/>
            </a:prstGeom>
            <a:solidFill>
              <a:srgbClr val="fac090"/>
            </a:solidFill>
            <a:ln w="57240">
              <a:solidFill>
                <a:srgbClr val="fac0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9" name="Group 36"/>
            <p:cNvGrpSpPr/>
            <p:nvPr/>
          </p:nvGrpSpPr>
          <p:grpSpPr>
            <a:xfrm>
              <a:off x="3540240" y="612720"/>
              <a:ext cx="1030320" cy="814320"/>
              <a:chOff x="3540240" y="612720"/>
              <a:chExt cx="1030320" cy="814320"/>
            </a:xfrm>
          </p:grpSpPr>
          <p:sp>
            <p:nvSpPr>
              <p:cNvPr id="830" name="AutoShape 37"/>
              <p:cNvSpPr/>
              <p:nvPr/>
            </p:nvSpPr>
            <p:spPr>
              <a:xfrm flipH="1">
                <a:off x="3540240" y="612720"/>
                <a:ext cx="1030320" cy="568440"/>
              </a:xfrm>
              <a:custGeom>
                <a:avLst/>
                <a:gdLst>
                  <a:gd name="textAreaLeft" fmla="*/ 360 w 1030320"/>
                  <a:gd name="textAreaRight" fmla="*/ 1031040 w 1030320"/>
                  <a:gd name="textAreaTop" fmla="*/ 0 h 568440"/>
                  <a:gd name="textAreaBottom" fmla="*/ 568800 h 568440"/>
                </a:gdLst>
                <a:ahLst/>
                <a:rect l="textAreaLeft" t="textAreaTop" r="textAreaRight" b="textAreaBottom"/>
                <a:pathLst>
                  <a:path w="1482437" h="817418">
                    <a:moveTo>
                      <a:pt x="0" y="0"/>
                    </a:moveTo>
                    <a:lnTo>
                      <a:pt x="512618" y="0"/>
                    </a:lnTo>
                    <a:lnTo>
                      <a:pt x="1052946" y="263237"/>
                    </a:lnTo>
                    <a:lnTo>
                      <a:pt x="1482437" y="817418"/>
                    </a:lnTo>
                    <a:lnTo>
                      <a:pt x="872837" y="789709"/>
                    </a:lnTo>
                    <a:lnTo>
                      <a:pt x="595746" y="526473"/>
                    </a:lnTo>
                    <a:lnTo>
                      <a:pt x="13855" y="48490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Rectangle 38"/>
              <p:cNvSpPr/>
              <p:nvPr/>
            </p:nvSpPr>
            <p:spPr>
              <a:xfrm>
                <a:off x="3571920" y="1143000"/>
                <a:ext cx="426960" cy="284040"/>
              </a:xfrm>
              <a:prstGeom prst="rect">
                <a:avLst/>
              </a:prstGeom>
              <a:solidFill>
                <a:srgbClr val="004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32" name="AutoShape 39"/>
            <p:cNvSpPr/>
            <p:nvPr/>
          </p:nvSpPr>
          <p:spPr>
            <a:xfrm>
              <a:off x="2023920" y="1143000"/>
              <a:ext cx="1617840" cy="209520"/>
            </a:xfrm>
            <a:prstGeom prst="roundRect">
              <a:avLst>
                <a:gd name="adj" fmla="val 16667"/>
              </a:avLst>
            </a:prstGeom>
            <a:solidFill>
              <a:srgbClr val="fac090"/>
            </a:solidFill>
            <a:ln w="25560">
              <a:solidFill>
                <a:srgbClr val="fac0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3" name="AutoShape 40"/>
            <p:cNvSpPr/>
            <p:nvPr/>
          </p:nvSpPr>
          <p:spPr>
            <a:xfrm flipH="1">
              <a:off x="3879000" y="863640"/>
              <a:ext cx="606600" cy="306360"/>
            </a:xfrm>
            <a:custGeom>
              <a:avLst/>
              <a:gdLst>
                <a:gd name="textAreaLeft" fmla="*/ -360 w 606600"/>
                <a:gd name="textAreaRight" fmla="*/ 606600 w 606600"/>
                <a:gd name="textAreaTop" fmla="*/ 0 h 306360"/>
                <a:gd name="textAreaBottom" fmla="*/ 306720 h 306360"/>
              </a:gdLst>
              <a:ahLst/>
              <a:rect l="textAreaLeft" t="textAreaTop" r="textAreaRight" b="textAreaBottom"/>
              <a:pathLst>
                <a:path w="872836" h="443346">
                  <a:moveTo>
                    <a:pt x="0" y="0"/>
                  </a:moveTo>
                  <a:lnTo>
                    <a:pt x="263236" y="0"/>
                  </a:lnTo>
                  <a:lnTo>
                    <a:pt x="512618" y="69273"/>
                  </a:lnTo>
                  <a:lnTo>
                    <a:pt x="803563" y="263237"/>
                  </a:lnTo>
                  <a:lnTo>
                    <a:pt x="872836" y="443346"/>
                  </a:lnTo>
                  <a:lnTo>
                    <a:pt x="651163" y="443346"/>
                  </a:lnTo>
                  <a:lnTo>
                    <a:pt x="568036" y="304800"/>
                  </a:lnTo>
                  <a:lnTo>
                    <a:pt x="332509" y="193964"/>
                  </a:lnTo>
                  <a:lnTo>
                    <a:pt x="13854" y="16625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c090"/>
            </a:solidFill>
            <a:ln w="25560">
              <a:solidFill>
                <a:srgbClr val="fac0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4" name="AutoShape 41"/>
            <p:cNvSpPr/>
            <p:nvPr/>
          </p:nvSpPr>
          <p:spPr>
            <a:xfrm flipH="1">
              <a:off x="3415680" y="477720"/>
              <a:ext cx="1176120" cy="741600"/>
            </a:xfrm>
            <a:custGeom>
              <a:avLst/>
              <a:gdLst>
                <a:gd name="textAreaLeft" fmla="*/ -360 w 1176120"/>
                <a:gd name="textAreaRight" fmla="*/ 1176120 w 1176120"/>
                <a:gd name="textAreaTop" fmla="*/ 0 h 741600"/>
                <a:gd name="textAreaBottom" fmla="*/ 741960 h 741600"/>
              </a:gdLst>
              <a:ahLst/>
              <a:rect l="textAreaLeft" t="textAreaTop" r="textAreaRight" b="textAreaBottom"/>
              <a:pathLst>
                <a:path w="1690255" h="1066800">
                  <a:moveTo>
                    <a:pt x="27709" y="32015"/>
                  </a:moveTo>
                  <a:lnTo>
                    <a:pt x="13855" y="27709"/>
                  </a:lnTo>
                  <a:lnTo>
                    <a:pt x="471055" y="27709"/>
                  </a:lnTo>
                  <a:lnTo>
                    <a:pt x="803564" y="124691"/>
                  </a:lnTo>
                  <a:lnTo>
                    <a:pt x="1108364" y="290945"/>
                  </a:lnTo>
                  <a:lnTo>
                    <a:pt x="1246909" y="207818"/>
                  </a:lnTo>
                  <a:lnTo>
                    <a:pt x="1690255" y="152400"/>
                  </a:lnTo>
                  <a:lnTo>
                    <a:pt x="1690255" y="415636"/>
                  </a:lnTo>
                  <a:lnTo>
                    <a:pt x="1537855" y="374073"/>
                  </a:lnTo>
                  <a:lnTo>
                    <a:pt x="1343891" y="387927"/>
                  </a:lnTo>
                  <a:lnTo>
                    <a:pt x="1274619" y="484909"/>
                  </a:lnTo>
                  <a:lnTo>
                    <a:pt x="1274619" y="623454"/>
                  </a:lnTo>
                  <a:lnTo>
                    <a:pt x="1648691" y="942109"/>
                  </a:lnTo>
                  <a:lnTo>
                    <a:pt x="1648691" y="1066800"/>
                  </a:lnTo>
                  <a:lnTo>
                    <a:pt x="1468582" y="1039091"/>
                  </a:lnTo>
                  <a:lnTo>
                    <a:pt x="1025237" y="651163"/>
                  </a:lnTo>
                  <a:lnTo>
                    <a:pt x="997528" y="484909"/>
                  </a:lnTo>
                  <a:lnTo>
                    <a:pt x="748146" y="346363"/>
                  </a:lnTo>
                  <a:lnTo>
                    <a:pt x="457200" y="249382"/>
                  </a:lnTo>
                  <a:lnTo>
                    <a:pt x="13855" y="235527"/>
                  </a:lnTo>
                  <a:lnTo>
                    <a:pt x="0" y="0"/>
                  </a:lnTo>
                  <a:lnTo>
                    <a:pt x="27709" y="32015"/>
                  </a:lnTo>
                  <a:close/>
                </a:path>
              </a:pathLst>
            </a:custGeom>
            <a:solidFill>
              <a:srgbClr val="fac090"/>
            </a:solidFill>
            <a:ln w="25560">
              <a:solidFill>
                <a:srgbClr val="fac0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5" name="Rectangle 42"/>
            <p:cNvSpPr/>
            <p:nvPr/>
          </p:nvSpPr>
          <p:spPr>
            <a:xfrm flipH="1">
              <a:off x="4442760" y="876240"/>
              <a:ext cx="196920" cy="247680"/>
            </a:xfrm>
            <a:prstGeom prst="rect">
              <a:avLst/>
            </a:prstGeom>
            <a:solidFill>
              <a:srgbClr val="fac090"/>
            </a:solidFill>
            <a:ln w="57240">
              <a:solidFill>
                <a:srgbClr val="fac0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36" name="Group 43"/>
          <p:cNvGrpSpPr/>
          <p:nvPr/>
        </p:nvGrpSpPr>
        <p:grpSpPr>
          <a:xfrm>
            <a:off x="4000680" y="1143000"/>
            <a:ext cx="285120" cy="2784600"/>
            <a:chOff x="4000680" y="1143000"/>
            <a:chExt cx="285120" cy="2784600"/>
          </a:xfrm>
        </p:grpSpPr>
        <p:grpSp>
          <p:nvGrpSpPr>
            <p:cNvPr id="837" name="Group 44"/>
            <p:cNvGrpSpPr/>
            <p:nvPr/>
          </p:nvGrpSpPr>
          <p:grpSpPr>
            <a:xfrm>
              <a:off x="4003560" y="1143000"/>
              <a:ext cx="282240" cy="2498760"/>
              <a:chOff x="4003560" y="1143000"/>
              <a:chExt cx="282240" cy="2498760"/>
            </a:xfrm>
          </p:grpSpPr>
          <p:sp>
            <p:nvSpPr>
              <p:cNvPr id="838" name="AutoShape 45"/>
              <p:cNvSpPr/>
              <p:nvPr/>
            </p:nvSpPr>
            <p:spPr>
              <a:xfrm>
                <a:off x="4003560" y="1143000"/>
                <a:ext cx="282240" cy="2498760"/>
              </a:xfrm>
              <a:custGeom>
                <a:avLst/>
                <a:gdLst>
                  <a:gd name="textAreaLeft" fmla="*/ 13680 w 282240"/>
                  <a:gd name="textAreaRight" fmla="*/ 268560 w 282240"/>
                  <a:gd name="textAreaTop" fmla="*/ 13680 h 2498760"/>
                  <a:gd name="textAreaBottom" fmla="*/ 2485080 h 2498760"/>
                </a:gdLst>
                <a:ahLst/>
                <a:rect l="textAreaLeft" t="textAreaTop" r="textAreaRight" b="textAreaBottom"/>
                <a:pathLst>
                  <a:path w="21600" h="191016">
                    <a:moveTo>
                      <a:pt x="3600" y="0"/>
                    </a:moveTo>
                    <a:arcTo wR="3600" hR="3600" stAng="16200000" swAng="-5400000"/>
                    <a:lnTo>
                      <a:pt x="0" y="187416"/>
                    </a:lnTo>
                    <a:arcTo wR="3600" hR="3600" stAng="10800000" swAng="-5400000"/>
                    <a:lnTo>
                      <a:pt x="18000" y="191016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ac090"/>
              </a:solidFill>
              <a:ln w="25560">
                <a:solidFill>
                  <a:srgbClr val="fac09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AutoShape 46"/>
              <p:cNvSpPr/>
              <p:nvPr/>
            </p:nvSpPr>
            <p:spPr>
              <a:xfrm>
                <a:off x="4074120" y="1276200"/>
                <a:ext cx="140400" cy="2293920"/>
              </a:xfrm>
              <a:custGeom>
                <a:avLst/>
                <a:gdLst>
                  <a:gd name="textAreaLeft" fmla="*/ 6840 w 140400"/>
                  <a:gd name="textAreaRight" fmla="*/ 133560 w 140400"/>
                  <a:gd name="textAreaTop" fmla="*/ 6840 h 2293920"/>
                  <a:gd name="textAreaBottom" fmla="*/ 2287080 h 2293920"/>
                </a:gdLst>
                <a:ahLst/>
                <a:rect l="textAreaLeft" t="textAreaTop" r="textAreaRight" b="textAreaBottom"/>
                <a:pathLst>
                  <a:path w="21600" h="352063">
                    <a:moveTo>
                      <a:pt x="3600" y="0"/>
                    </a:moveTo>
                    <a:arcTo wR="3600" hR="3600" stAng="16200000" swAng="-5400000"/>
                    <a:lnTo>
                      <a:pt x="0" y="348463"/>
                    </a:lnTo>
                    <a:arcTo wR="3600" hR="3600" stAng="10800000" swAng="-5400000"/>
                    <a:lnTo>
                      <a:pt x="18000" y="352063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40" name="Line 47"/>
            <p:cNvSpPr/>
            <p:nvPr/>
          </p:nvSpPr>
          <p:spPr>
            <a:xfrm flipH="1">
              <a:off x="4000680" y="1143000"/>
              <a:ext cx="2880" cy="2784600"/>
            </a:xfrm>
            <a:prstGeom prst="line">
              <a:avLst/>
            </a:prstGeom>
            <a:ln w="101520">
              <a:solidFill>
                <a:srgbClr val="fac0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41" name="Group 48"/>
          <p:cNvGrpSpPr/>
          <p:nvPr/>
        </p:nvGrpSpPr>
        <p:grpSpPr>
          <a:xfrm>
            <a:off x="2500200" y="642960"/>
            <a:ext cx="641520" cy="712800"/>
            <a:chOff x="2500200" y="642960"/>
            <a:chExt cx="641520" cy="712800"/>
          </a:xfrm>
        </p:grpSpPr>
        <p:sp>
          <p:nvSpPr>
            <p:cNvPr id="842" name="AutoShape 49"/>
            <p:cNvSpPr/>
            <p:nvPr/>
          </p:nvSpPr>
          <p:spPr>
            <a:xfrm>
              <a:off x="2571840" y="642960"/>
              <a:ext cx="498240" cy="712800"/>
            </a:xfrm>
            <a:prstGeom prst="flowChartExtract">
              <a:avLst/>
            </a:prstGeom>
            <a:gradFill rotWithShape="0">
              <a:gsLst>
                <a:gs pos="0">
                  <a:srgbClr val="e6e6e6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3" name="AutoShape 50"/>
            <p:cNvSpPr/>
            <p:nvPr/>
          </p:nvSpPr>
          <p:spPr>
            <a:xfrm>
              <a:off x="2500200" y="1143000"/>
              <a:ext cx="641520" cy="1411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4" name="AutoShape 51"/>
            <p:cNvSpPr/>
            <p:nvPr/>
          </p:nvSpPr>
          <p:spPr>
            <a:xfrm>
              <a:off x="2652840" y="785880"/>
              <a:ext cx="345960" cy="1411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45" name="Group 52"/>
          <p:cNvGrpSpPr/>
          <p:nvPr/>
        </p:nvGrpSpPr>
        <p:grpSpPr>
          <a:xfrm>
            <a:off x="1544760" y="214200"/>
            <a:ext cx="525240" cy="1212840"/>
            <a:chOff x="1544760" y="214200"/>
            <a:chExt cx="525240" cy="1212840"/>
          </a:xfrm>
        </p:grpSpPr>
        <p:pic>
          <p:nvPicPr>
            <p:cNvPr id="846" name="Picture 53" descr=""/>
            <p:cNvPicPr/>
            <p:nvPr/>
          </p:nvPicPr>
          <p:blipFill>
            <a:blip r:embed="rId6"/>
            <a:stretch/>
          </p:blipFill>
          <p:spPr>
            <a:xfrm>
              <a:off x="1754280" y="281160"/>
              <a:ext cx="127080" cy="10555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47" name="Group 54"/>
            <p:cNvGrpSpPr/>
            <p:nvPr/>
          </p:nvGrpSpPr>
          <p:grpSpPr>
            <a:xfrm>
              <a:off x="1544760" y="214200"/>
              <a:ext cx="506160" cy="412920"/>
              <a:chOff x="1544760" y="214200"/>
              <a:chExt cx="506160" cy="412920"/>
            </a:xfrm>
          </p:grpSpPr>
          <p:grpSp>
            <p:nvGrpSpPr>
              <p:cNvPr id="848" name="Group 55"/>
              <p:cNvGrpSpPr/>
              <p:nvPr/>
            </p:nvGrpSpPr>
            <p:grpSpPr>
              <a:xfrm>
                <a:off x="1601640" y="318960"/>
                <a:ext cx="412920" cy="155880"/>
                <a:chOff x="1601640" y="318960"/>
                <a:chExt cx="412920" cy="155880"/>
              </a:xfrm>
            </p:grpSpPr>
            <p:pic>
              <p:nvPicPr>
                <p:cNvPr id="849" name="Picture 56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601640" y="318960"/>
                  <a:ext cx="412920" cy="155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0" name="Text Box 57"/>
                <p:cNvSpPr/>
                <p:nvPr/>
              </p:nvSpPr>
              <p:spPr>
                <a:xfrm>
                  <a:off x="1657440" y="351000"/>
                  <a:ext cx="306360" cy="5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51" name="Group 58"/>
              <p:cNvGrpSpPr/>
              <p:nvPr/>
            </p:nvGrpSpPr>
            <p:grpSpPr>
              <a:xfrm>
                <a:off x="1601640" y="392040"/>
                <a:ext cx="412920" cy="160560"/>
                <a:chOff x="1601640" y="392040"/>
                <a:chExt cx="412920" cy="160560"/>
              </a:xfrm>
            </p:grpSpPr>
            <p:pic>
              <p:nvPicPr>
                <p:cNvPr id="852" name="Picture 59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601640" y="392040"/>
                  <a:ext cx="412920" cy="160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3" name="Text Box 60"/>
                <p:cNvSpPr/>
                <p:nvPr/>
              </p:nvSpPr>
              <p:spPr>
                <a:xfrm>
                  <a:off x="1657440" y="426960"/>
                  <a:ext cx="306360" cy="54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54" name="Group 61"/>
              <p:cNvGrpSpPr/>
              <p:nvPr/>
            </p:nvGrpSpPr>
            <p:grpSpPr>
              <a:xfrm>
                <a:off x="1544760" y="214200"/>
                <a:ext cx="506160" cy="203400"/>
                <a:chOff x="1544760" y="214200"/>
                <a:chExt cx="506160" cy="203400"/>
              </a:xfrm>
            </p:grpSpPr>
            <p:pic>
              <p:nvPicPr>
                <p:cNvPr id="855" name="Picture 62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544760" y="214200"/>
                  <a:ext cx="506160" cy="203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6" name="Text Box 63"/>
                <p:cNvSpPr/>
                <p:nvPr/>
              </p:nvSpPr>
              <p:spPr>
                <a:xfrm>
                  <a:off x="1603440" y="250920"/>
                  <a:ext cx="393480" cy="9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57" name="Group 64"/>
              <p:cNvGrpSpPr/>
              <p:nvPr/>
            </p:nvGrpSpPr>
            <p:grpSpPr>
              <a:xfrm>
                <a:off x="1601640" y="366840"/>
                <a:ext cx="412920" cy="160200"/>
                <a:chOff x="1601640" y="366840"/>
                <a:chExt cx="412920" cy="160200"/>
              </a:xfrm>
            </p:grpSpPr>
            <p:pic>
              <p:nvPicPr>
                <p:cNvPr id="858" name="Picture 65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601640" y="366840"/>
                  <a:ext cx="412920" cy="160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9" name="Text Box 66"/>
                <p:cNvSpPr/>
                <p:nvPr/>
              </p:nvSpPr>
              <p:spPr>
                <a:xfrm>
                  <a:off x="1657440" y="401760"/>
                  <a:ext cx="306360" cy="54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60" name="Group 67"/>
              <p:cNvGrpSpPr/>
              <p:nvPr/>
            </p:nvGrpSpPr>
            <p:grpSpPr>
              <a:xfrm>
                <a:off x="1601640" y="419040"/>
                <a:ext cx="412920" cy="155520"/>
                <a:chOff x="1601640" y="419040"/>
                <a:chExt cx="412920" cy="155520"/>
              </a:xfrm>
            </p:grpSpPr>
            <p:pic>
              <p:nvPicPr>
                <p:cNvPr id="861" name="Picture 6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1601640" y="419040"/>
                  <a:ext cx="412920" cy="155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62" name="Text Box 69"/>
                <p:cNvSpPr/>
                <p:nvPr/>
              </p:nvSpPr>
              <p:spPr>
                <a:xfrm>
                  <a:off x="1657440" y="452520"/>
                  <a:ext cx="306360" cy="54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63" name="Group 70"/>
              <p:cNvGrpSpPr/>
              <p:nvPr/>
            </p:nvGrpSpPr>
            <p:grpSpPr>
              <a:xfrm>
                <a:off x="1601640" y="471600"/>
                <a:ext cx="412920" cy="155520"/>
                <a:chOff x="1601640" y="471600"/>
                <a:chExt cx="412920" cy="155520"/>
              </a:xfrm>
            </p:grpSpPr>
            <p:pic>
              <p:nvPicPr>
                <p:cNvPr id="864" name="Picture 71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1601640" y="471600"/>
                  <a:ext cx="412920" cy="155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65" name="Text Box 72"/>
                <p:cNvSpPr/>
                <p:nvPr/>
              </p:nvSpPr>
              <p:spPr>
                <a:xfrm>
                  <a:off x="1657440" y="503280"/>
                  <a:ext cx="306360" cy="54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66" name="Group 73"/>
            <p:cNvGrpSpPr/>
            <p:nvPr/>
          </p:nvGrpSpPr>
          <p:grpSpPr>
            <a:xfrm>
              <a:off x="1577880" y="1042920"/>
              <a:ext cx="492120" cy="384120"/>
              <a:chOff x="1577880" y="1042920"/>
              <a:chExt cx="492120" cy="384120"/>
            </a:xfrm>
          </p:grpSpPr>
          <p:pic>
            <p:nvPicPr>
              <p:cNvPr id="867" name="Picture 74" descr=""/>
              <p:cNvPicPr/>
              <p:nvPr/>
            </p:nvPicPr>
            <p:blipFill>
              <a:blip r:embed="rId13"/>
              <a:stretch/>
            </p:blipFill>
            <p:spPr>
              <a:xfrm>
                <a:off x="1577880" y="1042920"/>
                <a:ext cx="492120" cy="384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8" name="Text Box 75"/>
              <p:cNvSpPr/>
              <p:nvPr/>
            </p:nvSpPr>
            <p:spPr>
              <a:xfrm>
                <a:off x="1652760" y="1092240"/>
                <a:ext cx="342720" cy="237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869" name="Group 76"/>
          <p:cNvGrpSpPr/>
          <p:nvPr/>
        </p:nvGrpSpPr>
        <p:grpSpPr>
          <a:xfrm>
            <a:off x="3494160" y="428760"/>
            <a:ext cx="504720" cy="1427040"/>
            <a:chOff x="3494160" y="428760"/>
            <a:chExt cx="504720" cy="1427040"/>
          </a:xfrm>
        </p:grpSpPr>
        <p:pic>
          <p:nvPicPr>
            <p:cNvPr id="870" name="Picture 77" descr=""/>
            <p:cNvPicPr/>
            <p:nvPr/>
          </p:nvPicPr>
          <p:blipFill>
            <a:blip r:embed="rId14"/>
            <a:stretch/>
          </p:blipFill>
          <p:spPr>
            <a:xfrm>
              <a:off x="3701880" y="563400"/>
              <a:ext cx="130320" cy="1062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71" name="Group 78"/>
            <p:cNvGrpSpPr/>
            <p:nvPr/>
          </p:nvGrpSpPr>
          <p:grpSpPr>
            <a:xfrm>
              <a:off x="3498840" y="1461960"/>
              <a:ext cx="500040" cy="393840"/>
              <a:chOff x="3498840" y="1461960"/>
              <a:chExt cx="500040" cy="393840"/>
            </a:xfrm>
          </p:grpSpPr>
          <p:pic>
            <p:nvPicPr>
              <p:cNvPr id="872" name="Picture 79" descr=""/>
              <p:cNvPicPr/>
              <p:nvPr/>
            </p:nvPicPr>
            <p:blipFill>
              <a:blip r:embed="rId15"/>
              <a:stretch/>
            </p:blipFill>
            <p:spPr>
              <a:xfrm>
                <a:off x="3498840" y="1461960"/>
                <a:ext cx="500040" cy="393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3" name="Text Box 80"/>
              <p:cNvSpPr/>
              <p:nvPr/>
            </p:nvSpPr>
            <p:spPr>
              <a:xfrm>
                <a:off x="3576600" y="1514520"/>
                <a:ext cx="347760" cy="23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74" name="Group 81"/>
            <p:cNvGrpSpPr/>
            <p:nvPr/>
          </p:nvGrpSpPr>
          <p:grpSpPr>
            <a:xfrm>
              <a:off x="3494160" y="428760"/>
              <a:ext cx="493560" cy="266400"/>
              <a:chOff x="3494160" y="428760"/>
              <a:chExt cx="493560" cy="266400"/>
            </a:xfrm>
          </p:grpSpPr>
          <p:grpSp>
            <p:nvGrpSpPr>
              <p:cNvPr id="875" name="Group 82"/>
              <p:cNvGrpSpPr/>
              <p:nvPr/>
            </p:nvGrpSpPr>
            <p:grpSpPr>
              <a:xfrm>
                <a:off x="3551400" y="514440"/>
                <a:ext cx="398160" cy="129960"/>
                <a:chOff x="3551400" y="514440"/>
                <a:chExt cx="398160" cy="129960"/>
              </a:xfrm>
            </p:grpSpPr>
            <p:pic>
              <p:nvPicPr>
                <p:cNvPr id="876" name="Picture 8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3551400" y="514440"/>
                  <a:ext cx="398160" cy="129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77" name="Text Box 84"/>
                <p:cNvSpPr/>
                <p:nvPr/>
              </p:nvSpPr>
              <p:spPr>
                <a:xfrm>
                  <a:off x="3606840" y="542880"/>
                  <a:ext cx="293760" cy="4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78" name="Group 85"/>
              <p:cNvGrpSpPr/>
              <p:nvPr/>
            </p:nvGrpSpPr>
            <p:grpSpPr>
              <a:xfrm>
                <a:off x="3551400" y="560520"/>
                <a:ext cx="398160" cy="134640"/>
                <a:chOff x="3551400" y="560520"/>
                <a:chExt cx="398160" cy="134640"/>
              </a:xfrm>
            </p:grpSpPr>
            <p:pic>
              <p:nvPicPr>
                <p:cNvPr id="879" name="Picture 86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3551400" y="560520"/>
                  <a:ext cx="398160" cy="134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80" name="Text Box 87"/>
                <p:cNvSpPr/>
                <p:nvPr/>
              </p:nvSpPr>
              <p:spPr>
                <a:xfrm>
                  <a:off x="3606840" y="592200"/>
                  <a:ext cx="293760" cy="4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81" name="Group 88"/>
              <p:cNvGrpSpPr/>
              <p:nvPr/>
            </p:nvGrpSpPr>
            <p:grpSpPr>
              <a:xfrm>
                <a:off x="3494160" y="428760"/>
                <a:ext cx="493560" cy="172800"/>
                <a:chOff x="3494160" y="428760"/>
                <a:chExt cx="493560" cy="172800"/>
              </a:xfrm>
            </p:grpSpPr>
            <p:pic>
              <p:nvPicPr>
                <p:cNvPr id="882" name="Picture 89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3494160" y="428760"/>
                  <a:ext cx="493560" cy="172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83" name="Text Box 90"/>
                <p:cNvSpPr/>
                <p:nvPr/>
              </p:nvSpPr>
              <p:spPr>
                <a:xfrm>
                  <a:off x="3552840" y="460440"/>
                  <a:ext cx="384120" cy="75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cxnSp>
        <p:nvCxnSpPr>
          <p:cNvPr id="884" name="AutoShape 91"/>
          <p:cNvCxnSpPr/>
          <p:nvPr/>
        </p:nvCxnSpPr>
        <p:spPr>
          <a:xfrm flipV="1">
            <a:off x="2643120" y="1501560"/>
            <a:ext cx="215280" cy="14328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885" name="AutoShape 92"/>
          <p:cNvCxnSpPr/>
          <p:nvPr/>
        </p:nvCxnSpPr>
        <p:spPr>
          <a:xfrm flipV="1">
            <a:off x="2927160" y="1750320"/>
            <a:ext cx="216360" cy="14364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886" name="AutoShape 93"/>
          <p:cNvCxnSpPr/>
          <p:nvPr/>
        </p:nvCxnSpPr>
        <p:spPr>
          <a:xfrm flipV="1">
            <a:off x="2962080" y="1464480"/>
            <a:ext cx="216360" cy="14364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triangle" w="med"/>
          </a:ln>
        </p:spPr>
      </p:cxnSp>
      <p:pic>
        <p:nvPicPr>
          <p:cNvPr id="887" name="Picture 94" descr=""/>
          <p:cNvPicPr/>
          <p:nvPr/>
        </p:nvPicPr>
        <p:blipFill>
          <a:blip r:embed="rId19"/>
          <a:stretch/>
        </p:blipFill>
        <p:spPr>
          <a:xfrm>
            <a:off x="4968720" y="-208080"/>
            <a:ext cx="4529160" cy="2017800"/>
          </a:xfrm>
          <a:prstGeom prst="rect">
            <a:avLst/>
          </a:prstGeom>
          <a:ln w="0">
            <a:noFill/>
          </a:ln>
        </p:spPr>
      </p:pic>
      <p:pic>
        <p:nvPicPr>
          <p:cNvPr id="888" name="Picture 95" descr=""/>
          <p:cNvPicPr/>
          <p:nvPr/>
        </p:nvPicPr>
        <p:blipFill>
          <a:blip r:embed="rId20"/>
          <a:stretch/>
        </p:blipFill>
        <p:spPr>
          <a:xfrm>
            <a:off x="4206960" y="1189080"/>
            <a:ext cx="5381640" cy="144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9" name="Picture 1" descr=""/>
          <p:cNvPicPr/>
          <p:nvPr/>
        </p:nvPicPr>
        <p:blipFill>
          <a:blip r:embed="rId1"/>
          <a:stretch/>
        </p:blipFill>
        <p:spPr>
          <a:xfrm>
            <a:off x="4968720" y="-208080"/>
            <a:ext cx="4529160" cy="2017800"/>
          </a:xfrm>
          <a:prstGeom prst="rect">
            <a:avLst/>
          </a:prstGeom>
          <a:ln w="0">
            <a:noFill/>
          </a:ln>
        </p:spPr>
      </p:pic>
      <p:pic>
        <p:nvPicPr>
          <p:cNvPr id="890" name="Picture 2" descr=""/>
          <p:cNvPicPr/>
          <p:nvPr/>
        </p:nvPicPr>
        <p:blipFill>
          <a:blip r:embed="rId2"/>
          <a:stretch/>
        </p:blipFill>
        <p:spPr>
          <a:xfrm>
            <a:off x="4206960" y="1189080"/>
            <a:ext cx="5381640" cy="1444680"/>
          </a:xfrm>
          <a:prstGeom prst="rect">
            <a:avLst/>
          </a:prstGeom>
          <a:ln w="0">
            <a:noFill/>
          </a:ln>
        </p:spPr>
      </p:pic>
      <p:sp>
        <p:nvSpPr>
          <p:cNvPr id="891" name="Rectangle 3"/>
          <p:cNvSpPr/>
          <p:nvPr/>
        </p:nvSpPr>
        <p:spPr>
          <a:xfrm>
            <a:off x="1571760" y="1143000"/>
            <a:ext cx="2428920" cy="2786040"/>
          </a:xfrm>
          <a:prstGeom prst="rect">
            <a:avLst/>
          </a:prstGeom>
          <a:solidFill>
            <a:srgbClr val="004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92" name="Group 4"/>
          <p:cNvGrpSpPr/>
          <p:nvPr/>
        </p:nvGrpSpPr>
        <p:grpSpPr>
          <a:xfrm>
            <a:off x="2639880" y="1279440"/>
            <a:ext cx="1436760" cy="2657520"/>
            <a:chOff x="2639880" y="1279440"/>
            <a:chExt cx="1436760" cy="2657520"/>
          </a:xfrm>
        </p:grpSpPr>
        <p:pic>
          <p:nvPicPr>
            <p:cNvPr id="893" name="Picture 5" descr=""/>
            <p:cNvPicPr/>
            <p:nvPr/>
          </p:nvPicPr>
          <p:blipFill>
            <a:blip r:embed="rId3"/>
            <a:stretch/>
          </p:blipFill>
          <p:spPr>
            <a:xfrm>
              <a:off x="2639880" y="1279440"/>
              <a:ext cx="1436760" cy="265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4" name="Text Box 6"/>
            <p:cNvSpPr/>
            <p:nvPr/>
          </p:nvSpPr>
          <p:spPr>
            <a:xfrm>
              <a:off x="2643120" y="1285920"/>
              <a:ext cx="1427400" cy="264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95" name="Group 7"/>
          <p:cNvGrpSpPr/>
          <p:nvPr/>
        </p:nvGrpSpPr>
        <p:grpSpPr>
          <a:xfrm>
            <a:off x="928800" y="428760"/>
            <a:ext cx="3713040" cy="923760"/>
            <a:chOff x="928800" y="428760"/>
            <a:chExt cx="3713040" cy="923760"/>
          </a:xfrm>
        </p:grpSpPr>
        <p:sp>
          <p:nvSpPr>
            <p:cNvPr id="896" name="AutoShape 8"/>
            <p:cNvSpPr/>
            <p:nvPr/>
          </p:nvSpPr>
          <p:spPr>
            <a:xfrm>
              <a:off x="1006560" y="612720"/>
              <a:ext cx="1031760" cy="568440"/>
            </a:xfrm>
            <a:custGeom>
              <a:avLst/>
              <a:gdLst>
                <a:gd name="textAreaLeft" fmla="*/ 0 w 1031760"/>
                <a:gd name="textAreaRight" fmla="*/ 1032120 w 1031760"/>
                <a:gd name="textAreaTop" fmla="*/ 0 h 568440"/>
                <a:gd name="textAreaBottom" fmla="*/ 568800 h 568440"/>
              </a:gdLst>
              <a:ahLst/>
              <a:rect l="textAreaLeft" t="textAreaTop" r="textAreaRight" b="textAreaBottom"/>
              <a:pathLst>
                <a:path w="1482437" h="817418">
                  <a:moveTo>
                    <a:pt x="0" y="0"/>
                  </a:moveTo>
                  <a:lnTo>
                    <a:pt x="512618" y="0"/>
                  </a:lnTo>
                  <a:lnTo>
                    <a:pt x="1052946" y="263237"/>
                  </a:lnTo>
                  <a:lnTo>
                    <a:pt x="1482437" y="817418"/>
                  </a:lnTo>
                  <a:lnTo>
                    <a:pt x="872837" y="789709"/>
                  </a:lnTo>
                  <a:lnTo>
                    <a:pt x="595746" y="526473"/>
                  </a:lnTo>
                  <a:lnTo>
                    <a:pt x="13855" y="48490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7" name="Rectangle 9"/>
            <p:cNvSpPr/>
            <p:nvPr/>
          </p:nvSpPr>
          <p:spPr>
            <a:xfrm>
              <a:off x="928800" y="428760"/>
              <a:ext cx="147600" cy="247680"/>
            </a:xfrm>
            <a:prstGeom prst="rect">
              <a:avLst/>
            </a:prstGeom>
            <a:solidFill>
              <a:srgbClr val="fac090"/>
            </a:solidFill>
            <a:ln w="57240">
              <a:solidFill>
                <a:srgbClr val="fac0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8" name="Rectangle 10"/>
            <p:cNvSpPr/>
            <p:nvPr/>
          </p:nvSpPr>
          <p:spPr>
            <a:xfrm>
              <a:off x="928800" y="876240"/>
              <a:ext cx="196560" cy="247680"/>
            </a:xfrm>
            <a:prstGeom prst="rect">
              <a:avLst/>
            </a:prstGeom>
            <a:solidFill>
              <a:srgbClr val="fac090"/>
            </a:solidFill>
            <a:ln w="57240">
              <a:solidFill>
                <a:srgbClr val="fac0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9" name="AutoShape 11"/>
            <p:cNvSpPr/>
            <p:nvPr/>
          </p:nvSpPr>
          <p:spPr>
            <a:xfrm>
              <a:off x="977760" y="477720"/>
              <a:ext cx="1176480" cy="743040"/>
            </a:xfrm>
            <a:custGeom>
              <a:avLst/>
              <a:gdLst>
                <a:gd name="textAreaLeft" fmla="*/ 0 w 1176480"/>
                <a:gd name="textAreaRight" fmla="*/ 1176840 w 1176480"/>
                <a:gd name="textAreaTop" fmla="*/ 0 h 743040"/>
                <a:gd name="textAreaBottom" fmla="*/ 743400 h 743040"/>
              </a:gdLst>
              <a:ahLst/>
              <a:rect l="textAreaLeft" t="textAreaTop" r="textAreaRight" b="textAreaBottom"/>
              <a:pathLst>
                <a:path w="1690255" h="1066800">
                  <a:moveTo>
                    <a:pt x="27709" y="32015"/>
                  </a:moveTo>
                  <a:lnTo>
                    <a:pt x="13855" y="27709"/>
                  </a:lnTo>
                  <a:lnTo>
                    <a:pt x="471055" y="27709"/>
                  </a:lnTo>
                  <a:lnTo>
                    <a:pt x="803564" y="124691"/>
                  </a:lnTo>
                  <a:lnTo>
                    <a:pt x="1108364" y="290945"/>
                  </a:lnTo>
                  <a:lnTo>
                    <a:pt x="1246909" y="207818"/>
                  </a:lnTo>
                  <a:lnTo>
                    <a:pt x="1690255" y="152400"/>
                  </a:lnTo>
                  <a:lnTo>
                    <a:pt x="1690255" y="415636"/>
                  </a:lnTo>
                  <a:lnTo>
                    <a:pt x="1537855" y="374073"/>
                  </a:lnTo>
                  <a:lnTo>
                    <a:pt x="1343891" y="387927"/>
                  </a:lnTo>
                  <a:lnTo>
                    <a:pt x="1274619" y="484909"/>
                  </a:lnTo>
                  <a:lnTo>
                    <a:pt x="1274619" y="623454"/>
                  </a:lnTo>
                  <a:lnTo>
                    <a:pt x="1648691" y="942109"/>
                  </a:lnTo>
                  <a:lnTo>
                    <a:pt x="1648691" y="1066800"/>
                  </a:lnTo>
                  <a:lnTo>
                    <a:pt x="1468582" y="1039091"/>
                  </a:lnTo>
                  <a:lnTo>
                    <a:pt x="1025237" y="651163"/>
                  </a:lnTo>
                  <a:lnTo>
                    <a:pt x="997528" y="484909"/>
                  </a:lnTo>
                  <a:lnTo>
                    <a:pt x="748146" y="346363"/>
                  </a:lnTo>
                  <a:lnTo>
                    <a:pt x="457200" y="249382"/>
                  </a:lnTo>
                  <a:lnTo>
                    <a:pt x="13855" y="235527"/>
                  </a:lnTo>
                  <a:lnTo>
                    <a:pt x="0" y="0"/>
                  </a:lnTo>
                  <a:lnTo>
                    <a:pt x="27709" y="32015"/>
                  </a:lnTo>
                  <a:close/>
                </a:path>
              </a:pathLst>
            </a:custGeom>
            <a:solidFill>
              <a:srgbClr val="fac090"/>
            </a:solidFill>
            <a:ln w="25560">
              <a:solidFill>
                <a:srgbClr val="fac0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0" name="AutoShape 12"/>
            <p:cNvSpPr/>
            <p:nvPr/>
          </p:nvSpPr>
          <p:spPr>
            <a:xfrm>
              <a:off x="1084320" y="863640"/>
              <a:ext cx="606240" cy="307800"/>
            </a:xfrm>
            <a:custGeom>
              <a:avLst/>
              <a:gdLst>
                <a:gd name="textAreaLeft" fmla="*/ 0 w 606240"/>
                <a:gd name="textAreaRight" fmla="*/ 606600 w 606240"/>
                <a:gd name="textAreaTop" fmla="*/ 0 h 307800"/>
                <a:gd name="textAreaBottom" fmla="*/ 308160 h 307800"/>
              </a:gdLst>
              <a:ahLst/>
              <a:rect l="textAreaLeft" t="textAreaTop" r="textAreaRight" b="textAreaBottom"/>
              <a:pathLst>
                <a:path w="872836" h="443346">
                  <a:moveTo>
                    <a:pt x="0" y="0"/>
                  </a:moveTo>
                  <a:lnTo>
                    <a:pt x="263236" y="0"/>
                  </a:lnTo>
                  <a:lnTo>
                    <a:pt x="512618" y="69273"/>
                  </a:lnTo>
                  <a:lnTo>
                    <a:pt x="803563" y="263237"/>
                  </a:lnTo>
                  <a:lnTo>
                    <a:pt x="872836" y="443346"/>
                  </a:lnTo>
                  <a:lnTo>
                    <a:pt x="651163" y="443346"/>
                  </a:lnTo>
                  <a:lnTo>
                    <a:pt x="568036" y="304800"/>
                  </a:lnTo>
                  <a:lnTo>
                    <a:pt x="332509" y="193964"/>
                  </a:lnTo>
                  <a:lnTo>
                    <a:pt x="13854" y="16625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c090"/>
            </a:solidFill>
            <a:ln w="25560">
              <a:solidFill>
                <a:srgbClr val="fac0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1" name="AutoShape 13"/>
            <p:cNvSpPr/>
            <p:nvPr/>
          </p:nvSpPr>
          <p:spPr>
            <a:xfrm flipH="1">
              <a:off x="3537720" y="612720"/>
              <a:ext cx="1032120" cy="568440"/>
            </a:xfrm>
            <a:custGeom>
              <a:avLst/>
              <a:gdLst>
                <a:gd name="textAreaLeft" fmla="*/ -360 w 1032120"/>
                <a:gd name="textAreaRight" fmla="*/ 1032120 w 1032120"/>
                <a:gd name="textAreaTop" fmla="*/ 0 h 568440"/>
                <a:gd name="textAreaBottom" fmla="*/ 568800 h 568440"/>
              </a:gdLst>
              <a:ahLst/>
              <a:rect l="textAreaLeft" t="textAreaTop" r="textAreaRight" b="textAreaBottom"/>
              <a:pathLst>
                <a:path w="1482437" h="817418">
                  <a:moveTo>
                    <a:pt x="0" y="0"/>
                  </a:moveTo>
                  <a:lnTo>
                    <a:pt x="512618" y="0"/>
                  </a:lnTo>
                  <a:lnTo>
                    <a:pt x="1052946" y="263237"/>
                  </a:lnTo>
                  <a:lnTo>
                    <a:pt x="1482437" y="817418"/>
                  </a:lnTo>
                  <a:lnTo>
                    <a:pt x="872837" y="789709"/>
                  </a:lnTo>
                  <a:lnTo>
                    <a:pt x="595746" y="526473"/>
                  </a:lnTo>
                  <a:lnTo>
                    <a:pt x="13855" y="48490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2" name="Rectangle 14"/>
            <p:cNvSpPr/>
            <p:nvPr/>
          </p:nvSpPr>
          <p:spPr>
            <a:xfrm flipH="1">
              <a:off x="4494240" y="428760"/>
              <a:ext cx="147600" cy="247680"/>
            </a:xfrm>
            <a:prstGeom prst="rect">
              <a:avLst/>
            </a:prstGeom>
            <a:solidFill>
              <a:srgbClr val="fac090"/>
            </a:solidFill>
            <a:ln w="57240">
              <a:solidFill>
                <a:srgbClr val="fac0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3" name="Rectangle 15"/>
            <p:cNvSpPr/>
            <p:nvPr/>
          </p:nvSpPr>
          <p:spPr>
            <a:xfrm flipH="1">
              <a:off x="4442760" y="876240"/>
              <a:ext cx="196920" cy="247680"/>
            </a:xfrm>
            <a:prstGeom prst="rect">
              <a:avLst/>
            </a:prstGeom>
            <a:solidFill>
              <a:srgbClr val="fac090"/>
            </a:solidFill>
            <a:ln w="57240">
              <a:solidFill>
                <a:srgbClr val="fac0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4" name="AutoShape 16"/>
            <p:cNvSpPr/>
            <p:nvPr/>
          </p:nvSpPr>
          <p:spPr>
            <a:xfrm flipH="1">
              <a:off x="3415680" y="477720"/>
              <a:ext cx="1176120" cy="743040"/>
            </a:xfrm>
            <a:custGeom>
              <a:avLst/>
              <a:gdLst>
                <a:gd name="textAreaLeft" fmla="*/ -360 w 1176120"/>
                <a:gd name="textAreaRight" fmla="*/ 1176120 w 1176120"/>
                <a:gd name="textAreaTop" fmla="*/ 0 h 743040"/>
                <a:gd name="textAreaBottom" fmla="*/ 743400 h 743040"/>
              </a:gdLst>
              <a:ahLst/>
              <a:rect l="textAreaLeft" t="textAreaTop" r="textAreaRight" b="textAreaBottom"/>
              <a:pathLst>
                <a:path w="1690255" h="1066800">
                  <a:moveTo>
                    <a:pt x="27709" y="32015"/>
                  </a:moveTo>
                  <a:lnTo>
                    <a:pt x="13855" y="27709"/>
                  </a:lnTo>
                  <a:lnTo>
                    <a:pt x="471055" y="27709"/>
                  </a:lnTo>
                  <a:lnTo>
                    <a:pt x="803564" y="124691"/>
                  </a:lnTo>
                  <a:lnTo>
                    <a:pt x="1108364" y="290945"/>
                  </a:lnTo>
                  <a:lnTo>
                    <a:pt x="1246909" y="207818"/>
                  </a:lnTo>
                  <a:lnTo>
                    <a:pt x="1690255" y="152400"/>
                  </a:lnTo>
                  <a:lnTo>
                    <a:pt x="1690255" y="415636"/>
                  </a:lnTo>
                  <a:lnTo>
                    <a:pt x="1537855" y="374073"/>
                  </a:lnTo>
                  <a:lnTo>
                    <a:pt x="1343891" y="387927"/>
                  </a:lnTo>
                  <a:lnTo>
                    <a:pt x="1274619" y="484909"/>
                  </a:lnTo>
                  <a:lnTo>
                    <a:pt x="1274619" y="623454"/>
                  </a:lnTo>
                  <a:lnTo>
                    <a:pt x="1648691" y="942109"/>
                  </a:lnTo>
                  <a:lnTo>
                    <a:pt x="1648691" y="1066800"/>
                  </a:lnTo>
                  <a:lnTo>
                    <a:pt x="1468582" y="1039091"/>
                  </a:lnTo>
                  <a:lnTo>
                    <a:pt x="1025237" y="651163"/>
                  </a:lnTo>
                  <a:lnTo>
                    <a:pt x="997528" y="484909"/>
                  </a:lnTo>
                  <a:lnTo>
                    <a:pt x="748146" y="346363"/>
                  </a:lnTo>
                  <a:lnTo>
                    <a:pt x="457200" y="249382"/>
                  </a:lnTo>
                  <a:lnTo>
                    <a:pt x="13855" y="235527"/>
                  </a:lnTo>
                  <a:lnTo>
                    <a:pt x="0" y="0"/>
                  </a:lnTo>
                  <a:lnTo>
                    <a:pt x="27709" y="32015"/>
                  </a:lnTo>
                  <a:close/>
                </a:path>
              </a:pathLst>
            </a:custGeom>
            <a:solidFill>
              <a:srgbClr val="fac090"/>
            </a:solidFill>
            <a:ln w="25560">
              <a:solidFill>
                <a:srgbClr val="fac0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5" name="AutoShape 17"/>
            <p:cNvSpPr/>
            <p:nvPr/>
          </p:nvSpPr>
          <p:spPr>
            <a:xfrm flipH="1">
              <a:off x="3879000" y="863640"/>
              <a:ext cx="606600" cy="307800"/>
            </a:xfrm>
            <a:custGeom>
              <a:avLst/>
              <a:gdLst>
                <a:gd name="textAreaLeft" fmla="*/ -360 w 606600"/>
                <a:gd name="textAreaRight" fmla="*/ 606600 w 606600"/>
                <a:gd name="textAreaTop" fmla="*/ 0 h 307800"/>
                <a:gd name="textAreaBottom" fmla="*/ 308160 h 307800"/>
              </a:gdLst>
              <a:ahLst/>
              <a:rect l="textAreaLeft" t="textAreaTop" r="textAreaRight" b="textAreaBottom"/>
              <a:pathLst>
                <a:path w="872836" h="443346">
                  <a:moveTo>
                    <a:pt x="0" y="0"/>
                  </a:moveTo>
                  <a:lnTo>
                    <a:pt x="263236" y="0"/>
                  </a:lnTo>
                  <a:lnTo>
                    <a:pt x="512618" y="69273"/>
                  </a:lnTo>
                  <a:lnTo>
                    <a:pt x="803563" y="263237"/>
                  </a:lnTo>
                  <a:lnTo>
                    <a:pt x="872836" y="443346"/>
                  </a:lnTo>
                  <a:lnTo>
                    <a:pt x="651163" y="443346"/>
                  </a:lnTo>
                  <a:lnTo>
                    <a:pt x="568036" y="304800"/>
                  </a:lnTo>
                  <a:lnTo>
                    <a:pt x="332509" y="193964"/>
                  </a:lnTo>
                  <a:lnTo>
                    <a:pt x="13854" y="16625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c090"/>
            </a:solidFill>
            <a:ln w="25560">
              <a:solidFill>
                <a:srgbClr val="fac0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6" name="AutoShape 18"/>
            <p:cNvSpPr/>
            <p:nvPr/>
          </p:nvSpPr>
          <p:spPr>
            <a:xfrm>
              <a:off x="2023920" y="1143000"/>
              <a:ext cx="1617840" cy="209520"/>
            </a:xfrm>
            <a:prstGeom prst="roundRect">
              <a:avLst>
                <a:gd name="adj" fmla="val 16667"/>
              </a:avLst>
            </a:prstGeom>
            <a:solidFill>
              <a:srgbClr val="fac090"/>
            </a:solidFill>
            <a:ln w="25560">
              <a:solidFill>
                <a:srgbClr val="fac0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07" name="Group 19"/>
          <p:cNvGrpSpPr/>
          <p:nvPr/>
        </p:nvGrpSpPr>
        <p:grpSpPr>
          <a:xfrm>
            <a:off x="1663560" y="4384080"/>
            <a:ext cx="2241720" cy="2242080"/>
            <a:chOff x="1663560" y="4384080"/>
            <a:chExt cx="2241720" cy="2242080"/>
          </a:xfrm>
        </p:grpSpPr>
        <p:grpSp>
          <p:nvGrpSpPr>
            <p:cNvPr id="908" name="Group 20"/>
            <p:cNvGrpSpPr/>
            <p:nvPr/>
          </p:nvGrpSpPr>
          <p:grpSpPr>
            <a:xfrm>
              <a:off x="1728720" y="4444920"/>
              <a:ext cx="2112480" cy="2112480"/>
              <a:chOff x="1728720" y="4444920"/>
              <a:chExt cx="2112480" cy="2112480"/>
            </a:xfrm>
          </p:grpSpPr>
          <p:pic>
            <p:nvPicPr>
              <p:cNvPr id="909" name="Picture 21" descr=""/>
              <p:cNvPicPr/>
              <p:nvPr/>
            </p:nvPicPr>
            <p:blipFill>
              <a:blip r:embed="rId4"/>
              <a:stretch/>
            </p:blipFill>
            <p:spPr>
              <a:xfrm>
                <a:off x="1728720" y="4444920"/>
                <a:ext cx="2112480" cy="2112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10" name="Text Box 22"/>
              <p:cNvSpPr/>
              <p:nvPr/>
            </p:nvSpPr>
            <p:spPr>
              <a:xfrm>
                <a:off x="2050920" y="4770000"/>
                <a:ext cx="1466640" cy="1466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11" name="AutoShape 23"/>
            <p:cNvSpPr/>
            <p:nvPr/>
          </p:nvSpPr>
          <p:spPr>
            <a:xfrm rot="20520000">
              <a:off x="1894680" y="4615200"/>
              <a:ext cx="1778760" cy="1779480"/>
            </a:xfrm>
            <a:custGeom>
              <a:avLst/>
              <a:gdLst>
                <a:gd name="textAreaLeft" fmla="*/ 818640 w 1778760"/>
                <a:gd name="textAreaRight" fmla="*/ 960120 w 1778760"/>
                <a:gd name="textAreaTop" fmla="*/ 819000 h 1779480"/>
                <a:gd name="textAreaBottom" fmla="*/ 960480 h 177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9941" y="9941"/>
                  </a:lnTo>
                  <a:lnTo>
                    <a:pt x="10800" y="0"/>
                  </a:lnTo>
                  <a:lnTo>
                    <a:pt x="11659" y="9941"/>
                  </a:lnTo>
                  <a:lnTo>
                    <a:pt x="21600" y="10800"/>
                  </a:lnTo>
                  <a:lnTo>
                    <a:pt x="11659" y="11659"/>
                  </a:lnTo>
                  <a:lnTo>
                    <a:pt x="10800" y="21600"/>
                  </a:lnTo>
                  <a:lnTo>
                    <a:pt x="9941" y="11659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ebf1de"/>
            </a:solidFill>
            <a:ln w="25560">
              <a:solidFill>
                <a:srgbClr val="ebf1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2" name="Oval 24"/>
            <p:cNvSpPr/>
            <p:nvPr/>
          </p:nvSpPr>
          <p:spPr>
            <a:xfrm>
              <a:off x="2638080" y="5356080"/>
              <a:ext cx="295200" cy="295200"/>
            </a:xfrm>
            <a:prstGeom prst="ellipse">
              <a:avLst/>
            </a:prstGeom>
            <a:gradFill rotWithShape="0">
              <a:gsLst>
                <a:gs pos="0">
                  <a:srgbClr val="156b13"/>
                </a:gs>
                <a:gs pos="100000">
                  <a:srgbClr val="63252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13" name="Group 25"/>
          <p:cNvGrpSpPr/>
          <p:nvPr/>
        </p:nvGrpSpPr>
        <p:grpSpPr>
          <a:xfrm>
            <a:off x="1869840" y="4365360"/>
            <a:ext cx="1871640" cy="1297440"/>
            <a:chOff x="1869840" y="4365360"/>
            <a:chExt cx="1871640" cy="1297440"/>
          </a:xfrm>
        </p:grpSpPr>
        <p:sp>
          <p:nvSpPr>
            <p:cNvPr id="914" name="AutoShape 26"/>
            <p:cNvSpPr/>
            <p:nvPr/>
          </p:nvSpPr>
          <p:spPr>
            <a:xfrm rot="21420000">
              <a:off x="1900080" y="4411800"/>
              <a:ext cx="1811160" cy="1204560"/>
            </a:xfrm>
            <a:custGeom>
              <a:avLst/>
              <a:gdLst>
                <a:gd name="textAreaLeft" fmla="*/ 37440 w 1811160"/>
                <a:gd name="textAreaRight" fmla="*/ 1811520 w 1811160"/>
                <a:gd name="textAreaTop" fmla="*/ 0 h 1204560"/>
                <a:gd name="textAreaBottom" fmla="*/ 603000 h 1204560"/>
              </a:gdLst>
              <a:ahLst/>
              <a:rect l="textAreaLeft" t="textAreaTop" r="textAreaRight" b="textAreaBottom"/>
              <a:pathLst>
                <a:path w="1755053" h="1113994">
                  <a:moveTo>
                    <a:pt x="36404" y="398230"/>
                  </a:moveTo>
                  <a:lnTo>
                    <a:pt x="36403" y="398229"/>
                  </a:lnTo>
                  <a:cubicBezTo>
                    <a:pt x="147086" y="161984"/>
                    <a:pt x="489222" y="-1"/>
                    <a:pt x="877527" y="0"/>
                  </a:cubicBezTo>
                  <a:cubicBezTo>
                    <a:pt x="1362171" y="0"/>
                    <a:pt x="1755054" y="249376"/>
                    <a:pt x="1755054" y="556997"/>
                  </a:cubicBezTo>
                  <a:cubicBezTo>
                    <a:pt x="1755054" y="556997"/>
                    <a:pt x="1755053" y="556998"/>
                    <a:pt x="1755053" y="556998"/>
                  </a:cubicBezTo>
                  <a:lnTo>
                    <a:pt x="1476555" y="556997"/>
                  </a:lnTo>
                  <a:cubicBezTo>
                    <a:pt x="1476555" y="403186"/>
                    <a:pt x="1208361" y="278498"/>
                    <a:pt x="877527" y="278498"/>
                  </a:cubicBezTo>
                  <a:cubicBezTo>
                    <a:pt x="633707" y="278497"/>
                    <a:pt x="414216" y="347203"/>
                    <a:pt x="322498" y="452233"/>
                  </a:cubicBezTo>
                  <a:close/>
                </a:path>
              </a:pathLst>
            </a:custGeom>
            <a:gradFill rotWithShape="0">
              <a:gsLst>
                <a:gs pos="0">
                  <a:srgbClr val="156b13"/>
                </a:gs>
                <a:gs pos="100000">
                  <a:srgbClr val="ddebcf"/>
                </a:gs>
              </a:gsLst>
              <a:lin ang="5400000"/>
            </a:gradFill>
            <a:ln w="255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5" name="Oval 27"/>
            <p:cNvSpPr/>
            <p:nvPr/>
          </p:nvSpPr>
          <p:spPr>
            <a:xfrm>
              <a:off x="3408120" y="4647240"/>
              <a:ext cx="278280" cy="290160"/>
            </a:xfrm>
            <a:prstGeom prst="ellipse">
              <a:avLst/>
            </a:prstGeom>
            <a:gradFill rotWithShape="0">
              <a:gsLst>
                <a:gs pos="0">
                  <a:srgbClr val="156b13"/>
                </a:gs>
                <a:gs pos="100000">
                  <a:srgbClr val="63252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6" name="Oval 28"/>
            <p:cNvSpPr/>
            <p:nvPr/>
          </p:nvSpPr>
          <p:spPr>
            <a:xfrm>
              <a:off x="1989720" y="4664160"/>
              <a:ext cx="277200" cy="290160"/>
            </a:xfrm>
            <a:prstGeom prst="ellipse">
              <a:avLst/>
            </a:prstGeom>
            <a:gradFill rotWithShape="0">
              <a:gsLst>
                <a:gs pos="0">
                  <a:srgbClr val="156b13"/>
                </a:gs>
                <a:gs pos="100000">
                  <a:srgbClr val="63252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17" name="Group 29"/>
          <p:cNvGrpSpPr/>
          <p:nvPr/>
        </p:nvGrpSpPr>
        <p:grpSpPr>
          <a:xfrm>
            <a:off x="1526040" y="2122560"/>
            <a:ext cx="2438280" cy="2741400"/>
            <a:chOff x="1526040" y="2122560"/>
            <a:chExt cx="2438280" cy="2741400"/>
          </a:xfrm>
        </p:grpSpPr>
        <p:sp>
          <p:nvSpPr>
            <p:cNvPr id="918" name="AutoShape 30"/>
            <p:cNvSpPr/>
            <p:nvPr/>
          </p:nvSpPr>
          <p:spPr>
            <a:xfrm rot="1260000">
              <a:off x="1874520" y="2359080"/>
              <a:ext cx="1740960" cy="2268000"/>
            </a:xfrm>
            <a:custGeom>
              <a:avLst/>
              <a:gdLst>
                <a:gd name="textAreaLeft" fmla="*/ 0 w 1740960"/>
                <a:gd name="textAreaRight" fmla="*/ 1741320 w 1740960"/>
                <a:gd name="textAreaTop" fmla="*/ 0 h 2268000"/>
                <a:gd name="textAreaBottom" fmla="*/ 2268360 h 2268000"/>
              </a:gdLst>
              <a:ahLst/>
              <a:rect l="textAreaLeft" t="textAreaTop" r="textAreaRight" b="textAreaBottom"/>
              <a:pathLst>
                <a:path w="1066800" h="2105891">
                  <a:moveTo>
                    <a:pt x="0" y="0"/>
                  </a:moveTo>
                  <a:lnTo>
                    <a:pt x="249382" y="0"/>
                  </a:lnTo>
                  <a:lnTo>
                    <a:pt x="1066800" y="2105891"/>
                  </a:lnTo>
                  <a:lnTo>
                    <a:pt x="831273" y="2105891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5"/>
              <a:srcRect/>
              <a:stretch/>
            </a:blipFill>
            <a:ln w="25560">
              <a:solidFill>
                <a:srgbClr val="77933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9" name="Oval 31"/>
            <p:cNvSpPr/>
            <p:nvPr/>
          </p:nvSpPr>
          <p:spPr>
            <a:xfrm rot="1260000">
              <a:off x="2512440" y="4377240"/>
              <a:ext cx="581400" cy="383400"/>
            </a:xfrm>
            <a:prstGeom prst="ellipse">
              <a:avLst/>
            </a:prstGeom>
            <a:gradFill rotWithShape="0">
              <a:gsLst>
                <a:gs pos="0">
                  <a:srgbClr val="156b13"/>
                </a:gs>
                <a:gs pos="100000">
                  <a:srgbClr val="d7e4b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20" name="Group 32"/>
          <p:cNvGrpSpPr/>
          <p:nvPr/>
        </p:nvGrpSpPr>
        <p:grpSpPr>
          <a:xfrm>
            <a:off x="2500200" y="642960"/>
            <a:ext cx="641520" cy="712800"/>
            <a:chOff x="2500200" y="642960"/>
            <a:chExt cx="641520" cy="712800"/>
          </a:xfrm>
        </p:grpSpPr>
        <p:sp>
          <p:nvSpPr>
            <p:cNvPr id="921" name="AutoShape 33"/>
            <p:cNvSpPr/>
            <p:nvPr/>
          </p:nvSpPr>
          <p:spPr>
            <a:xfrm>
              <a:off x="2571840" y="642960"/>
              <a:ext cx="498240" cy="712800"/>
            </a:xfrm>
            <a:prstGeom prst="flowChartExtract">
              <a:avLst/>
            </a:prstGeom>
            <a:gradFill rotWithShape="0">
              <a:gsLst>
                <a:gs pos="0">
                  <a:srgbClr val="e6e6e6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2" name="AutoShape 34"/>
            <p:cNvSpPr/>
            <p:nvPr/>
          </p:nvSpPr>
          <p:spPr>
            <a:xfrm>
              <a:off x="2500200" y="1143000"/>
              <a:ext cx="641520" cy="1411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3" name="AutoShape 35"/>
            <p:cNvSpPr/>
            <p:nvPr/>
          </p:nvSpPr>
          <p:spPr>
            <a:xfrm>
              <a:off x="2652840" y="785880"/>
              <a:ext cx="345960" cy="1411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24" name="Group 36"/>
          <p:cNvGrpSpPr/>
          <p:nvPr/>
        </p:nvGrpSpPr>
        <p:grpSpPr>
          <a:xfrm>
            <a:off x="1542960" y="1468440"/>
            <a:ext cx="2478240" cy="1200240"/>
            <a:chOff x="1542960" y="1468440"/>
            <a:chExt cx="2478240" cy="1200240"/>
          </a:xfrm>
        </p:grpSpPr>
        <p:pic>
          <p:nvPicPr>
            <p:cNvPr id="925" name="Picture 37" descr=""/>
            <p:cNvPicPr/>
            <p:nvPr/>
          </p:nvPicPr>
          <p:blipFill>
            <a:blip r:embed="rId6"/>
            <a:stretch/>
          </p:blipFill>
          <p:spPr>
            <a:xfrm>
              <a:off x="1542960" y="1468440"/>
              <a:ext cx="2478240" cy="120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6" name="Text Box 38"/>
            <p:cNvSpPr/>
            <p:nvPr/>
          </p:nvSpPr>
          <p:spPr>
            <a:xfrm>
              <a:off x="1571760" y="1500120"/>
              <a:ext cx="2427120" cy="114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27" name="Group 39"/>
          <p:cNvGrpSpPr/>
          <p:nvPr/>
        </p:nvGrpSpPr>
        <p:grpSpPr>
          <a:xfrm>
            <a:off x="4000680" y="1143000"/>
            <a:ext cx="285120" cy="2784600"/>
            <a:chOff x="4000680" y="1143000"/>
            <a:chExt cx="285120" cy="2784600"/>
          </a:xfrm>
        </p:grpSpPr>
        <p:grpSp>
          <p:nvGrpSpPr>
            <p:cNvPr id="928" name="Group 40"/>
            <p:cNvGrpSpPr/>
            <p:nvPr/>
          </p:nvGrpSpPr>
          <p:grpSpPr>
            <a:xfrm>
              <a:off x="4003560" y="1143000"/>
              <a:ext cx="282240" cy="2498760"/>
              <a:chOff x="4003560" y="1143000"/>
              <a:chExt cx="282240" cy="2498760"/>
            </a:xfrm>
          </p:grpSpPr>
          <p:sp>
            <p:nvSpPr>
              <p:cNvPr id="929" name="AutoShape 41"/>
              <p:cNvSpPr/>
              <p:nvPr/>
            </p:nvSpPr>
            <p:spPr>
              <a:xfrm>
                <a:off x="4003560" y="1143000"/>
                <a:ext cx="282240" cy="2498760"/>
              </a:xfrm>
              <a:custGeom>
                <a:avLst/>
                <a:gdLst>
                  <a:gd name="textAreaLeft" fmla="*/ 13680 w 282240"/>
                  <a:gd name="textAreaRight" fmla="*/ 268560 w 282240"/>
                  <a:gd name="textAreaTop" fmla="*/ 13680 h 2498760"/>
                  <a:gd name="textAreaBottom" fmla="*/ 2485080 h 2498760"/>
                </a:gdLst>
                <a:ahLst/>
                <a:rect l="textAreaLeft" t="textAreaTop" r="textAreaRight" b="textAreaBottom"/>
                <a:pathLst>
                  <a:path w="21600" h="191016">
                    <a:moveTo>
                      <a:pt x="3600" y="0"/>
                    </a:moveTo>
                    <a:arcTo wR="3600" hR="3600" stAng="16200000" swAng="-5400000"/>
                    <a:lnTo>
                      <a:pt x="0" y="187416"/>
                    </a:lnTo>
                    <a:arcTo wR="3600" hR="3600" stAng="10800000" swAng="-5400000"/>
                    <a:lnTo>
                      <a:pt x="18000" y="191016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ac090"/>
              </a:solidFill>
              <a:ln w="25560">
                <a:solidFill>
                  <a:srgbClr val="fac09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0" name="AutoShape 42"/>
              <p:cNvSpPr/>
              <p:nvPr/>
            </p:nvSpPr>
            <p:spPr>
              <a:xfrm>
                <a:off x="4074120" y="1276200"/>
                <a:ext cx="140400" cy="2293920"/>
              </a:xfrm>
              <a:custGeom>
                <a:avLst/>
                <a:gdLst>
                  <a:gd name="textAreaLeft" fmla="*/ 6840 w 140400"/>
                  <a:gd name="textAreaRight" fmla="*/ 133560 w 140400"/>
                  <a:gd name="textAreaTop" fmla="*/ 6840 h 2293920"/>
                  <a:gd name="textAreaBottom" fmla="*/ 2287080 h 2293920"/>
                </a:gdLst>
                <a:ahLst/>
                <a:rect l="textAreaLeft" t="textAreaTop" r="textAreaRight" b="textAreaBottom"/>
                <a:pathLst>
                  <a:path w="21600" h="352063">
                    <a:moveTo>
                      <a:pt x="3600" y="0"/>
                    </a:moveTo>
                    <a:arcTo wR="3600" hR="3600" stAng="16200000" swAng="-5400000"/>
                    <a:lnTo>
                      <a:pt x="0" y="348463"/>
                    </a:lnTo>
                    <a:arcTo wR="3600" hR="3600" stAng="10800000" swAng="-5400000"/>
                    <a:lnTo>
                      <a:pt x="18000" y="352063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31" name="Line 43"/>
            <p:cNvSpPr/>
            <p:nvPr/>
          </p:nvSpPr>
          <p:spPr>
            <a:xfrm flipH="1">
              <a:off x="4000680" y="1143000"/>
              <a:ext cx="2880" cy="2784600"/>
            </a:xfrm>
            <a:prstGeom prst="line">
              <a:avLst/>
            </a:prstGeom>
            <a:ln w="101520">
              <a:solidFill>
                <a:srgbClr val="fac0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32" name="Group 44"/>
          <p:cNvGrpSpPr/>
          <p:nvPr/>
        </p:nvGrpSpPr>
        <p:grpSpPr>
          <a:xfrm>
            <a:off x="1285920" y="1143000"/>
            <a:ext cx="283680" cy="2786040"/>
            <a:chOff x="1285920" y="1143000"/>
            <a:chExt cx="283680" cy="2786040"/>
          </a:xfrm>
        </p:grpSpPr>
        <p:grpSp>
          <p:nvGrpSpPr>
            <p:cNvPr id="933" name="Group 45"/>
            <p:cNvGrpSpPr/>
            <p:nvPr/>
          </p:nvGrpSpPr>
          <p:grpSpPr>
            <a:xfrm>
              <a:off x="1285920" y="1143000"/>
              <a:ext cx="282240" cy="2498760"/>
              <a:chOff x="1285920" y="1143000"/>
              <a:chExt cx="282240" cy="2498760"/>
            </a:xfrm>
          </p:grpSpPr>
          <p:sp>
            <p:nvSpPr>
              <p:cNvPr id="934" name="AutoShape 46"/>
              <p:cNvSpPr/>
              <p:nvPr/>
            </p:nvSpPr>
            <p:spPr>
              <a:xfrm>
                <a:off x="1285920" y="1143000"/>
                <a:ext cx="282240" cy="2498760"/>
              </a:xfrm>
              <a:custGeom>
                <a:avLst/>
                <a:gdLst>
                  <a:gd name="textAreaLeft" fmla="*/ 13680 w 282240"/>
                  <a:gd name="textAreaRight" fmla="*/ 268560 w 282240"/>
                  <a:gd name="textAreaTop" fmla="*/ 13680 h 2498760"/>
                  <a:gd name="textAreaBottom" fmla="*/ 2485080 h 2498760"/>
                </a:gdLst>
                <a:ahLst/>
                <a:rect l="textAreaLeft" t="textAreaTop" r="textAreaRight" b="textAreaBottom"/>
                <a:pathLst>
                  <a:path w="21600" h="191016">
                    <a:moveTo>
                      <a:pt x="3600" y="0"/>
                    </a:moveTo>
                    <a:arcTo wR="3600" hR="3600" stAng="16200000" swAng="-5400000"/>
                    <a:lnTo>
                      <a:pt x="0" y="187416"/>
                    </a:lnTo>
                    <a:arcTo wR="3600" hR="3600" stAng="10800000" swAng="-5400000"/>
                    <a:lnTo>
                      <a:pt x="18000" y="191016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ac090"/>
              </a:solidFill>
              <a:ln w="25560">
                <a:solidFill>
                  <a:srgbClr val="fac09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5" name="AutoShape 47"/>
              <p:cNvSpPr/>
              <p:nvPr/>
            </p:nvSpPr>
            <p:spPr>
              <a:xfrm>
                <a:off x="1355040" y="1276200"/>
                <a:ext cx="137160" cy="2293920"/>
              </a:xfrm>
              <a:custGeom>
                <a:avLst/>
                <a:gdLst>
                  <a:gd name="textAreaLeft" fmla="*/ 6480 w 137160"/>
                  <a:gd name="textAreaRight" fmla="*/ 130680 w 137160"/>
                  <a:gd name="textAreaTop" fmla="*/ 6480 h 2293920"/>
                  <a:gd name="textAreaBottom" fmla="*/ 2287440 h 2293920"/>
                </a:gdLst>
                <a:ahLst/>
                <a:rect l="textAreaLeft" t="textAreaTop" r="textAreaRight" b="textAreaBottom"/>
                <a:pathLst>
                  <a:path w="21600" h="360358">
                    <a:moveTo>
                      <a:pt x="3600" y="0"/>
                    </a:moveTo>
                    <a:arcTo wR="3600" hR="3600" stAng="16200000" swAng="-5400000"/>
                    <a:lnTo>
                      <a:pt x="0" y="356758"/>
                    </a:lnTo>
                    <a:arcTo wR="3600" hR="3600" stAng="10800000" swAng="-5400000"/>
                    <a:lnTo>
                      <a:pt x="18000" y="36035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36" name="Line 48"/>
            <p:cNvSpPr/>
            <p:nvPr/>
          </p:nvSpPr>
          <p:spPr>
            <a:xfrm flipH="1">
              <a:off x="1566720" y="1144440"/>
              <a:ext cx="2880" cy="2784600"/>
            </a:xfrm>
            <a:prstGeom prst="line">
              <a:avLst/>
            </a:prstGeom>
            <a:ln w="101520">
              <a:solidFill>
                <a:srgbClr val="fac0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37" name="Group 49"/>
          <p:cNvGrpSpPr/>
          <p:nvPr/>
        </p:nvGrpSpPr>
        <p:grpSpPr>
          <a:xfrm>
            <a:off x="3473280" y="214200"/>
            <a:ext cx="525600" cy="1212840"/>
            <a:chOff x="3473280" y="214200"/>
            <a:chExt cx="525600" cy="1212840"/>
          </a:xfrm>
        </p:grpSpPr>
        <p:pic>
          <p:nvPicPr>
            <p:cNvPr id="938" name="Picture 50" descr=""/>
            <p:cNvPicPr/>
            <p:nvPr/>
          </p:nvPicPr>
          <p:blipFill>
            <a:blip r:embed="rId7"/>
            <a:stretch/>
          </p:blipFill>
          <p:spPr>
            <a:xfrm>
              <a:off x="3681360" y="281160"/>
              <a:ext cx="128520" cy="10555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39" name="Group 51"/>
            <p:cNvGrpSpPr/>
            <p:nvPr/>
          </p:nvGrpSpPr>
          <p:grpSpPr>
            <a:xfrm>
              <a:off x="3473280" y="214200"/>
              <a:ext cx="509760" cy="412920"/>
              <a:chOff x="3473280" y="214200"/>
              <a:chExt cx="509760" cy="412920"/>
            </a:xfrm>
          </p:grpSpPr>
          <p:grpSp>
            <p:nvGrpSpPr>
              <p:cNvPr id="940" name="Group 52"/>
              <p:cNvGrpSpPr/>
              <p:nvPr/>
            </p:nvGrpSpPr>
            <p:grpSpPr>
              <a:xfrm>
                <a:off x="3530520" y="318960"/>
                <a:ext cx="414360" cy="155880"/>
                <a:chOff x="3530520" y="318960"/>
                <a:chExt cx="414360" cy="155880"/>
              </a:xfrm>
            </p:grpSpPr>
            <p:pic>
              <p:nvPicPr>
                <p:cNvPr id="941" name="Picture 53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3530520" y="318960"/>
                  <a:ext cx="414360" cy="155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42" name="Text Box 54"/>
                <p:cNvSpPr/>
                <p:nvPr/>
              </p:nvSpPr>
              <p:spPr>
                <a:xfrm>
                  <a:off x="3584520" y="351000"/>
                  <a:ext cx="311040" cy="5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43" name="Group 55"/>
              <p:cNvGrpSpPr/>
              <p:nvPr/>
            </p:nvGrpSpPr>
            <p:grpSpPr>
              <a:xfrm>
                <a:off x="3530520" y="392040"/>
                <a:ext cx="414360" cy="160560"/>
                <a:chOff x="3530520" y="392040"/>
                <a:chExt cx="414360" cy="160560"/>
              </a:xfrm>
            </p:grpSpPr>
            <p:pic>
              <p:nvPicPr>
                <p:cNvPr id="944" name="Picture 56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3530520" y="392040"/>
                  <a:ext cx="414360" cy="160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45" name="Text Box 57"/>
                <p:cNvSpPr/>
                <p:nvPr/>
              </p:nvSpPr>
              <p:spPr>
                <a:xfrm>
                  <a:off x="3584520" y="426960"/>
                  <a:ext cx="311040" cy="54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46" name="Group 58"/>
              <p:cNvGrpSpPr/>
              <p:nvPr/>
            </p:nvGrpSpPr>
            <p:grpSpPr>
              <a:xfrm>
                <a:off x="3473280" y="214200"/>
                <a:ext cx="509760" cy="203400"/>
                <a:chOff x="3473280" y="214200"/>
                <a:chExt cx="509760" cy="203400"/>
              </a:xfrm>
            </p:grpSpPr>
            <p:pic>
              <p:nvPicPr>
                <p:cNvPr id="947" name="Picture 59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3473280" y="214200"/>
                  <a:ext cx="509760" cy="203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48" name="Text Box 60"/>
                <p:cNvSpPr/>
                <p:nvPr/>
              </p:nvSpPr>
              <p:spPr>
                <a:xfrm>
                  <a:off x="3530520" y="250920"/>
                  <a:ext cx="399960" cy="9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49" name="Group 61"/>
              <p:cNvGrpSpPr/>
              <p:nvPr/>
            </p:nvGrpSpPr>
            <p:grpSpPr>
              <a:xfrm>
                <a:off x="3530520" y="366840"/>
                <a:ext cx="414360" cy="160200"/>
                <a:chOff x="3530520" y="366840"/>
                <a:chExt cx="414360" cy="160200"/>
              </a:xfrm>
            </p:grpSpPr>
            <p:pic>
              <p:nvPicPr>
                <p:cNvPr id="950" name="Picture 62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3530520" y="366840"/>
                  <a:ext cx="414360" cy="160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51" name="Text Box 63"/>
                <p:cNvSpPr/>
                <p:nvPr/>
              </p:nvSpPr>
              <p:spPr>
                <a:xfrm>
                  <a:off x="3584520" y="401760"/>
                  <a:ext cx="311040" cy="54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52" name="Group 64"/>
              <p:cNvGrpSpPr/>
              <p:nvPr/>
            </p:nvGrpSpPr>
            <p:grpSpPr>
              <a:xfrm>
                <a:off x="3530520" y="419040"/>
                <a:ext cx="414360" cy="155520"/>
                <a:chOff x="3530520" y="419040"/>
                <a:chExt cx="414360" cy="155520"/>
              </a:xfrm>
            </p:grpSpPr>
            <p:pic>
              <p:nvPicPr>
                <p:cNvPr id="953" name="Picture 65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3530520" y="419040"/>
                  <a:ext cx="414360" cy="155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54" name="Text Box 66"/>
                <p:cNvSpPr/>
                <p:nvPr/>
              </p:nvSpPr>
              <p:spPr>
                <a:xfrm>
                  <a:off x="3584520" y="452520"/>
                  <a:ext cx="311040" cy="54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55" name="Group 67"/>
              <p:cNvGrpSpPr/>
              <p:nvPr/>
            </p:nvGrpSpPr>
            <p:grpSpPr>
              <a:xfrm>
                <a:off x="3530520" y="471600"/>
                <a:ext cx="414360" cy="155520"/>
                <a:chOff x="3530520" y="471600"/>
                <a:chExt cx="414360" cy="155520"/>
              </a:xfrm>
            </p:grpSpPr>
            <p:pic>
              <p:nvPicPr>
                <p:cNvPr id="956" name="Picture 68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3530520" y="471600"/>
                  <a:ext cx="414360" cy="155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57" name="Text Box 69"/>
                <p:cNvSpPr/>
                <p:nvPr/>
              </p:nvSpPr>
              <p:spPr>
                <a:xfrm>
                  <a:off x="3584520" y="503280"/>
                  <a:ext cx="311040" cy="54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58" name="Group 70"/>
            <p:cNvGrpSpPr/>
            <p:nvPr/>
          </p:nvGrpSpPr>
          <p:grpSpPr>
            <a:xfrm>
              <a:off x="3503520" y="1042920"/>
              <a:ext cx="495360" cy="384120"/>
              <a:chOff x="3503520" y="1042920"/>
              <a:chExt cx="495360" cy="384120"/>
            </a:xfrm>
          </p:grpSpPr>
          <p:pic>
            <p:nvPicPr>
              <p:cNvPr id="959" name="Picture 71" descr=""/>
              <p:cNvPicPr/>
              <p:nvPr/>
            </p:nvPicPr>
            <p:blipFill>
              <a:blip r:embed="rId14"/>
              <a:stretch/>
            </p:blipFill>
            <p:spPr>
              <a:xfrm>
                <a:off x="3503520" y="1042920"/>
                <a:ext cx="495360" cy="384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60" name="Text Box 72"/>
              <p:cNvSpPr/>
              <p:nvPr/>
            </p:nvSpPr>
            <p:spPr>
              <a:xfrm>
                <a:off x="3581280" y="1092240"/>
                <a:ext cx="344520" cy="237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961" name="Group 73"/>
          <p:cNvGrpSpPr/>
          <p:nvPr/>
        </p:nvGrpSpPr>
        <p:grpSpPr>
          <a:xfrm>
            <a:off x="1544760" y="214200"/>
            <a:ext cx="525240" cy="1212840"/>
            <a:chOff x="1544760" y="214200"/>
            <a:chExt cx="525240" cy="1212840"/>
          </a:xfrm>
        </p:grpSpPr>
        <p:pic>
          <p:nvPicPr>
            <p:cNvPr id="962" name="Picture 74" descr=""/>
            <p:cNvPicPr/>
            <p:nvPr/>
          </p:nvPicPr>
          <p:blipFill>
            <a:blip r:embed="rId15"/>
            <a:stretch/>
          </p:blipFill>
          <p:spPr>
            <a:xfrm>
              <a:off x="1754280" y="281160"/>
              <a:ext cx="127080" cy="10555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63" name="Group 75"/>
            <p:cNvGrpSpPr/>
            <p:nvPr/>
          </p:nvGrpSpPr>
          <p:grpSpPr>
            <a:xfrm>
              <a:off x="1544760" y="214200"/>
              <a:ext cx="506160" cy="412920"/>
              <a:chOff x="1544760" y="214200"/>
              <a:chExt cx="506160" cy="412920"/>
            </a:xfrm>
          </p:grpSpPr>
          <p:grpSp>
            <p:nvGrpSpPr>
              <p:cNvPr id="964" name="Group 76"/>
              <p:cNvGrpSpPr/>
              <p:nvPr/>
            </p:nvGrpSpPr>
            <p:grpSpPr>
              <a:xfrm>
                <a:off x="1601640" y="318960"/>
                <a:ext cx="412920" cy="155880"/>
                <a:chOff x="1601640" y="318960"/>
                <a:chExt cx="412920" cy="155880"/>
              </a:xfrm>
            </p:grpSpPr>
            <p:pic>
              <p:nvPicPr>
                <p:cNvPr id="965" name="Picture 77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1601640" y="318960"/>
                  <a:ext cx="412920" cy="155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66" name="Text Box 78"/>
                <p:cNvSpPr/>
                <p:nvPr/>
              </p:nvSpPr>
              <p:spPr>
                <a:xfrm>
                  <a:off x="1657440" y="351000"/>
                  <a:ext cx="306360" cy="5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67" name="Group 79"/>
              <p:cNvGrpSpPr/>
              <p:nvPr/>
            </p:nvGrpSpPr>
            <p:grpSpPr>
              <a:xfrm>
                <a:off x="1601640" y="392040"/>
                <a:ext cx="412920" cy="160560"/>
                <a:chOff x="1601640" y="392040"/>
                <a:chExt cx="412920" cy="160560"/>
              </a:xfrm>
            </p:grpSpPr>
            <p:pic>
              <p:nvPicPr>
                <p:cNvPr id="968" name="Picture 80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1601640" y="392040"/>
                  <a:ext cx="412920" cy="160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69" name="Text Box 81"/>
                <p:cNvSpPr/>
                <p:nvPr/>
              </p:nvSpPr>
              <p:spPr>
                <a:xfrm>
                  <a:off x="1657440" y="426960"/>
                  <a:ext cx="306360" cy="54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70" name="Group 82"/>
              <p:cNvGrpSpPr/>
              <p:nvPr/>
            </p:nvGrpSpPr>
            <p:grpSpPr>
              <a:xfrm>
                <a:off x="1544760" y="214200"/>
                <a:ext cx="506160" cy="203400"/>
                <a:chOff x="1544760" y="214200"/>
                <a:chExt cx="506160" cy="203400"/>
              </a:xfrm>
            </p:grpSpPr>
            <p:pic>
              <p:nvPicPr>
                <p:cNvPr id="971" name="Picture 83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1544760" y="214200"/>
                  <a:ext cx="506160" cy="203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72" name="Text Box 84"/>
                <p:cNvSpPr/>
                <p:nvPr/>
              </p:nvSpPr>
              <p:spPr>
                <a:xfrm>
                  <a:off x="1603440" y="250920"/>
                  <a:ext cx="393480" cy="9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73" name="Group 85"/>
              <p:cNvGrpSpPr/>
              <p:nvPr/>
            </p:nvGrpSpPr>
            <p:grpSpPr>
              <a:xfrm>
                <a:off x="1601640" y="366840"/>
                <a:ext cx="412920" cy="160200"/>
                <a:chOff x="1601640" y="366840"/>
                <a:chExt cx="412920" cy="160200"/>
              </a:xfrm>
            </p:grpSpPr>
            <p:pic>
              <p:nvPicPr>
                <p:cNvPr id="974" name="Picture 8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1601640" y="366840"/>
                  <a:ext cx="412920" cy="160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75" name="Text Box 87"/>
                <p:cNvSpPr/>
                <p:nvPr/>
              </p:nvSpPr>
              <p:spPr>
                <a:xfrm>
                  <a:off x="1657440" y="401760"/>
                  <a:ext cx="306360" cy="54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76" name="Group 88"/>
              <p:cNvGrpSpPr/>
              <p:nvPr/>
            </p:nvGrpSpPr>
            <p:grpSpPr>
              <a:xfrm>
                <a:off x="1601640" y="419040"/>
                <a:ext cx="412920" cy="155520"/>
                <a:chOff x="1601640" y="419040"/>
                <a:chExt cx="412920" cy="155520"/>
              </a:xfrm>
            </p:grpSpPr>
            <p:pic>
              <p:nvPicPr>
                <p:cNvPr id="977" name="Picture 89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1601640" y="419040"/>
                  <a:ext cx="412920" cy="155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78" name="Text Box 90"/>
                <p:cNvSpPr/>
                <p:nvPr/>
              </p:nvSpPr>
              <p:spPr>
                <a:xfrm>
                  <a:off x="1657440" y="452520"/>
                  <a:ext cx="306360" cy="54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79" name="Group 91"/>
              <p:cNvGrpSpPr/>
              <p:nvPr/>
            </p:nvGrpSpPr>
            <p:grpSpPr>
              <a:xfrm>
                <a:off x="1601640" y="471600"/>
                <a:ext cx="412920" cy="155520"/>
                <a:chOff x="1601640" y="471600"/>
                <a:chExt cx="412920" cy="155520"/>
              </a:xfrm>
            </p:grpSpPr>
            <p:pic>
              <p:nvPicPr>
                <p:cNvPr id="980" name="Picture 92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1601640" y="471600"/>
                  <a:ext cx="412920" cy="155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81" name="Text Box 93"/>
                <p:cNvSpPr/>
                <p:nvPr/>
              </p:nvSpPr>
              <p:spPr>
                <a:xfrm>
                  <a:off x="1657440" y="503280"/>
                  <a:ext cx="306360" cy="54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82" name="Group 94"/>
            <p:cNvGrpSpPr/>
            <p:nvPr/>
          </p:nvGrpSpPr>
          <p:grpSpPr>
            <a:xfrm>
              <a:off x="1577880" y="1042920"/>
              <a:ext cx="492120" cy="384120"/>
              <a:chOff x="1577880" y="1042920"/>
              <a:chExt cx="492120" cy="384120"/>
            </a:xfrm>
          </p:grpSpPr>
          <p:pic>
            <p:nvPicPr>
              <p:cNvPr id="983" name="Picture 95" descr=""/>
              <p:cNvPicPr/>
              <p:nvPr/>
            </p:nvPicPr>
            <p:blipFill>
              <a:blip r:embed="rId22"/>
              <a:stretch/>
            </p:blipFill>
            <p:spPr>
              <a:xfrm>
                <a:off x="1577880" y="1042920"/>
                <a:ext cx="492120" cy="384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84" name="Text Box 96"/>
              <p:cNvSpPr/>
              <p:nvPr/>
            </p:nvSpPr>
            <p:spPr>
              <a:xfrm>
                <a:off x="1652760" y="1092240"/>
                <a:ext cx="342720" cy="237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85" name="AutoShape 97"/>
          <p:cNvSpPr/>
          <p:nvPr/>
        </p:nvSpPr>
        <p:spPr>
          <a:xfrm rot="14580000">
            <a:off x="1814400" y="4200120"/>
            <a:ext cx="428760" cy="1000080"/>
          </a:xfrm>
          <a:custGeom>
            <a:avLst/>
            <a:gdLst>
              <a:gd name="textAreaLeft" fmla="*/ 0 w 428760"/>
              <a:gd name="textAreaRight" fmla="*/ 429120 w 428760"/>
              <a:gd name="textAreaTop" fmla="*/ 0 h 1000080"/>
              <a:gd name="textAreaBottom" fmla="*/ 1000440 h 1000080"/>
            </a:gdLst>
            <a:ahLst/>
            <a:rect l="textAreaLeft" t="textAreaTop" r="textAreaRight" b="textAreaBottom"/>
            <a:pathLst>
              <a:path w="327890" h="942109">
                <a:moveTo>
                  <a:pt x="0" y="0"/>
                </a:moveTo>
                <a:cubicBezTo>
                  <a:pt x="98136" y="105063"/>
                  <a:pt x="196273" y="210127"/>
                  <a:pt x="249382" y="346363"/>
                </a:cubicBezTo>
                <a:cubicBezTo>
                  <a:pt x="302491" y="482599"/>
                  <a:pt x="309418" y="718127"/>
                  <a:pt x="318654" y="817418"/>
                </a:cubicBezTo>
                <a:cubicBezTo>
                  <a:pt x="327890" y="916709"/>
                  <a:pt x="316345" y="929409"/>
                  <a:pt x="304800" y="942109"/>
                </a:cubicBezTo>
              </a:path>
            </a:pathLst>
          </a:custGeom>
          <a:noFill/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"/>
          <p:cNvSpPr/>
          <p:nvPr/>
        </p:nvSpPr>
        <p:spPr>
          <a:xfrm>
            <a:off x="285840" y="523800"/>
            <a:ext cx="85723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Вращайтесь, мощные колеса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Свистите, длинные ремни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Горите свыше, впрямь и косо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Над взмахами валов, огни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уды,  бросая, как  пригоршню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В своем разлете роково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Спешите, яростные поршни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Бороться с мертвым естеством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алерий Брюс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6" name="Picture 1" descr=""/>
          <p:cNvPicPr/>
          <p:nvPr/>
        </p:nvPicPr>
        <p:blipFill>
          <a:blip r:embed="rId1"/>
          <a:stretch/>
        </p:blipFill>
        <p:spPr>
          <a:xfrm>
            <a:off x="3059280" y="620640"/>
            <a:ext cx="2655720" cy="576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87" name=""/>
          <p:cNvGraphicFramePr/>
          <p:nvPr/>
        </p:nvGraphicFramePr>
        <p:xfrm>
          <a:off x="0" y="1052640"/>
          <a:ext cx="9145440" cy="5508360"/>
        </p:xfrm>
        <a:graphic>
          <a:graphicData uri="http://schemas.openxmlformats.org/drawingml/2006/table">
            <a:tbl>
              <a:tblPr/>
              <a:tblGrid>
                <a:gridCol w="1897200"/>
                <a:gridCol w="1365120"/>
                <a:gridCol w="1625760"/>
                <a:gridCol w="2246040"/>
                <a:gridCol w="2011320"/>
              </a:tblGrid>
              <a:tr h="550800">
                <a:tc>
                  <a:txBody>
                    <a:bodyPr lIns="90000" rIns="90000" tIns="71640" bIns="46800" anchor="ctr">
                      <a:noAutofit/>
                    </a:bodyPr>
                    <a:p>
                      <a:pPr marL="68400" algn="ctr"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68400"/>
                          <a:tab algn="l" pos="982800"/>
                          <a:tab algn="l" pos="1897200"/>
                          <a:tab algn="l" pos="2811600"/>
                          <a:tab algn="l" pos="3726000"/>
                          <a:tab algn="l" pos="4640400"/>
                          <a:tab algn="l" pos="5554800"/>
                          <a:tab algn="l" pos="6469200"/>
                          <a:tab algn="l" pos="7383600"/>
                          <a:tab algn="l" pos="8298000"/>
                          <a:tab algn="l" pos="9212400"/>
                          <a:tab algn="l" pos="10126800"/>
                          <a:tab algn="l" pos="10333080"/>
                          <a:tab algn="l" pos="1078236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цикл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71640" bIns="46800" anchor="ctr">
                      <a:noAutofit/>
                    </a:bodyPr>
                    <a:p>
                      <a:pPr marL="68400" algn="ctr"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68400"/>
                          <a:tab algn="l" pos="982800"/>
                          <a:tab algn="l" pos="1897200"/>
                          <a:tab algn="l" pos="2811600"/>
                          <a:tab algn="l" pos="3726000"/>
                          <a:tab algn="l" pos="4640400"/>
                          <a:tab algn="l" pos="5554800"/>
                          <a:tab algn="l" pos="6469200"/>
                          <a:tab algn="l" pos="7383600"/>
                          <a:tab algn="l" pos="8298000"/>
                          <a:tab algn="l" pos="9212400"/>
                          <a:tab algn="l" pos="10126800"/>
                          <a:tab algn="l" pos="10333080"/>
                          <a:tab algn="l" pos="1078236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ак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71640" bIns="46800" anchor="ctr">
                      <a:noAutofit/>
                    </a:bodyPr>
                    <a:p>
                      <a:pPr marL="68400" algn="ctr"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68400"/>
                          <a:tab algn="l" pos="982800"/>
                          <a:tab algn="l" pos="1897200"/>
                          <a:tab algn="l" pos="2811600"/>
                          <a:tab algn="l" pos="3726000"/>
                          <a:tab algn="l" pos="4640400"/>
                          <a:tab algn="l" pos="5554800"/>
                          <a:tab algn="l" pos="6469200"/>
                          <a:tab algn="l" pos="7383600"/>
                          <a:tab algn="l" pos="8298000"/>
                          <a:tab algn="l" pos="9212400"/>
                          <a:tab algn="l" pos="10126800"/>
                          <a:tab algn="l" pos="10333080"/>
                          <a:tab algn="l" pos="1078236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I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ак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71640" bIns="46800" anchor="ctr">
                      <a:noAutofit/>
                    </a:bodyPr>
                    <a:p>
                      <a:pPr marL="68400" algn="ctr"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68400"/>
                          <a:tab algn="l" pos="982800"/>
                          <a:tab algn="l" pos="1897200"/>
                          <a:tab algn="l" pos="2811600"/>
                          <a:tab algn="l" pos="3726000"/>
                          <a:tab algn="l" pos="4640400"/>
                          <a:tab algn="l" pos="5554800"/>
                          <a:tab algn="l" pos="6469200"/>
                          <a:tab algn="l" pos="7383600"/>
                          <a:tab algn="l" pos="8298000"/>
                          <a:tab algn="l" pos="9212400"/>
                          <a:tab algn="l" pos="10126800"/>
                          <a:tab algn="l" pos="10333080"/>
                          <a:tab algn="l" pos="1078236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II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ак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71640" bIns="46800" anchor="ctr">
                      <a:noAutofit/>
                    </a:bodyPr>
                    <a:p>
                      <a:pPr marL="68400" algn="ctr"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68400"/>
                          <a:tab algn="l" pos="982800"/>
                          <a:tab algn="l" pos="1897200"/>
                          <a:tab algn="l" pos="2811600"/>
                          <a:tab algn="l" pos="3726000"/>
                          <a:tab algn="l" pos="4640400"/>
                          <a:tab algn="l" pos="5554800"/>
                          <a:tab algn="l" pos="6469200"/>
                          <a:tab algn="l" pos="7383600"/>
                          <a:tab algn="l" pos="8298000"/>
                          <a:tab algn="l" pos="9212400"/>
                          <a:tab algn="l" pos="10126800"/>
                          <a:tab algn="l" pos="10333080"/>
                          <a:tab algn="l" pos="1078236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V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ак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77680">
                <a:tc>
                  <a:txBody>
                    <a:bodyPr lIns="90000" rIns="90000" tIns="68040" bIns="46800" anchor="ctr">
                      <a:noAutofit/>
                    </a:bodyPr>
                    <a:p>
                      <a:pPr marL="68400" algn="ctr">
                        <a:lnSpc>
                          <a:spcPct val="93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68400"/>
                          <a:tab algn="l" pos="982800"/>
                          <a:tab algn="l" pos="1897200"/>
                          <a:tab algn="l" pos="2811600"/>
                          <a:tab algn="l" pos="3726000"/>
                          <a:tab algn="l" pos="4640400"/>
                          <a:tab algn="l" pos="5554800"/>
                          <a:tab algn="l" pos="6469200"/>
                          <a:tab algn="l" pos="7383600"/>
                          <a:tab algn="l" pos="8298000"/>
                          <a:tab algn="l" pos="9212400"/>
                          <a:tab algn="l" pos="10126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звание цикл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0840" bIns="46800" anchor="ctr">
                      <a:noAutofit/>
                    </a:bodyPr>
                    <a:p>
                      <a:pPr marL="68400"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68400"/>
                          <a:tab algn="l" pos="982800"/>
                          <a:tab algn="l" pos="1897200"/>
                          <a:tab algn="l" pos="2811600"/>
                          <a:tab algn="l" pos="3726000"/>
                          <a:tab algn="l" pos="4640400"/>
                          <a:tab algn="l" pos="5554800"/>
                          <a:tab algn="l" pos="6469200"/>
                          <a:tab algn="l" pos="7383600"/>
                          <a:tab algn="l" pos="8298000"/>
                          <a:tab algn="l" pos="9212400"/>
                          <a:tab algn="l" pos="10126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пуск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0840" bIns="46800" anchor="ctr">
                      <a:noAutofit/>
                    </a:bodyPr>
                    <a:p>
                      <a:pPr marL="68400"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68400"/>
                          <a:tab algn="l" pos="982800"/>
                          <a:tab algn="l" pos="1897200"/>
                          <a:tab algn="l" pos="2811600"/>
                          <a:tab algn="l" pos="3726000"/>
                          <a:tab algn="l" pos="4640400"/>
                          <a:tab algn="l" pos="5554800"/>
                          <a:tab algn="l" pos="6469200"/>
                          <a:tab algn="l" pos="7383600"/>
                          <a:tab algn="l" pos="8298000"/>
                          <a:tab algn="l" pos="9212400"/>
                          <a:tab algn="l" pos="10126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жати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0840" bIns="46800" anchor="ctr">
                      <a:noAutofit/>
                    </a:bodyPr>
                    <a:p>
                      <a:pPr marL="68400"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68400"/>
                          <a:tab algn="l" pos="982800"/>
                          <a:tab algn="l" pos="1897200"/>
                          <a:tab algn="l" pos="2811600"/>
                          <a:tab algn="l" pos="3726000"/>
                          <a:tab algn="l" pos="4640400"/>
                          <a:tab algn="l" pos="5554800"/>
                          <a:tab algn="l" pos="6469200"/>
                          <a:tab algn="l" pos="7383600"/>
                          <a:tab algn="l" pos="8298000"/>
                          <a:tab algn="l" pos="9212400"/>
                          <a:tab algn="l" pos="10126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бочий ход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0840" bIns="46800" anchor="ctr">
                      <a:noAutofit/>
                    </a:bodyPr>
                    <a:p>
                      <a:pPr marL="68400"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68400"/>
                          <a:tab algn="l" pos="982800"/>
                          <a:tab algn="l" pos="1897200"/>
                          <a:tab algn="l" pos="2811600"/>
                          <a:tab algn="l" pos="3726000"/>
                          <a:tab algn="l" pos="4640400"/>
                          <a:tab algn="l" pos="5554800"/>
                          <a:tab algn="l" pos="6469200"/>
                          <a:tab algn="l" pos="7383600"/>
                          <a:tab algn="l" pos="8298000"/>
                          <a:tab algn="l" pos="9212400"/>
                          <a:tab algn="l" pos="10126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ыпуск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74800">
                <a:tc>
                  <a:txBody>
                    <a:bodyPr lIns="90000" rIns="90000" tIns="68040" bIns="46800" anchor="ctr">
                      <a:noAutofit/>
                    </a:bodyPr>
                    <a:p>
                      <a:pPr marL="68400" algn="ctr">
                        <a:lnSpc>
                          <a:spcPct val="93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68400"/>
                          <a:tab algn="l" pos="982800"/>
                          <a:tab algn="l" pos="1897200"/>
                          <a:tab algn="l" pos="2811600"/>
                          <a:tab algn="l" pos="3726000"/>
                          <a:tab algn="l" pos="4640400"/>
                          <a:tab algn="l" pos="5554800"/>
                          <a:tab algn="l" pos="6469200"/>
                          <a:tab algn="l" pos="7383600"/>
                          <a:tab algn="l" pos="8298000"/>
                          <a:tab algn="l" pos="9212400"/>
                          <a:tab algn="l" pos="10126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вижение поршн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0840" bIns="46800" anchor="ctr">
                      <a:noAutofit/>
                    </a:bodyPr>
                    <a:p>
                      <a:pPr marL="68400"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68400"/>
                          <a:tab algn="l" pos="982800"/>
                          <a:tab algn="l" pos="1897200"/>
                          <a:tab algn="l" pos="2811600"/>
                          <a:tab algn="l" pos="3726000"/>
                          <a:tab algn="l" pos="4640400"/>
                          <a:tab algn="l" pos="5554800"/>
                          <a:tab algn="l" pos="6469200"/>
                          <a:tab algn="l" pos="7383600"/>
                          <a:tab algn="l" pos="8298000"/>
                          <a:tab algn="l" pos="9212400"/>
                          <a:tab algn="l" pos="10126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низ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0840" bIns="46800" anchor="ctr">
                      <a:noAutofit/>
                    </a:bodyPr>
                    <a:p>
                      <a:pPr marL="68400"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68400"/>
                          <a:tab algn="l" pos="982800"/>
                          <a:tab algn="l" pos="1897200"/>
                          <a:tab algn="l" pos="2811600"/>
                          <a:tab algn="l" pos="3726000"/>
                          <a:tab algn="l" pos="4640400"/>
                          <a:tab algn="l" pos="5554800"/>
                          <a:tab algn="l" pos="6469200"/>
                          <a:tab algn="l" pos="7383600"/>
                          <a:tab algn="l" pos="8298000"/>
                          <a:tab algn="l" pos="9212400"/>
                          <a:tab algn="l" pos="10126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верх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0840" bIns="46800" anchor="ctr">
                      <a:noAutofit/>
                    </a:bodyPr>
                    <a:p>
                      <a:pPr marL="68400"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68400"/>
                          <a:tab algn="l" pos="982800"/>
                          <a:tab algn="l" pos="1897200"/>
                          <a:tab algn="l" pos="2811600"/>
                          <a:tab algn="l" pos="3726000"/>
                          <a:tab algn="l" pos="4640400"/>
                          <a:tab algn="l" pos="5554800"/>
                          <a:tab algn="l" pos="6469200"/>
                          <a:tab algn="l" pos="7383600"/>
                          <a:tab algn="l" pos="8298000"/>
                          <a:tab algn="l" pos="9212400"/>
                          <a:tab algn="l" pos="10126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низ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0840" bIns="46800" anchor="ctr">
                      <a:noAutofit/>
                    </a:bodyPr>
                    <a:p>
                      <a:pPr marL="68400"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68400"/>
                          <a:tab algn="l" pos="982800"/>
                          <a:tab algn="l" pos="1897200"/>
                          <a:tab algn="l" pos="2811600"/>
                          <a:tab algn="l" pos="3726000"/>
                          <a:tab algn="l" pos="4640400"/>
                          <a:tab algn="l" pos="5554800"/>
                          <a:tab algn="l" pos="6469200"/>
                          <a:tab algn="l" pos="7383600"/>
                          <a:tab algn="l" pos="8298000"/>
                          <a:tab algn="l" pos="9212400"/>
                          <a:tab algn="l" pos="10126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верх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90640">
                <a:tc>
                  <a:txBody>
                    <a:bodyPr lIns="90000" rIns="90000" tIns="68040" bIns="46800" anchor="ctr">
                      <a:noAutofit/>
                    </a:bodyPr>
                    <a:p>
                      <a:pPr marL="68400" algn="ctr">
                        <a:lnSpc>
                          <a:spcPct val="93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68400"/>
                          <a:tab algn="l" pos="982800"/>
                          <a:tab algn="l" pos="1897200"/>
                          <a:tab algn="l" pos="2811600"/>
                          <a:tab algn="l" pos="3726000"/>
                          <a:tab algn="l" pos="4640400"/>
                          <a:tab algn="l" pos="5554800"/>
                          <a:tab algn="l" pos="6469200"/>
                          <a:tab algn="l" pos="7383600"/>
                          <a:tab algn="l" pos="8298000"/>
                          <a:tab algn="l" pos="9212400"/>
                          <a:tab algn="l" pos="10126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пускной клапан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0840" bIns="46800" anchor="ctr">
                      <a:noAutofit/>
                    </a:bodyPr>
                    <a:p>
                      <a:pPr marL="68400"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68400"/>
                          <a:tab algn="l" pos="982800"/>
                          <a:tab algn="l" pos="1897200"/>
                          <a:tab algn="l" pos="2811600"/>
                          <a:tab algn="l" pos="3726000"/>
                          <a:tab algn="l" pos="4640400"/>
                          <a:tab algn="l" pos="5554800"/>
                          <a:tab algn="l" pos="6469200"/>
                          <a:tab algn="l" pos="7383600"/>
                          <a:tab algn="l" pos="8298000"/>
                          <a:tab algn="l" pos="9212400"/>
                          <a:tab algn="l" pos="10126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ткры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0840" bIns="46800" anchor="ctr">
                      <a:noAutofit/>
                    </a:bodyPr>
                    <a:p>
                      <a:pPr marL="68400"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68400"/>
                          <a:tab algn="l" pos="982800"/>
                          <a:tab algn="l" pos="1897200"/>
                          <a:tab algn="l" pos="2811600"/>
                          <a:tab algn="l" pos="3726000"/>
                          <a:tab algn="l" pos="4640400"/>
                          <a:tab algn="l" pos="5554800"/>
                          <a:tab algn="l" pos="6469200"/>
                          <a:tab algn="l" pos="7383600"/>
                          <a:tab algn="l" pos="8298000"/>
                          <a:tab algn="l" pos="9212400"/>
                          <a:tab algn="l" pos="10126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кры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0840" bIns="46800" anchor="ctr">
                      <a:noAutofit/>
                    </a:bodyPr>
                    <a:p>
                      <a:pPr marL="68400"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68400"/>
                          <a:tab algn="l" pos="982800"/>
                          <a:tab algn="l" pos="1897200"/>
                          <a:tab algn="l" pos="2811600"/>
                          <a:tab algn="l" pos="3726000"/>
                          <a:tab algn="l" pos="4640400"/>
                          <a:tab algn="l" pos="5554800"/>
                          <a:tab algn="l" pos="6469200"/>
                          <a:tab algn="l" pos="7383600"/>
                          <a:tab algn="l" pos="8298000"/>
                          <a:tab algn="l" pos="9212400"/>
                          <a:tab algn="l" pos="10126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кры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0840" bIns="46800" anchor="ctr">
                      <a:noAutofit/>
                    </a:bodyPr>
                    <a:p>
                      <a:pPr marL="68400"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68400"/>
                          <a:tab algn="l" pos="982800"/>
                          <a:tab algn="l" pos="1897200"/>
                          <a:tab algn="l" pos="2811600"/>
                          <a:tab algn="l" pos="3726000"/>
                          <a:tab algn="l" pos="4640400"/>
                          <a:tab algn="l" pos="5554800"/>
                          <a:tab algn="l" pos="6469200"/>
                          <a:tab algn="l" pos="7383600"/>
                          <a:tab algn="l" pos="8298000"/>
                          <a:tab algn="l" pos="9212400"/>
                          <a:tab algn="l" pos="10126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кры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24160">
                <a:tc>
                  <a:txBody>
                    <a:bodyPr lIns="90000" rIns="90000" tIns="68040" bIns="46800" anchor="ctr">
                      <a:noAutofit/>
                    </a:bodyPr>
                    <a:p>
                      <a:pPr marL="68400" algn="ctr">
                        <a:lnSpc>
                          <a:spcPct val="93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68400"/>
                          <a:tab algn="l" pos="982800"/>
                          <a:tab algn="l" pos="1897200"/>
                          <a:tab algn="l" pos="2811600"/>
                          <a:tab algn="l" pos="3726000"/>
                          <a:tab algn="l" pos="4640400"/>
                          <a:tab algn="l" pos="5554800"/>
                          <a:tab algn="l" pos="6469200"/>
                          <a:tab algn="l" pos="7383600"/>
                          <a:tab algn="l" pos="8298000"/>
                          <a:tab algn="l" pos="9212400"/>
                          <a:tab algn="l" pos="10126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бочее тело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0840" bIns="46800" anchor="ctr">
                      <a:noAutofit/>
                    </a:bodyPr>
                    <a:p>
                      <a:pPr marL="68400"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68400"/>
                          <a:tab algn="l" pos="982800"/>
                          <a:tab algn="l" pos="1897200"/>
                          <a:tab algn="l" pos="2811600"/>
                          <a:tab algn="l" pos="3726000"/>
                          <a:tab algn="l" pos="4640400"/>
                          <a:tab algn="l" pos="5554800"/>
                          <a:tab algn="l" pos="6469200"/>
                          <a:tab algn="l" pos="7383600"/>
                          <a:tab algn="l" pos="8298000"/>
                          <a:tab algn="l" pos="9212400"/>
                          <a:tab algn="l" pos="10126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орючая смесь входит в цилиндр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0840" bIns="46800" anchor="ctr">
                      <a:noAutofit/>
                    </a:bodyPr>
                    <a:p>
                      <a:pPr marL="68400"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68400"/>
                          <a:tab algn="l" pos="982800"/>
                          <a:tab algn="l" pos="1897200"/>
                          <a:tab algn="l" pos="2811600"/>
                          <a:tab algn="l" pos="3726000"/>
                          <a:tab algn="l" pos="4640400"/>
                          <a:tab algn="l" pos="5554800"/>
                          <a:tab algn="l" pos="6469200"/>
                          <a:tab algn="l" pos="7383600"/>
                          <a:tab algn="l" pos="8298000"/>
                          <a:tab algn="l" pos="9212400"/>
                          <a:tab algn="l" pos="10126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орючая смесь сжимается и воспламеняетс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0840" bIns="46800" anchor="ctr">
                      <a:noAutofit/>
                    </a:bodyPr>
                    <a:p>
                      <a:pPr marL="68400"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68400"/>
                          <a:tab algn="l" pos="982800"/>
                          <a:tab algn="l" pos="1897200"/>
                          <a:tab algn="l" pos="2811600"/>
                          <a:tab algn="l" pos="3726000"/>
                          <a:tab algn="l" pos="4640400"/>
                          <a:tab algn="l" pos="5554800"/>
                          <a:tab algn="l" pos="6469200"/>
                          <a:tab algn="l" pos="7383600"/>
                          <a:tab algn="l" pos="8298000"/>
                          <a:tab algn="l" pos="9212400"/>
                          <a:tab algn="l" pos="10126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разованные горячие газы двигают поршень вниз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0840" bIns="46800" anchor="ctr">
                      <a:noAutofit/>
                    </a:bodyPr>
                    <a:p>
                      <a:pPr marL="68400"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68400"/>
                          <a:tab algn="l" pos="982800"/>
                          <a:tab algn="l" pos="1897200"/>
                          <a:tab algn="l" pos="2811600"/>
                          <a:tab algn="l" pos="3726000"/>
                          <a:tab algn="l" pos="4640400"/>
                          <a:tab algn="l" pos="5554800"/>
                          <a:tab algn="l" pos="6469200"/>
                          <a:tab algn="l" pos="7383600"/>
                          <a:tab algn="l" pos="8298000"/>
                          <a:tab algn="l" pos="9212400"/>
                          <a:tab algn="l" pos="10126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тработанные газы выбрасываются в атмосферу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90280">
                <a:tc>
                  <a:txBody>
                    <a:bodyPr lIns="90000" rIns="90000" tIns="68040" bIns="46800" anchor="ctr">
                      <a:noAutofit/>
                    </a:bodyPr>
                    <a:p>
                      <a:pPr marL="68400" algn="ctr">
                        <a:lnSpc>
                          <a:spcPct val="93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68400"/>
                          <a:tab algn="l" pos="982800"/>
                          <a:tab algn="l" pos="1897200"/>
                          <a:tab algn="l" pos="2811600"/>
                          <a:tab algn="l" pos="3726000"/>
                          <a:tab algn="l" pos="4640400"/>
                          <a:tab algn="l" pos="5554800"/>
                          <a:tab algn="l" pos="6469200"/>
                          <a:tab algn="l" pos="7383600"/>
                          <a:tab algn="l" pos="8298000"/>
                          <a:tab algn="l" pos="9212400"/>
                          <a:tab algn="l" pos="10126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ыпускной клапан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0840" bIns="46800" anchor="ctr">
                      <a:noAutofit/>
                    </a:bodyPr>
                    <a:p>
                      <a:pPr marL="68400"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68400"/>
                          <a:tab algn="l" pos="982800"/>
                          <a:tab algn="l" pos="1897200"/>
                          <a:tab algn="l" pos="2811600"/>
                          <a:tab algn="l" pos="3726000"/>
                          <a:tab algn="l" pos="4640400"/>
                          <a:tab algn="l" pos="5554800"/>
                          <a:tab algn="l" pos="6469200"/>
                          <a:tab algn="l" pos="7383600"/>
                          <a:tab algn="l" pos="8298000"/>
                          <a:tab algn="l" pos="9212400"/>
                          <a:tab algn="l" pos="10126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кры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68400"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68400"/>
                          <a:tab algn="l" pos="982800"/>
                          <a:tab algn="l" pos="1897200"/>
                          <a:tab algn="l" pos="2811600"/>
                          <a:tab algn="l" pos="3726000"/>
                          <a:tab algn="l" pos="4640400"/>
                          <a:tab algn="l" pos="5554800"/>
                          <a:tab algn="l" pos="6469200"/>
                          <a:tab algn="l" pos="7383600"/>
                          <a:tab algn="l" pos="8298000"/>
                          <a:tab algn="l" pos="9212400"/>
                          <a:tab algn="l" pos="101268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0840" bIns="46800" anchor="ctr">
                      <a:noAutofit/>
                    </a:bodyPr>
                    <a:p>
                      <a:pPr marL="68400"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68400"/>
                          <a:tab algn="l" pos="982800"/>
                          <a:tab algn="l" pos="1897200"/>
                          <a:tab algn="l" pos="2811600"/>
                          <a:tab algn="l" pos="3726000"/>
                          <a:tab algn="l" pos="4640400"/>
                          <a:tab algn="l" pos="5554800"/>
                          <a:tab algn="l" pos="6469200"/>
                          <a:tab algn="l" pos="7383600"/>
                          <a:tab algn="l" pos="8298000"/>
                          <a:tab algn="l" pos="9212400"/>
                          <a:tab algn="l" pos="10126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кры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68400"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68400"/>
                          <a:tab algn="l" pos="982800"/>
                          <a:tab algn="l" pos="1897200"/>
                          <a:tab algn="l" pos="2811600"/>
                          <a:tab algn="l" pos="3726000"/>
                          <a:tab algn="l" pos="4640400"/>
                          <a:tab algn="l" pos="5554800"/>
                          <a:tab algn="l" pos="6469200"/>
                          <a:tab algn="l" pos="7383600"/>
                          <a:tab algn="l" pos="8298000"/>
                          <a:tab algn="l" pos="9212400"/>
                          <a:tab algn="l" pos="101268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0840" bIns="46800" anchor="ctr">
                      <a:noAutofit/>
                    </a:bodyPr>
                    <a:p>
                      <a:pPr marL="68400"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68400"/>
                          <a:tab algn="l" pos="982800"/>
                          <a:tab algn="l" pos="1897200"/>
                          <a:tab algn="l" pos="2811600"/>
                          <a:tab algn="l" pos="3726000"/>
                          <a:tab algn="l" pos="4640400"/>
                          <a:tab algn="l" pos="5554800"/>
                          <a:tab algn="l" pos="6469200"/>
                          <a:tab algn="l" pos="7383600"/>
                          <a:tab algn="l" pos="8298000"/>
                          <a:tab algn="l" pos="9212400"/>
                          <a:tab algn="l" pos="10126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кры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68400"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68400"/>
                          <a:tab algn="l" pos="982800"/>
                          <a:tab algn="l" pos="1897200"/>
                          <a:tab algn="l" pos="2811600"/>
                          <a:tab algn="l" pos="3726000"/>
                          <a:tab algn="l" pos="4640400"/>
                          <a:tab algn="l" pos="5554800"/>
                          <a:tab algn="l" pos="6469200"/>
                          <a:tab algn="l" pos="7383600"/>
                          <a:tab algn="l" pos="8298000"/>
                          <a:tab algn="l" pos="9212400"/>
                          <a:tab algn="l" pos="101268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0840" bIns="46800" anchor="ctr">
                      <a:noAutofit/>
                    </a:bodyPr>
                    <a:p>
                      <a:pPr marL="68400"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68400"/>
                          <a:tab algn="l" pos="982800"/>
                          <a:tab algn="l" pos="1897200"/>
                          <a:tab algn="l" pos="2811600"/>
                          <a:tab algn="l" pos="3726000"/>
                          <a:tab algn="l" pos="4640400"/>
                          <a:tab algn="l" pos="5554800"/>
                          <a:tab algn="l" pos="6469200"/>
                          <a:tab algn="l" pos="7383600"/>
                          <a:tab algn="l" pos="8298000"/>
                          <a:tab algn="l" pos="9212400"/>
                          <a:tab algn="l" pos="10126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ткры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68400"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68400"/>
                          <a:tab algn="l" pos="982800"/>
                          <a:tab algn="l" pos="1897200"/>
                          <a:tab algn="l" pos="2811600"/>
                          <a:tab algn="l" pos="3726000"/>
                          <a:tab algn="l" pos="4640400"/>
                          <a:tab algn="l" pos="5554800"/>
                          <a:tab algn="l" pos="6469200"/>
                          <a:tab algn="l" pos="7383600"/>
                          <a:tab algn="l" pos="8298000"/>
                          <a:tab algn="l" pos="9212400"/>
                          <a:tab algn="l" pos="101268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88" name="WordArt 32"/>
          <p:cNvSpPr txBox="1"/>
          <p:nvPr/>
        </p:nvSpPr>
        <p:spPr>
          <a:xfrm>
            <a:off x="755640" y="189000"/>
            <a:ext cx="727236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9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7676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Молодцы! Вы справились!</a:t>
            </a:r>
            <a:endParaRPr b="1" i="1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7676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9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9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9" name="Group 1"/>
          <p:cNvGrpSpPr/>
          <p:nvPr/>
        </p:nvGrpSpPr>
        <p:grpSpPr>
          <a:xfrm>
            <a:off x="2757600" y="1714680"/>
            <a:ext cx="1998360" cy="2641320"/>
            <a:chOff x="2757600" y="1714680"/>
            <a:chExt cx="1998360" cy="2641320"/>
          </a:xfrm>
        </p:grpSpPr>
        <p:sp>
          <p:nvSpPr>
            <p:cNvPr id="990" name="Rectangle 2"/>
            <p:cNvSpPr/>
            <p:nvPr/>
          </p:nvSpPr>
          <p:spPr>
            <a:xfrm>
              <a:off x="2948040" y="2254320"/>
              <a:ext cx="1616040" cy="2101680"/>
            </a:xfrm>
            <a:prstGeom prst="rect">
              <a:avLst/>
            </a:prstGeom>
            <a:solidFill>
              <a:srgbClr val="004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91" name="Group 3"/>
            <p:cNvGrpSpPr/>
            <p:nvPr/>
          </p:nvGrpSpPr>
          <p:grpSpPr>
            <a:xfrm>
              <a:off x="4567320" y="2254320"/>
              <a:ext cx="188640" cy="2101680"/>
              <a:chOff x="4567320" y="2254320"/>
              <a:chExt cx="188640" cy="2101680"/>
            </a:xfrm>
          </p:grpSpPr>
          <p:grpSp>
            <p:nvGrpSpPr>
              <p:cNvPr id="992" name="Group 4"/>
              <p:cNvGrpSpPr/>
              <p:nvPr/>
            </p:nvGrpSpPr>
            <p:grpSpPr>
              <a:xfrm>
                <a:off x="4570200" y="2254320"/>
                <a:ext cx="185760" cy="1886040"/>
                <a:chOff x="4570200" y="2254320"/>
                <a:chExt cx="185760" cy="1886040"/>
              </a:xfrm>
            </p:grpSpPr>
            <p:sp>
              <p:nvSpPr>
                <p:cNvPr id="993" name="AutoShape 5"/>
                <p:cNvSpPr/>
                <p:nvPr/>
              </p:nvSpPr>
              <p:spPr>
                <a:xfrm>
                  <a:off x="4570200" y="2254320"/>
                  <a:ext cx="185760" cy="1886040"/>
                </a:xfrm>
                <a:custGeom>
                  <a:avLst/>
                  <a:gdLst>
                    <a:gd name="textAreaLeft" fmla="*/ 9000 w 185760"/>
                    <a:gd name="textAreaRight" fmla="*/ 176760 w 185760"/>
                    <a:gd name="textAreaTop" fmla="*/ 9000 h 1886040"/>
                    <a:gd name="textAreaBottom" fmla="*/ 1877040 h 1886040"/>
                  </a:gdLst>
                  <a:ahLst/>
                  <a:rect l="textAreaLeft" t="textAreaTop" r="textAreaRight" b="textAreaBottom"/>
                  <a:pathLst>
                    <a:path w="21600" h="218925">
                      <a:moveTo>
                        <a:pt x="3600" y="0"/>
                      </a:moveTo>
                      <a:arcTo wR="3600" hR="3600" stAng="16200000" swAng="-5400000"/>
                      <a:lnTo>
                        <a:pt x="0" y="215325"/>
                      </a:lnTo>
                      <a:arcTo wR="3600" hR="3600" stAng="10800000" swAng="-5400000"/>
                      <a:lnTo>
                        <a:pt x="18000" y="218925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fac090"/>
                </a:solidFill>
                <a:ln w="25560">
                  <a:solidFill>
                    <a:srgbClr val="fac09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94" name="AutoShape 6"/>
                <p:cNvSpPr/>
                <p:nvPr/>
              </p:nvSpPr>
              <p:spPr>
                <a:xfrm>
                  <a:off x="4615200" y="2354400"/>
                  <a:ext cx="91800" cy="1731960"/>
                </a:xfrm>
                <a:custGeom>
                  <a:avLst/>
                  <a:gdLst>
                    <a:gd name="textAreaLeft" fmla="*/ 4320 w 91800"/>
                    <a:gd name="textAreaRight" fmla="*/ 87480 w 91800"/>
                    <a:gd name="textAreaTop" fmla="*/ 4320 h 1731960"/>
                    <a:gd name="textAreaBottom" fmla="*/ 1727640 h 1731960"/>
                  </a:gdLst>
                  <a:ahLst/>
                  <a:rect l="textAreaLeft" t="textAreaTop" r="textAreaRight" b="textAreaBottom"/>
                  <a:pathLst>
                    <a:path w="21600" h="406013">
                      <a:moveTo>
                        <a:pt x="3600" y="0"/>
                      </a:moveTo>
                      <a:arcTo wR="3600" hR="3600" stAng="16200000" swAng="-5400000"/>
                      <a:lnTo>
                        <a:pt x="0" y="402413"/>
                      </a:lnTo>
                      <a:arcTo wR="3600" hR="3600" stAng="10800000" swAng="-5400000"/>
                      <a:lnTo>
                        <a:pt x="18000" y="406013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995" name="Line 7"/>
              <p:cNvSpPr/>
              <p:nvPr/>
            </p:nvSpPr>
            <p:spPr>
              <a:xfrm flipH="1">
                <a:off x="4567320" y="2254320"/>
                <a:ext cx="2880" cy="2101680"/>
              </a:xfrm>
              <a:prstGeom prst="line">
                <a:avLst/>
              </a:prstGeom>
              <a:ln w="101520">
                <a:solidFill>
                  <a:srgbClr val="fac09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96" name="Group 8"/>
            <p:cNvGrpSpPr/>
            <p:nvPr/>
          </p:nvGrpSpPr>
          <p:grpSpPr>
            <a:xfrm>
              <a:off x="2757600" y="2254320"/>
              <a:ext cx="188280" cy="2101680"/>
              <a:chOff x="2757600" y="2254320"/>
              <a:chExt cx="188280" cy="2101680"/>
            </a:xfrm>
          </p:grpSpPr>
          <p:grpSp>
            <p:nvGrpSpPr>
              <p:cNvPr id="997" name="Group 9"/>
              <p:cNvGrpSpPr/>
              <p:nvPr/>
            </p:nvGrpSpPr>
            <p:grpSpPr>
              <a:xfrm>
                <a:off x="2757600" y="2254320"/>
                <a:ext cx="186840" cy="1886040"/>
                <a:chOff x="2757600" y="2254320"/>
                <a:chExt cx="186840" cy="1886040"/>
              </a:xfrm>
            </p:grpSpPr>
            <p:sp>
              <p:nvSpPr>
                <p:cNvPr id="998" name="AutoShape 10"/>
                <p:cNvSpPr/>
                <p:nvPr/>
              </p:nvSpPr>
              <p:spPr>
                <a:xfrm>
                  <a:off x="2757600" y="2254320"/>
                  <a:ext cx="186840" cy="1886040"/>
                </a:xfrm>
                <a:custGeom>
                  <a:avLst/>
                  <a:gdLst>
                    <a:gd name="textAreaLeft" fmla="*/ 9000 w 186840"/>
                    <a:gd name="textAreaRight" fmla="*/ 177840 w 186840"/>
                    <a:gd name="textAreaTop" fmla="*/ 9000 h 1886040"/>
                    <a:gd name="textAreaBottom" fmla="*/ 1877040 h 1886040"/>
                  </a:gdLst>
                  <a:ahLst/>
                  <a:rect l="textAreaLeft" t="textAreaTop" r="textAreaRight" b="textAreaBottom"/>
                  <a:pathLst>
                    <a:path w="21600" h="217662">
                      <a:moveTo>
                        <a:pt x="3600" y="0"/>
                      </a:moveTo>
                      <a:arcTo wR="3600" hR="3600" stAng="16200000" swAng="-5400000"/>
                      <a:lnTo>
                        <a:pt x="0" y="214062"/>
                      </a:lnTo>
                      <a:arcTo wR="3600" hR="3600" stAng="10800000" swAng="-5400000"/>
                      <a:lnTo>
                        <a:pt x="18000" y="217662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fac090"/>
                </a:solidFill>
                <a:ln w="25560">
                  <a:solidFill>
                    <a:srgbClr val="fac09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99" name="AutoShape 11"/>
                <p:cNvSpPr/>
                <p:nvPr/>
              </p:nvSpPr>
              <p:spPr>
                <a:xfrm>
                  <a:off x="2804400" y="2354400"/>
                  <a:ext cx="92520" cy="1731960"/>
                </a:xfrm>
                <a:custGeom>
                  <a:avLst/>
                  <a:gdLst>
                    <a:gd name="textAreaLeft" fmla="*/ 4320 w 92520"/>
                    <a:gd name="textAreaRight" fmla="*/ 88200 w 92520"/>
                    <a:gd name="textAreaTop" fmla="*/ 4320 h 1731960"/>
                    <a:gd name="textAreaBottom" fmla="*/ 1727640 h 1731960"/>
                  </a:gdLst>
                  <a:ahLst/>
                  <a:rect l="textAreaLeft" t="textAreaTop" r="textAreaRight" b="textAreaBottom"/>
                  <a:pathLst>
                    <a:path w="21600" h="402865">
                      <a:moveTo>
                        <a:pt x="3600" y="0"/>
                      </a:moveTo>
                      <a:arcTo wR="3600" hR="3600" stAng="16200000" swAng="-5400000"/>
                      <a:lnTo>
                        <a:pt x="0" y="399265"/>
                      </a:lnTo>
                      <a:arcTo wR="3600" hR="3600" stAng="10800000" swAng="-5400000"/>
                      <a:lnTo>
                        <a:pt x="18000" y="402865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00" name="Line 12"/>
              <p:cNvSpPr/>
              <p:nvPr/>
            </p:nvSpPr>
            <p:spPr>
              <a:xfrm flipH="1">
                <a:off x="2943000" y="2254320"/>
                <a:ext cx="2880" cy="2101680"/>
              </a:xfrm>
              <a:prstGeom prst="line">
                <a:avLst/>
              </a:prstGeom>
              <a:ln w="101520">
                <a:solidFill>
                  <a:srgbClr val="fac09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01" name="Line 13"/>
            <p:cNvSpPr/>
            <p:nvPr/>
          </p:nvSpPr>
          <p:spPr>
            <a:xfrm flipH="1">
              <a:off x="2850840" y="2254320"/>
              <a:ext cx="1857240" cy="0"/>
            </a:xfrm>
            <a:prstGeom prst="line">
              <a:avLst/>
            </a:prstGeom>
            <a:ln w="101520">
              <a:solidFill>
                <a:srgbClr val="fac0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02" name="Group 14"/>
            <p:cNvGrpSpPr/>
            <p:nvPr/>
          </p:nvGrpSpPr>
          <p:grpSpPr>
            <a:xfrm>
              <a:off x="3567240" y="1714680"/>
              <a:ext cx="426960" cy="537840"/>
              <a:chOff x="3567240" y="1714680"/>
              <a:chExt cx="426960" cy="537840"/>
            </a:xfrm>
          </p:grpSpPr>
          <p:sp>
            <p:nvSpPr>
              <p:cNvPr id="1003" name="AutoShape 15"/>
              <p:cNvSpPr/>
              <p:nvPr/>
            </p:nvSpPr>
            <p:spPr>
              <a:xfrm>
                <a:off x="3614760" y="1714680"/>
                <a:ext cx="331920" cy="537840"/>
              </a:xfrm>
              <a:prstGeom prst="flowChartExtract">
                <a:avLst/>
              </a:prstGeom>
              <a:gradFill rotWithShape="0">
                <a:gsLst>
                  <a:gs pos="0">
                    <a:srgbClr val="e6e6e6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a6a6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4" name="AutoShape 16"/>
              <p:cNvSpPr/>
              <p:nvPr/>
            </p:nvSpPr>
            <p:spPr>
              <a:xfrm>
                <a:off x="3567240" y="2092320"/>
                <a:ext cx="426960" cy="10620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a6a6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5" name="AutoShape 17"/>
              <p:cNvSpPr/>
              <p:nvPr/>
            </p:nvSpPr>
            <p:spPr>
              <a:xfrm>
                <a:off x="3668760" y="1822320"/>
                <a:ext cx="230040" cy="10656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a6a6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006" name="Group 18"/>
          <p:cNvGrpSpPr/>
          <p:nvPr/>
        </p:nvGrpSpPr>
        <p:grpSpPr>
          <a:xfrm>
            <a:off x="6472080" y="1714680"/>
            <a:ext cx="1998360" cy="2641320"/>
            <a:chOff x="6472080" y="1714680"/>
            <a:chExt cx="1998360" cy="2641320"/>
          </a:xfrm>
        </p:grpSpPr>
        <p:sp>
          <p:nvSpPr>
            <p:cNvPr id="1007" name="Rectangle 19"/>
            <p:cNvSpPr/>
            <p:nvPr/>
          </p:nvSpPr>
          <p:spPr>
            <a:xfrm>
              <a:off x="6662880" y="2254320"/>
              <a:ext cx="1616040" cy="2101680"/>
            </a:xfrm>
            <a:prstGeom prst="rect">
              <a:avLst/>
            </a:prstGeom>
            <a:solidFill>
              <a:srgbClr val="004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08" name="Group 20"/>
            <p:cNvGrpSpPr/>
            <p:nvPr/>
          </p:nvGrpSpPr>
          <p:grpSpPr>
            <a:xfrm>
              <a:off x="8282160" y="2254320"/>
              <a:ext cx="188280" cy="2101680"/>
              <a:chOff x="8282160" y="2254320"/>
              <a:chExt cx="188280" cy="2101680"/>
            </a:xfrm>
          </p:grpSpPr>
          <p:grpSp>
            <p:nvGrpSpPr>
              <p:cNvPr id="1009" name="Group 21"/>
              <p:cNvGrpSpPr/>
              <p:nvPr/>
            </p:nvGrpSpPr>
            <p:grpSpPr>
              <a:xfrm>
                <a:off x="8285040" y="2254320"/>
                <a:ext cx="185400" cy="1886040"/>
                <a:chOff x="8285040" y="2254320"/>
                <a:chExt cx="185400" cy="1886040"/>
              </a:xfrm>
            </p:grpSpPr>
            <p:sp>
              <p:nvSpPr>
                <p:cNvPr id="1010" name="AutoShape 22"/>
                <p:cNvSpPr/>
                <p:nvPr/>
              </p:nvSpPr>
              <p:spPr>
                <a:xfrm>
                  <a:off x="8285040" y="2254320"/>
                  <a:ext cx="185400" cy="1886040"/>
                </a:xfrm>
                <a:custGeom>
                  <a:avLst/>
                  <a:gdLst>
                    <a:gd name="textAreaLeft" fmla="*/ 9000 w 185400"/>
                    <a:gd name="textAreaRight" fmla="*/ 176400 w 185400"/>
                    <a:gd name="textAreaTop" fmla="*/ 9000 h 1886040"/>
                    <a:gd name="textAreaBottom" fmla="*/ 1877040 h 1886040"/>
                  </a:gdLst>
                  <a:ahLst/>
                  <a:rect l="textAreaLeft" t="textAreaTop" r="textAreaRight" b="textAreaBottom"/>
                  <a:pathLst>
                    <a:path w="21600" h="219349">
                      <a:moveTo>
                        <a:pt x="3600" y="0"/>
                      </a:moveTo>
                      <a:arcTo wR="3600" hR="3600" stAng="16200000" swAng="-5400000"/>
                      <a:lnTo>
                        <a:pt x="0" y="215749"/>
                      </a:lnTo>
                      <a:arcTo wR="3600" hR="3600" stAng="10800000" swAng="-5400000"/>
                      <a:lnTo>
                        <a:pt x="18000" y="219349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fac090"/>
                </a:solidFill>
                <a:ln w="25560">
                  <a:solidFill>
                    <a:srgbClr val="fac09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11" name="AutoShape 23"/>
                <p:cNvSpPr/>
                <p:nvPr/>
              </p:nvSpPr>
              <p:spPr>
                <a:xfrm>
                  <a:off x="8330040" y="2354400"/>
                  <a:ext cx="91800" cy="1731960"/>
                </a:xfrm>
                <a:custGeom>
                  <a:avLst/>
                  <a:gdLst>
                    <a:gd name="textAreaLeft" fmla="*/ 4320 w 91800"/>
                    <a:gd name="textAreaRight" fmla="*/ 87480 w 91800"/>
                    <a:gd name="textAreaTop" fmla="*/ 4320 h 1731960"/>
                    <a:gd name="textAreaBottom" fmla="*/ 1727640 h 1731960"/>
                  </a:gdLst>
                  <a:ahLst/>
                  <a:rect l="textAreaLeft" t="textAreaTop" r="textAreaRight" b="textAreaBottom"/>
                  <a:pathLst>
                    <a:path w="21600" h="406013">
                      <a:moveTo>
                        <a:pt x="3600" y="0"/>
                      </a:moveTo>
                      <a:arcTo wR="3600" hR="3600" stAng="16200000" swAng="-5400000"/>
                      <a:lnTo>
                        <a:pt x="0" y="402413"/>
                      </a:lnTo>
                      <a:arcTo wR="3600" hR="3600" stAng="10800000" swAng="-5400000"/>
                      <a:lnTo>
                        <a:pt x="18000" y="406013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2" name="Line 24"/>
              <p:cNvSpPr/>
              <p:nvPr/>
            </p:nvSpPr>
            <p:spPr>
              <a:xfrm flipH="1">
                <a:off x="8282160" y="2254320"/>
                <a:ext cx="2880" cy="2101680"/>
              </a:xfrm>
              <a:prstGeom prst="line">
                <a:avLst/>
              </a:prstGeom>
              <a:ln w="101520">
                <a:solidFill>
                  <a:srgbClr val="fac09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13" name="Group 25"/>
            <p:cNvGrpSpPr/>
            <p:nvPr/>
          </p:nvGrpSpPr>
          <p:grpSpPr>
            <a:xfrm>
              <a:off x="6472080" y="2254320"/>
              <a:ext cx="188640" cy="2101680"/>
              <a:chOff x="6472080" y="2254320"/>
              <a:chExt cx="188640" cy="2101680"/>
            </a:xfrm>
          </p:grpSpPr>
          <p:grpSp>
            <p:nvGrpSpPr>
              <p:cNvPr id="1014" name="Group 26"/>
              <p:cNvGrpSpPr/>
              <p:nvPr/>
            </p:nvGrpSpPr>
            <p:grpSpPr>
              <a:xfrm>
                <a:off x="6472080" y="2254320"/>
                <a:ext cx="187200" cy="1886040"/>
                <a:chOff x="6472080" y="2254320"/>
                <a:chExt cx="187200" cy="1886040"/>
              </a:xfrm>
            </p:grpSpPr>
            <p:sp>
              <p:nvSpPr>
                <p:cNvPr id="1015" name="AutoShape 27"/>
                <p:cNvSpPr/>
                <p:nvPr/>
              </p:nvSpPr>
              <p:spPr>
                <a:xfrm>
                  <a:off x="6472080" y="2254320"/>
                  <a:ext cx="187200" cy="1886040"/>
                </a:xfrm>
                <a:custGeom>
                  <a:avLst/>
                  <a:gdLst>
                    <a:gd name="textAreaLeft" fmla="*/ 9000 w 187200"/>
                    <a:gd name="textAreaRight" fmla="*/ 178200 w 187200"/>
                    <a:gd name="textAreaTop" fmla="*/ 9000 h 1886040"/>
                    <a:gd name="textAreaBottom" fmla="*/ 1877040 h 1886040"/>
                  </a:gdLst>
                  <a:ahLst/>
                  <a:rect l="textAreaLeft" t="textAreaTop" r="textAreaRight" b="textAreaBottom"/>
                  <a:pathLst>
                    <a:path w="21600" h="217244">
                      <a:moveTo>
                        <a:pt x="3600" y="0"/>
                      </a:moveTo>
                      <a:arcTo wR="3600" hR="3600" stAng="16200000" swAng="-5400000"/>
                      <a:lnTo>
                        <a:pt x="0" y="213644"/>
                      </a:lnTo>
                      <a:arcTo wR="3600" hR="3600" stAng="10800000" swAng="-5400000"/>
                      <a:lnTo>
                        <a:pt x="18000" y="217244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fac090"/>
                </a:solidFill>
                <a:ln w="25560">
                  <a:solidFill>
                    <a:srgbClr val="fac09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16" name="AutoShape 28"/>
                <p:cNvSpPr/>
                <p:nvPr/>
              </p:nvSpPr>
              <p:spPr>
                <a:xfrm>
                  <a:off x="6519240" y="2354400"/>
                  <a:ext cx="92520" cy="1731960"/>
                </a:xfrm>
                <a:custGeom>
                  <a:avLst/>
                  <a:gdLst>
                    <a:gd name="textAreaLeft" fmla="*/ 4320 w 92520"/>
                    <a:gd name="textAreaRight" fmla="*/ 88200 w 92520"/>
                    <a:gd name="textAreaTop" fmla="*/ 4320 h 1731960"/>
                    <a:gd name="textAreaBottom" fmla="*/ 1727640 h 1731960"/>
                  </a:gdLst>
                  <a:ahLst/>
                  <a:rect l="textAreaLeft" t="textAreaTop" r="textAreaRight" b="textAreaBottom"/>
                  <a:pathLst>
                    <a:path w="21600" h="402865">
                      <a:moveTo>
                        <a:pt x="3600" y="0"/>
                      </a:moveTo>
                      <a:arcTo wR="3600" hR="3600" stAng="16200000" swAng="-5400000"/>
                      <a:lnTo>
                        <a:pt x="0" y="399265"/>
                      </a:lnTo>
                      <a:arcTo wR="3600" hR="3600" stAng="10800000" swAng="-5400000"/>
                      <a:lnTo>
                        <a:pt x="18000" y="402865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7" name="Line 29"/>
              <p:cNvSpPr/>
              <p:nvPr/>
            </p:nvSpPr>
            <p:spPr>
              <a:xfrm flipH="1">
                <a:off x="6657840" y="2254320"/>
                <a:ext cx="2880" cy="2101680"/>
              </a:xfrm>
              <a:prstGeom prst="line">
                <a:avLst/>
              </a:prstGeom>
              <a:ln w="101520">
                <a:solidFill>
                  <a:srgbClr val="fac09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18" name="Line 30"/>
            <p:cNvSpPr/>
            <p:nvPr/>
          </p:nvSpPr>
          <p:spPr>
            <a:xfrm flipH="1">
              <a:off x="6565680" y="2254320"/>
              <a:ext cx="1857240" cy="0"/>
            </a:xfrm>
            <a:prstGeom prst="line">
              <a:avLst/>
            </a:prstGeom>
            <a:ln w="101520">
              <a:solidFill>
                <a:srgbClr val="fac0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19" name="Group 31"/>
            <p:cNvGrpSpPr/>
            <p:nvPr/>
          </p:nvGrpSpPr>
          <p:grpSpPr>
            <a:xfrm>
              <a:off x="7281720" y="1714680"/>
              <a:ext cx="427320" cy="537840"/>
              <a:chOff x="7281720" y="1714680"/>
              <a:chExt cx="427320" cy="537840"/>
            </a:xfrm>
          </p:grpSpPr>
          <p:sp>
            <p:nvSpPr>
              <p:cNvPr id="1020" name="AutoShape 32"/>
              <p:cNvSpPr/>
              <p:nvPr/>
            </p:nvSpPr>
            <p:spPr>
              <a:xfrm>
                <a:off x="7329600" y="1714680"/>
                <a:ext cx="331560" cy="537840"/>
              </a:xfrm>
              <a:prstGeom prst="flowChartExtract">
                <a:avLst/>
              </a:prstGeom>
              <a:gradFill rotWithShape="0">
                <a:gsLst>
                  <a:gs pos="0">
                    <a:srgbClr val="e6e6e6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a6a6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1" name="AutoShape 33"/>
              <p:cNvSpPr/>
              <p:nvPr/>
            </p:nvSpPr>
            <p:spPr>
              <a:xfrm>
                <a:off x="7281720" y="2092320"/>
                <a:ext cx="427320" cy="10620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a6a6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2" name="AutoShape 34"/>
              <p:cNvSpPr/>
              <p:nvPr/>
            </p:nvSpPr>
            <p:spPr>
              <a:xfrm>
                <a:off x="7383600" y="1822320"/>
                <a:ext cx="230040" cy="10656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a6a6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023" name="Group 35"/>
          <p:cNvGrpSpPr/>
          <p:nvPr/>
        </p:nvGrpSpPr>
        <p:grpSpPr>
          <a:xfrm>
            <a:off x="7296120" y="2376360"/>
            <a:ext cx="460440" cy="446040"/>
            <a:chOff x="7296120" y="2376360"/>
            <a:chExt cx="460440" cy="446040"/>
          </a:xfrm>
        </p:grpSpPr>
        <p:sp>
          <p:nvSpPr>
            <p:cNvPr id="1024" name="AutoShape 36"/>
            <p:cNvSpPr/>
            <p:nvPr/>
          </p:nvSpPr>
          <p:spPr>
            <a:xfrm>
              <a:off x="7510320" y="2376360"/>
              <a:ext cx="93960" cy="141480"/>
            </a:xfrm>
            <a:custGeom>
              <a:avLst/>
              <a:gdLst>
                <a:gd name="textAreaLeft" fmla="*/ 38520 w 93960"/>
                <a:gd name="textAreaRight" fmla="*/ 55440 w 93960"/>
                <a:gd name="textAreaTop" fmla="*/ 58320 h 141480"/>
                <a:gd name="textAreaBottom" fmla="*/ 83160 h 141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c000"/>
            </a:solidFill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5" name="AutoShape 37"/>
            <p:cNvSpPr/>
            <p:nvPr/>
          </p:nvSpPr>
          <p:spPr>
            <a:xfrm>
              <a:off x="7662960" y="2529000"/>
              <a:ext cx="93600" cy="141120"/>
            </a:xfrm>
            <a:custGeom>
              <a:avLst/>
              <a:gdLst>
                <a:gd name="textAreaLeft" fmla="*/ 38520 w 93600"/>
                <a:gd name="textAreaRight" fmla="*/ 55080 w 93600"/>
                <a:gd name="textAreaTop" fmla="*/ 57960 h 141120"/>
                <a:gd name="textAreaBottom" fmla="*/ 83160 h 141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c000"/>
            </a:solidFill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6" name="AutoShape 38"/>
            <p:cNvSpPr/>
            <p:nvPr/>
          </p:nvSpPr>
          <p:spPr>
            <a:xfrm>
              <a:off x="7415280" y="2448000"/>
              <a:ext cx="93600" cy="141120"/>
            </a:xfrm>
            <a:custGeom>
              <a:avLst/>
              <a:gdLst>
                <a:gd name="textAreaLeft" fmla="*/ 38520 w 93600"/>
                <a:gd name="textAreaRight" fmla="*/ 55080 w 93600"/>
                <a:gd name="textAreaTop" fmla="*/ 57960 h 141120"/>
                <a:gd name="textAreaBottom" fmla="*/ 83160 h 141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c000"/>
            </a:solidFill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7" name="AutoShape 39"/>
            <p:cNvSpPr/>
            <p:nvPr/>
          </p:nvSpPr>
          <p:spPr>
            <a:xfrm>
              <a:off x="7558200" y="2590920"/>
              <a:ext cx="93600" cy="141120"/>
            </a:xfrm>
            <a:custGeom>
              <a:avLst/>
              <a:gdLst>
                <a:gd name="textAreaLeft" fmla="*/ 38520 w 93600"/>
                <a:gd name="textAreaRight" fmla="*/ 55080 w 93600"/>
                <a:gd name="textAreaTop" fmla="*/ 57960 h 141120"/>
                <a:gd name="textAreaBottom" fmla="*/ 83160 h 141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c000"/>
            </a:solidFill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8" name="AutoShape 40"/>
            <p:cNvSpPr/>
            <p:nvPr/>
          </p:nvSpPr>
          <p:spPr>
            <a:xfrm>
              <a:off x="7296120" y="2681280"/>
              <a:ext cx="93600" cy="141120"/>
            </a:xfrm>
            <a:custGeom>
              <a:avLst/>
              <a:gdLst>
                <a:gd name="textAreaLeft" fmla="*/ 38520 w 93600"/>
                <a:gd name="textAreaRight" fmla="*/ 55080 w 93600"/>
                <a:gd name="textAreaTop" fmla="*/ 57960 h 141120"/>
                <a:gd name="textAreaBottom" fmla="*/ 83160 h 141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c000"/>
            </a:solidFill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29" name="Group 41"/>
          <p:cNvGrpSpPr/>
          <p:nvPr/>
        </p:nvGrpSpPr>
        <p:grpSpPr>
          <a:xfrm>
            <a:off x="4614840" y="1714680"/>
            <a:ext cx="1998360" cy="2641320"/>
            <a:chOff x="4614840" y="1714680"/>
            <a:chExt cx="1998360" cy="2641320"/>
          </a:xfrm>
        </p:grpSpPr>
        <p:sp>
          <p:nvSpPr>
            <p:cNvPr id="1030" name="Rectangle 42"/>
            <p:cNvSpPr/>
            <p:nvPr/>
          </p:nvSpPr>
          <p:spPr>
            <a:xfrm>
              <a:off x="4805280" y="2254320"/>
              <a:ext cx="1616040" cy="2101680"/>
            </a:xfrm>
            <a:prstGeom prst="rect">
              <a:avLst/>
            </a:prstGeom>
            <a:solidFill>
              <a:srgbClr val="004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31" name="Group 43"/>
            <p:cNvGrpSpPr/>
            <p:nvPr/>
          </p:nvGrpSpPr>
          <p:grpSpPr>
            <a:xfrm>
              <a:off x="6424560" y="2254320"/>
              <a:ext cx="188640" cy="2101680"/>
              <a:chOff x="6424560" y="2254320"/>
              <a:chExt cx="188640" cy="2101680"/>
            </a:xfrm>
          </p:grpSpPr>
          <p:grpSp>
            <p:nvGrpSpPr>
              <p:cNvPr id="1032" name="Group 44"/>
              <p:cNvGrpSpPr/>
              <p:nvPr/>
            </p:nvGrpSpPr>
            <p:grpSpPr>
              <a:xfrm>
                <a:off x="6427440" y="2254320"/>
                <a:ext cx="185760" cy="1886040"/>
                <a:chOff x="6427440" y="2254320"/>
                <a:chExt cx="185760" cy="1886040"/>
              </a:xfrm>
            </p:grpSpPr>
            <p:sp>
              <p:nvSpPr>
                <p:cNvPr id="1033" name="AutoShape 45"/>
                <p:cNvSpPr/>
                <p:nvPr/>
              </p:nvSpPr>
              <p:spPr>
                <a:xfrm>
                  <a:off x="6427440" y="2254320"/>
                  <a:ext cx="185760" cy="1886040"/>
                </a:xfrm>
                <a:custGeom>
                  <a:avLst/>
                  <a:gdLst>
                    <a:gd name="textAreaLeft" fmla="*/ 9000 w 185760"/>
                    <a:gd name="textAreaRight" fmla="*/ 176760 w 185760"/>
                    <a:gd name="textAreaTop" fmla="*/ 9000 h 1886040"/>
                    <a:gd name="textAreaBottom" fmla="*/ 1877040 h 1886040"/>
                  </a:gdLst>
                  <a:ahLst/>
                  <a:rect l="textAreaLeft" t="textAreaTop" r="textAreaRight" b="textAreaBottom"/>
                  <a:pathLst>
                    <a:path w="21600" h="218925">
                      <a:moveTo>
                        <a:pt x="3600" y="0"/>
                      </a:moveTo>
                      <a:arcTo wR="3600" hR="3600" stAng="16200000" swAng="-5400000"/>
                      <a:lnTo>
                        <a:pt x="0" y="215325"/>
                      </a:lnTo>
                      <a:arcTo wR="3600" hR="3600" stAng="10800000" swAng="-5400000"/>
                      <a:lnTo>
                        <a:pt x="18000" y="218925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fac090"/>
                </a:solidFill>
                <a:ln w="25560">
                  <a:solidFill>
                    <a:srgbClr val="fac09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34" name="AutoShape 46"/>
                <p:cNvSpPr/>
                <p:nvPr/>
              </p:nvSpPr>
              <p:spPr>
                <a:xfrm>
                  <a:off x="6473880" y="2354400"/>
                  <a:ext cx="92160" cy="1731960"/>
                </a:xfrm>
                <a:custGeom>
                  <a:avLst/>
                  <a:gdLst>
                    <a:gd name="textAreaLeft" fmla="*/ 4320 w 92160"/>
                    <a:gd name="textAreaRight" fmla="*/ 87840 w 92160"/>
                    <a:gd name="textAreaTop" fmla="*/ 4320 h 1731960"/>
                    <a:gd name="textAreaBottom" fmla="*/ 1727640 h 1731960"/>
                  </a:gdLst>
                  <a:ahLst/>
                  <a:rect l="textAreaLeft" t="textAreaTop" r="textAreaRight" b="textAreaBottom"/>
                  <a:pathLst>
                    <a:path w="21600" h="404433">
                      <a:moveTo>
                        <a:pt x="3600" y="0"/>
                      </a:moveTo>
                      <a:arcTo wR="3600" hR="3600" stAng="16200000" swAng="-5400000"/>
                      <a:lnTo>
                        <a:pt x="0" y="400833"/>
                      </a:lnTo>
                      <a:arcTo wR="3600" hR="3600" stAng="10800000" swAng="-5400000"/>
                      <a:lnTo>
                        <a:pt x="18000" y="404433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35" name="Line 47"/>
              <p:cNvSpPr/>
              <p:nvPr/>
            </p:nvSpPr>
            <p:spPr>
              <a:xfrm flipH="1">
                <a:off x="6424560" y="2254320"/>
                <a:ext cx="2880" cy="2101680"/>
              </a:xfrm>
              <a:prstGeom prst="line">
                <a:avLst/>
              </a:prstGeom>
              <a:ln w="101520">
                <a:solidFill>
                  <a:srgbClr val="fac09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36" name="Group 48"/>
            <p:cNvGrpSpPr/>
            <p:nvPr/>
          </p:nvGrpSpPr>
          <p:grpSpPr>
            <a:xfrm>
              <a:off x="4614840" y="2254320"/>
              <a:ext cx="188640" cy="2101680"/>
              <a:chOff x="4614840" y="2254320"/>
              <a:chExt cx="188640" cy="2101680"/>
            </a:xfrm>
          </p:grpSpPr>
          <p:grpSp>
            <p:nvGrpSpPr>
              <p:cNvPr id="1037" name="Group 49"/>
              <p:cNvGrpSpPr/>
              <p:nvPr/>
            </p:nvGrpSpPr>
            <p:grpSpPr>
              <a:xfrm>
                <a:off x="4614840" y="2254320"/>
                <a:ext cx="187560" cy="1886040"/>
                <a:chOff x="4614840" y="2254320"/>
                <a:chExt cx="187560" cy="1886040"/>
              </a:xfrm>
            </p:grpSpPr>
            <p:sp>
              <p:nvSpPr>
                <p:cNvPr id="1038" name="AutoShape 50"/>
                <p:cNvSpPr/>
                <p:nvPr/>
              </p:nvSpPr>
              <p:spPr>
                <a:xfrm>
                  <a:off x="4614840" y="2254320"/>
                  <a:ext cx="187560" cy="1886040"/>
                </a:xfrm>
                <a:custGeom>
                  <a:avLst/>
                  <a:gdLst>
                    <a:gd name="textAreaLeft" fmla="*/ 9000 w 187560"/>
                    <a:gd name="textAreaRight" fmla="*/ 178560 w 187560"/>
                    <a:gd name="textAreaTop" fmla="*/ 9000 h 1886040"/>
                    <a:gd name="textAreaBottom" fmla="*/ 1877040 h 1886040"/>
                  </a:gdLst>
                  <a:ahLst/>
                  <a:rect l="textAreaLeft" t="textAreaTop" r="textAreaRight" b="textAreaBottom"/>
                  <a:pathLst>
                    <a:path w="21600" h="216828">
                      <a:moveTo>
                        <a:pt x="3600" y="0"/>
                      </a:moveTo>
                      <a:arcTo wR="3600" hR="3600" stAng="16200000" swAng="-5400000"/>
                      <a:lnTo>
                        <a:pt x="0" y="213228"/>
                      </a:lnTo>
                      <a:arcTo wR="3600" hR="3600" stAng="10800000" swAng="-5400000"/>
                      <a:lnTo>
                        <a:pt x="18000" y="216828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fac090"/>
                </a:solidFill>
                <a:ln w="25560">
                  <a:solidFill>
                    <a:srgbClr val="fac09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39" name="AutoShape 51"/>
                <p:cNvSpPr/>
                <p:nvPr/>
              </p:nvSpPr>
              <p:spPr>
                <a:xfrm>
                  <a:off x="4661640" y="2354400"/>
                  <a:ext cx="93240" cy="1731960"/>
                </a:xfrm>
                <a:custGeom>
                  <a:avLst/>
                  <a:gdLst>
                    <a:gd name="textAreaLeft" fmla="*/ 4320 w 93240"/>
                    <a:gd name="textAreaRight" fmla="*/ 88920 w 93240"/>
                    <a:gd name="textAreaTop" fmla="*/ 4320 h 1731960"/>
                    <a:gd name="textAreaBottom" fmla="*/ 1727640 h 1731960"/>
                  </a:gdLst>
                  <a:ahLst/>
                  <a:rect l="textAreaLeft" t="textAreaTop" r="textAreaRight" b="textAreaBottom"/>
                  <a:pathLst>
                    <a:path w="21600" h="399766">
                      <a:moveTo>
                        <a:pt x="3600" y="0"/>
                      </a:moveTo>
                      <a:arcTo wR="3600" hR="3600" stAng="16200000" swAng="-5400000"/>
                      <a:lnTo>
                        <a:pt x="0" y="396166"/>
                      </a:lnTo>
                      <a:arcTo wR="3600" hR="3600" stAng="10800000" swAng="-5400000"/>
                      <a:lnTo>
                        <a:pt x="18000" y="399766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40" name="Line 52"/>
              <p:cNvSpPr/>
              <p:nvPr/>
            </p:nvSpPr>
            <p:spPr>
              <a:xfrm flipH="1">
                <a:off x="4800600" y="2254320"/>
                <a:ext cx="2880" cy="2101680"/>
              </a:xfrm>
              <a:prstGeom prst="line">
                <a:avLst/>
              </a:prstGeom>
              <a:ln w="101520">
                <a:solidFill>
                  <a:srgbClr val="fac09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41" name="Line 53"/>
            <p:cNvSpPr/>
            <p:nvPr/>
          </p:nvSpPr>
          <p:spPr>
            <a:xfrm flipH="1">
              <a:off x="4708440" y="2254320"/>
              <a:ext cx="1857600" cy="0"/>
            </a:xfrm>
            <a:prstGeom prst="line">
              <a:avLst/>
            </a:prstGeom>
            <a:ln w="101520">
              <a:solidFill>
                <a:srgbClr val="fac0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42" name="Group 54"/>
            <p:cNvGrpSpPr/>
            <p:nvPr/>
          </p:nvGrpSpPr>
          <p:grpSpPr>
            <a:xfrm>
              <a:off x="5424480" y="1714680"/>
              <a:ext cx="426960" cy="537840"/>
              <a:chOff x="5424480" y="1714680"/>
              <a:chExt cx="426960" cy="537840"/>
            </a:xfrm>
          </p:grpSpPr>
          <p:sp>
            <p:nvSpPr>
              <p:cNvPr id="1043" name="AutoShape 55"/>
              <p:cNvSpPr/>
              <p:nvPr/>
            </p:nvSpPr>
            <p:spPr>
              <a:xfrm>
                <a:off x="5472000" y="1714680"/>
                <a:ext cx="331920" cy="537840"/>
              </a:xfrm>
              <a:prstGeom prst="flowChartExtract">
                <a:avLst/>
              </a:prstGeom>
              <a:gradFill rotWithShape="0">
                <a:gsLst>
                  <a:gs pos="0">
                    <a:srgbClr val="e6e6e6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a6a6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4" name="AutoShape 56"/>
              <p:cNvSpPr/>
              <p:nvPr/>
            </p:nvSpPr>
            <p:spPr>
              <a:xfrm>
                <a:off x="5424480" y="2092320"/>
                <a:ext cx="426960" cy="10620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a6a6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5" name="AutoShape 57"/>
              <p:cNvSpPr/>
              <p:nvPr/>
            </p:nvSpPr>
            <p:spPr>
              <a:xfrm>
                <a:off x="5526000" y="1822320"/>
                <a:ext cx="230400" cy="10656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a6a6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046" name="Group 58"/>
          <p:cNvGrpSpPr/>
          <p:nvPr/>
        </p:nvGrpSpPr>
        <p:grpSpPr>
          <a:xfrm>
            <a:off x="5405400" y="2376360"/>
            <a:ext cx="460440" cy="446040"/>
            <a:chOff x="5405400" y="2376360"/>
            <a:chExt cx="460440" cy="446040"/>
          </a:xfrm>
        </p:grpSpPr>
        <p:sp>
          <p:nvSpPr>
            <p:cNvPr id="1047" name="AutoShape 59"/>
            <p:cNvSpPr/>
            <p:nvPr/>
          </p:nvSpPr>
          <p:spPr>
            <a:xfrm>
              <a:off x="5619600" y="2376360"/>
              <a:ext cx="93960" cy="141480"/>
            </a:xfrm>
            <a:custGeom>
              <a:avLst/>
              <a:gdLst>
                <a:gd name="textAreaLeft" fmla="*/ 38520 w 93960"/>
                <a:gd name="textAreaRight" fmla="*/ 55440 w 93960"/>
                <a:gd name="textAreaTop" fmla="*/ 58320 h 141480"/>
                <a:gd name="textAreaBottom" fmla="*/ 83160 h 141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c000"/>
            </a:solidFill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8" name="AutoShape 60"/>
            <p:cNvSpPr/>
            <p:nvPr/>
          </p:nvSpPr>
          <p:spPr>
            <a:xfrm>
              <a:off x="5772240" y="2529000"/>
              <a:ext cx="93600" cy="141120"/>
            </a:xfrm>
            <a:custGeom>
              <a:avLst/>
              <a:gdLst>
                <a:gd name="textAreaLeft" fmla="*/ 38520 w 93600"/>
                <a:gd name="textAreaRight" fmla="*/ 55080 w 93600"/>
                <a:gd name="textAreaTop" fmla="*/ 57960 h 141120"/>
                <a:gd name="textAreaBottom" fmla="*/ 83160 h 141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c000"/>
            </a:solidFill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9" name="AutoShape 61"/>
            <p:cNvSpPr/>
            <p:nvPr/>
          </p:nvSpPr>
          <p:spPr>
            <a:xfrm>
              <a:off x="5524560" y="2448000"/>
              <a:ext cx="93600" cy="141120"/>
            </a:xfrm>
            <a:custGeom>
              <a:avLst/>
              <a:gdLst>
                <a:gd name="textAreaLeft" fmla="*/ 38520 w 93600"/>
                <a:gd name="textAreaRight" fmla="*/ 55080 w 93600"/>
                <a:gd name="textAreaTop" fmla="*/ 57960 h 141120"/>
                <a:gd name="textAreaBottom" fmla="*/ 83160 h 141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c000"/>
            </a:solidFill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0" name="AutoShape 62"/>
            <p:cNvSpPr/>
            <p:nvPr/>
          </p:nvSpPr>
          <p:spPr>
            <a:xfrm>
              <a:off x="5667480" y="2590920"/>
              <a:ext cx="93600" cy="141120"/>
            </a:xfrm>
            <a:custGeom>
              <a:avLst/>
              <a:gdLst>
                <a:gd name="textAreaLeft" fmla="*/ 38520 w 93600"/>
                <a:gd name="textAreaRight" fmla="*/ 55080 w 93600"/>
                <a:gd name="textAreaTop" fmla="*/ 57960 h 141120"/>
                <a:gd name="textAreaBottom" fmla="*/ 83160 h 141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c000"/>
            </a:solidFill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1" name="AutoShape 63"/>
            <p:cNvSpPr/>
            <p:nvPr/>
          </p:nvSpPr>
          <p:spPr>
            <a:xfrm>
              <a:off x="5405400" y="2681280"/>
              <a:ext cx="93600" cy="141120"/>
            </a:xfrm>
            <a:custGeom>
              <a:avLst/>
              <a:gdLst>
                <a:gd name="textAreaLeft" fmla="*/ 38520 w 93600"/>
                <a:gd name="textAreaRight" fmla="*/ 55080 w 93600"/>
                <a:gd name="textAreaTop" fmla="*/ 57960 h 141120"/>
                <a:gd name="textAreaBottom" fmla="*/ 83160 h 141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c000"/>
            </a:solidFill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52" name="Group 64"/>
          <p:cNvGrpSpPr/>
          <p:nvPr/>
        </p:nvGrpSpPr>
        <p:grpSpPr>
          <a:xfrm>
            <a:off x="3581280" y="2357280"/>
            <a:ext cx="460440" cy="446400"/>
            <a:chOff x="3581280" y="2357280"/>
            <a:chExt cx="460440" cy="446400"/>
          </a:xfrm>
        </p:grpSpPr>
        <p:sp>
          <p:nvSpPr>
            <p:cNvPr id="1053" name="AutoShape 65"/>
            <p:cNvSpPr/>
            <p:nvPr/>
          </p:nvSpPr>
          <p:spPr>
            <a:xfrm>
              <a:off x="3795840" y="2357280"/>
              <a:ext cx="93600" cy="141480"/>
            </a:xfrm>
            <a:custGeom>
              <a:avLst/>
              <a:gdLst>
                <a:gd name="textAreaLeft" fmla="*/ 38520 w 93600"/>
                <a:gd name="textAreaRight" fmla="*/ 55080 w 93600"/>
                <a:gd name="textAreaTop" fmla="*/ 58320 h 141480"/>
                <a:gd name="textAreaBottom" fmla="*/ 83160 h 141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c000"/>
            </a:solidFill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4" name="AutoShape 66"/>
            <p:cNvSpPr/>
            <p:nvPr/>
          </p:nvSpPr>
          <p:spPr>
            <a:xfrm>
              <a:off x="3948120" y="2509920"/>
              <a:ext cx="93600" cy="141120"/>
            </a:xfrm>
            <a:custGeom>
              <a:avLst/>
              <a:gdLst>
                <a:gd name="textAreaLeft" fmla="*/ 38520 w 93600"/>
                <a:gd name="textAreaRight" fmla="*/ 55080 w 93600"/>
                <a:gd name="textAreaTop" fmla="*/ 57960 h 141120"/>
                <a:gd name="textAreaBottom" fmla="*/ 83160 h 141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c000"/>
            </a:solidFill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5" name="AutoShape 67"/>
            <p:cNvSpPr/>
            <p:nvPr/>
          </p:nvSpPr>
          <p:spPr>
            <a:xfrm>
              <a:off x="3700440" y="2428920"/>
              <a:ext cx="93600" cy="141120"/>
            </a:xfrm>
            <a:custGeom>
              <a:avLst/>
              <a:gdLst>
                <a:gd name="textAreaLeft" fmla="*/ 38520 w 93600"/>
                <a:gd name="textAreaRight" fmla="*/ 55080 w 93600"/>
                <a:gd name="textAreaTop" fmla="*/ 57960 h 141120"/>
                <a:gd name="textAreaBottom" fmla="*/ 83160 h 141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c000"/>
            </a:solidFill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6" name="AutoShape 68"/>
            <p:cNvSpPr/>
            <p:nvPr/>
          </p:nvSpPr>
          <p:spPr>
            <a:xfrm>
              <a:off x="3843360" y="2571840"/>
              <a:ext cx="93600" cy="141120"/>
            </a:xfrm>
            <a:custGeom>
              <a:avLst/>
              <a:gdLst>
                <a:gd name="textAreaLeft" fmla="*/ 38520 w 93600"/>
                <a:gd name="textAreaRight" fmla="*/ 55080 w 93600"/>
                <a:gd name="textAreaTop" fmla="*/ 57960 h 141120"/>
                <a:gd name="textAreaBottom" fmla="*/ 83160 h 141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c000"/>
            </a:solidFill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7" name="AutoShape 69"/>
            <p:cNvSpPr/>
            <p:nvPr/>
          </p:nvSpPr>
          <p:spPr>
            <a:xfrm>
              <a:off x="3581280" y="2662200"/>
              <a:ext cx="93960" cy="141480"/>
            </a:xfrm>
            <a:custGeom>
              <a:avLst/>
              <a:gdLst>
                <a:gd name="textAreaLeft" fmla="*/ 38520 w 93960"/>
                <a:gd name="textAreaRight" fmla="*/ 55440 w 93960"/>
                <a:gd name="textAreaTop" fmla="*/ 58320 h 141480"/>
                <a:gd name="textAreaBottom" fmla="*/ 83160 h 141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c000"/>
            </a:solidFill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58" name="Group 70"/>
          <p:cNvGrpSpPr/>
          <p:nvPr/>
        </p:nvGrpSpPr>
        <p:grpSpPr>
          <a:xfrm>
            <a:off x="900000" y="1714680"/>
            <a:ext cx="1998360" cy="2641320"/>
            <a:chOff x="900000" y="1714680"/>
            <a:chExt cx="1998360" cy="2641320"/>
          </a:xfrm>
        </p:grpSpPr>
        <p:sp>
          <p:nvSpPr>
            <p:cNvPr id="1059" name="Rectangle 71"/>
            <p:cNvSpPr/>
            <p:nvPr/>
          </p:nvSpPr>
          <p:spPr>
            <a:xfrm>
              <a:off x="1090440" y="2254320"/>
              <a:ext cx="1616400" cy="2101680"/>
            </a:xfrm>
            <a:prstGeom prst="rect">
              <a:avLst/>
            </a:prstGeom>
            <a:solidFill>
              <a:srgbClr val="004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60" name="Group 72"/>
            <p:cNvGrpSpPr/>
            <p:nvPr/>
          </p:nvGrpSpPr>
          <p:grpSpPr>
            <a:xfrm>
              <a:off x="2709720" y="2254320"/>
              <a:ext cx="188640" cy="2101680"/>
              <a:chOff x="2709720" y="2254320"/>
              <a:chExt cx="188640" cy="2101680"/>
            </a:xfrm>
          </p:grpSpPr>
          <p:grpSp>
            <p:nvGrpSpPr>
              <p:cNvPr id="1061" name="Group 73"/>
              <p:cNvGrpSpPr/>
              <p:nvPr/>
            </p:nvGrpSpPr>
            <p:grpSpPr>
              <a:xfrm>
                <a:off x="2712600" y="2254320"/>
                <a:ext cx="185760" cy="1886040"/>
                <a:chOff x="2712600" y="2254320"/>
                <a:chExt cx="185760" cy="1886040"/>
              </a:xfrm>
            </p:grpSpPr>
            <p:sp>
              <p:nvSpPr>
                <p:cNvPr id="1062" name="AutoShape 74"/>
                <p:cNvSpPr/>
                <p:nvPr/>
              </p:nvSpPr>
              <p:spPr>
                <a:xfrm>
                  <a:off x="2712600" y="2254320"/>
                  <a:ext cx="185760" cy="1886040"/>
                </a:xfrm>
                <a:custGeom>
                  <a:avLst/>
                  <a:gdLst>
                    <a:gd name="textAreaLeft" fmla="*/ 9000 w 185760"/>
                    <a:gd name="textAreaRight" fmla="*/ 176760 w 185760"/>
                    <a:gd name="textAreaTop" fmla="*/ 9000 h 1886040"/>
                    <a:gd name="textAreaBottom" fmla="*/ 1877040 h 1886040"/>
                  </a:gdLst>
                  <a:ahLst/>
                  <a:rect l="textAreaLeft" t="textAreaTop" r="textAreaRight" b="textAreaBottom"/>
                  <a:pathLst>
                    <a:path w="21600" h="218925">
                      <a:moveTo>
                        <a:pt x="3600" y="0"/>
                      </a:moveTo>
                      <a:arcTo wR="3600" hR="3600" stAng="16200000" swAng="-5400000"/>
                      <a:lnTo>
                        <a:pt x="0" y="215325"/>
                      </a:lnTo>
                      <a:arcTo wR="3600" hR="3600" stAng="10800000" swAng="-5400000"/>
                      <a:lnTo>
                        <a:pt x="18000" y="218925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fac090"/>
                </a:solidFill>
                <a:ln w="25560">
                  <a:solidFill>
                    <a:srgbClr val="fac09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63" name="AutoShape 75"/>
                <p:cNvSpPr/>
                <p:nvPr/>
              </p:nvSpPr>
              <p:spPr>
                <a:xfrm>
                  <a:off x="2757600" y="2354400"/>
                  <a:ext cx="91800" cy="1731960"/>
                </a:xfrm>
                <a:custGeom>
                  <a:avLst/>
                  <a:gdLst>
                    <a:gd name="textAreaLeft" fmla="*/ 4320 w 91800"/>
                    <a:gd name="textAreaRight" fmla="*/ 87480 w 91800"/>
                    <a:gd name="textAreaTop" fmla="*/ 4320 h 1731960"/>
                    <a:gd name="textAreaBottom" fmla="*/ 1727640 h 1731960"/>
                  </a:gdLst>
                  <a:ahLst/>
                  <a:rect l="textAreaLeft" t="textAreaTop" r="textAreaRight" b="textAreaBottom"/>
                  <a:pathLst>
                    <a:path w="21600" h="406013">
                      <a:moveTo>
                        <a:pt x="3600" y="0"/>
                      </a:moveTo>
                      <a:arcTo wR="3600" hR="3600" stAng="16200000" swAng="-5400000"/>
                      <a:lnTo>
                        <a:pt x="0" y="402413"/>
                      </a:lnTo>
                      <a:arcTo wR="3600" hR="3600" stAng="10800000" swAng="-5400000"/>
                      <a:lnTo>
                        <a:pt x="18000" y="406013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64" name="Line 76"/>
              <p:cNvSpPr/>
              <p:nvPr/>
            </p:nvSpPr>
            <p:spPr>
              <a:xfrm flipH="1">
                <a:off x="2709720" y="2254320"/>
                <a:ext cx="2880" cy="2101680"/>
              </a:xfrm>
              <a:prstGeom prst="line">
                <a:avLst/>
              </a:prstGeom>
              <a:ln w="101520">
                <a:solidFill>
                  <a:srgbClr val="fac09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65" name="Group 77"/>
            <p:cNvGrpSpPr/>
            <p:nvPr/>
          </p:nvGrpSpPr>
          <p:grpSpPr>
            <a:xfrm>
              <a:off x="900000" y="2254320"/>
              <a:ext cx="188280" cy="2101680"/>
              <a:chOff x="900000" y="2254320"/>
              <a:chExt cx="188280" cy="2101680"/>
            </a:xfrm>
          </p:grpSpPr>
          <p:grpSp>
            <p:nvGrpSpPr>
              <p:cNvPr id="1066" name="Group 78"/>
              <p:cNvGrpSpPr/>
              <p:nvPr/>
            </p:nvGrpSpPr>
            <p:grpSpPr>
              <a:xfrm>
                <a:off x="900000" y="2254320"/>
                <a:ext cx="187560" cy="1886040"/>
                <a:chOff x="900000" y="2254320"/>
                <a:chExt cx="187560" cy="1886040"/>
              </a:xfrm>
            </p:grpSpPr>
            <p:sp>
              <p:nvSpPr>
                <p:cNvPr id="1067" name="AutoShape 79"/>
                <p:cNvSpPr/>
                <p:nvPr/>
              </p:nvSpPr>
              <p:spPr>
                <a:xfrm>
                  <a:off x="900000" y="2254320"/>
                  <a:ext cx="187560" cy="1886040"/>
                </a:xfrm>
                <a:custGeom>
                  <a:avLst/>
                  <a:gdLst>
                    <a:gd name="textAreaLeft" fmla="*/ 9000 w 187560"/>
                    <a:gd name="textAreaRight" fmla="*/ 178560 w 187560"/>
                    <a:gd name="textAreaTop" fmla="*/ 9000 h 1886040"/>
                    <a:gd name="textAreaBottom" fmla="*/ 1877040 h 1886040"/>
                  </a:gdLst>
                  <a:ahLst/>
                  <a:rect l="textAreaLeft" t="textAreaTop" r="textAreaRight" b="textAreaBottom"/>
                  <a:pathLst>
                    <a:path w="21600" h="216828">
                      <a:moveTo>
                        <a:pt x="3600" y="0"/>
                      </a:moveTo>
                      <a:arcTo wR="3600" hR="3600" stAng="16200000" swAng="-5400000"/>
                      <a:lnTo>
                        <a:pt x="0" y="213228"/>
                      </a:lnTo>
                      <a:arcTo wR="3600" hR="3600" stAng="10800000" swAng="-5400000"/>
                      <a:lnTo>
                        <a:pt x="18000" y="216828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fac090"/>
                </a:solidFill>
                <a:ln w="25560">
                  <a:solidFill>
                    <a:srgbClr val="fac09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68" name="AutoShape 80"/>
                <p:cNvSpPr/>
                <p:nvPr/>
              </p:nvSpPr>
              <p:spPr>
                <a:xfrm>
                  <a:off x="947160" y="2354400"/>
                  <a:ext cx="92880" cy="1731960"/>
                </a:xfrm>
                <a:custGeom>
                  <a:avLst/>
                  <a:gdLst>
                    <a:gd name="textAreaLeft" fmla="*/ 4320 w 92880"/>
                    <a:gd name="textAreaRight" fmla="*/ 88560 w 92880"/>
                    <a:gd name="textAreaTop" fmla="*/ 4320 h 1731960"/>
                    <a:gd name="textAreaBottom" fmla="*/ 1727640 h 1731960"/>
                  </a:gdLst>
                  <a:ahLst/>
                  <a:rect l="textAreaLeft" t="textAreaTop" r="textAreaRight" b="textAreaBottom"/>
                  <a:pathLst>
                    <a:path w="21600" h="401310">
                      <a:moveTo>
                        <a:pt x="3600" y="0"/>
                      </a:moveTo>
                      <a:arcTo wR="3600" hR="3600" stAng="16200000" swAng="-5400000"/>
                      <a:lnTo>
                        <a:pt x="0" y="397710"/>
                      </a:lnTo>
                      <a:arcTo wR="3600" hR="3600" stAng="10800000" swAng="-5400000"/>
                      <a:lnTo>
                        <a:pt x="18000" y="401310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69" name="Line 81"/>
              <p:cNvSpPr/>
              <p:nvPr/>
            </p:nvSpPr>
            <p:spPr>
              <a:xfrm flipH="1">
                <a:off x="1085760" y="2254320"/>
                <a:ext cx="2520" cy="2101680"/>
              </a:xfrm>
              <a:prstGeom prst="line">
                <a:avLst/>
              </a:prstGeom>
              <a:ln w="101520">
                <a:solidFill>
                  <a:srgbClr val="fac09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70" name="Line 82"/>
            <p:cNvSpPr/>
            <p:nvPr/>
          </p:nvSpPr>
          <p:spPr>
            <a:xfrm flipH="1">
              <a:off x="993600" y="2254320"/>
              <a:ext cx="1857600" cy="0"/>
            </a:xfrm>
            <a:prstGeom prst="line">
              <a:avLst/>
            </a:prstGeom>
            <a:ln w="101520">
              <a:solidFill>
                <a:srgbClr val="fac0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1" name="Group 83"/>
            <p:cNvGrpSpPr/>
            <p:nvPr/>
          </p:nvGrpSpPr>
          <p:grpSpPr>
            <a:xfrm>
              <a:off x="1709640" y="1714680"/>
              <a:ext cx="426960" cy="537840"/>
              <a:chOff x="1709640" y="1714680"/>
              <a:chExt cx="426960" cy="537840"/>
            </a:xfrm>
          </p:grpSpPr>
          <p:sp>
            <p:nvSpPr>
              <p:cNvPr id="1072" name="AutoShape 84"/>
              <p:cNvSpPr/>
              <p:nvPr/>
            </p:nvSpPr>
            <p:spPr>
              <a:xfrm>
                <a:off x="1757520" y="1714680"/>
                <a:ext cx="331560" cy="537840"/>
              </a:xfrm>
              <a:prstGeom prst="flowChartExtract">
                <a:avLst/>
              </a:prstGeom>
              <a:gradFill rotWithShape="0">
                <a:gsLst>
                  <a:gs pos="0">
                    <a:srgbClr val="e6e6e6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a6a6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3" name="AutoShape 85"/>
              <p:cNvSpPr/>
              <p:nvPr/>
            </p:nvSpPr>
            <p:spPr>
              <a:xfrm>
                <a:off x="1709640" y="2092320"/>
                <a:ext cx="426960" cy="10620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a6a6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4" name="AutoShape 86"/>
              <p:cNvSpPr/>
              <p:nvPr/>
            </p:nvSpPr>
            <p:spPr>
              <a:xfrm>
                <a:off x="1811160" y="1822320"/>
                <a:ext cx="230400" cy="10656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a6a6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075" name="Group 87"/>
          <p:cNvGrpSpPr/>
          <p:nvPr/>
        </p:nvGrpSpPr>
        <p:grpSpPr>
          <a:xfrm>
            <a:off x="1690560" y="2376360"/>
            <a:ext cx="460440" cy="446040"/>
            <a:chOff x="1690560" y="2376360"/>
            <a:chExt cx="460440" cy="446040"/>
          </a:xfrm>
        </p:grpSpPr>
        <p:sp>
          <p:nvSpPr>
            <p:cNvPr id="1076" name="AutoShape 88"/>
            <p:cNvSpPr/>
            <p:nvPr/>
          </p:nvSpPr>
          <p:spPr>
            <a:xfrm>
              <a:off x="1905120" y="2376360"/>
              <a:ext cx="93600" cy="141480"/>
            </a:xfrm>
            <a:custGeom>
              <a:avLst/>
              <a:gdLst>
                <a:gd name="textAreaLeft" fmla="*/ 38520 w 93600"/>
                <a:gd name="textAreaRight" fmla="*/ 55080 w 93600"/>
                <a:gd name="textAreaTop" fmla="*/ 58320 h 141480"/>
                <a:gd name="textAreaBottom" fmla="*/ 83160 h 141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c000"/>
            </a:solidFill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7" name="AutoShape 89"/>
            <p:cNvSpPr/>
            <p:nvPr/>
          </p:nvSpPr>
          <p:spPr>
            <a:xfrm>
              <a:off x="2057400" y="2529000"/>
              <a:ext cx="93600" cy="141120"/>
            </a:xfrm>
            <a:custGeom>
              <a:avLst/>
              <a:gdLst>
                <a:gd name="textAreaLeft" fmla="*/ 38520 w 93600"/>
                <a:gd name="textAreaRight" fmla="*/ 55080 w 93600"/>
                <a:gd name="textAreaTop" fmla="*/ 57960 h 141120"/>
                <a:gd name="textAreaBottom" fmla="*/ 83160 h 141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c000"/>
            </a:solidFill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8" name="AutoShape 90"/>
            <p:cNvSpPr/>
            <p:nvPr/>
          </p:nvSpPr>
          <p:spPr>
            <a:xfrm>
              <a:off x="1809720" y="2448000"/>
              <a:ext cx="93600" cy="141120"/>
            </a:xfrm>
            <a:custGeom>
              <a:avLst/>
              <a:gdLst>
                <a:gd name="textAreaLeft" fmla="*/ 38520 w 93600"/>
                <a:gd name="textAreaRight" fmla="*/ 55080 w 93600"/>
                <a:gd name="textAreaTop" fmla="*/ 57960 h 141120"/>
                <a:gd name="textAreaBottom" fmla="*/ 83160 h 141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c000"/>
            </a:solidFill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" name="AutoShape 91"/>
            <p:cNvSpPr/>
            <p:nvPr/>
          </p:nvSpPr>
          <p:spPr>
            <a:xfrm>
              <a:off x="1952640" y="2590920"/>
              <a:ext cx="93600" cy="141120"/>
            </a:xfrm>
            <a:custGeom>
              <a:avLst/>
              <a:gdLst>
                <a:gd name="textAreaLeft" fmla="*/ 38520 w 93600"/>
                <a:gd name="textAreaRight" fmla="*/ 55080 w 93600"/>
                <a:gd name="textAreaTop" fmla="*/ 57960 h 141120"/>
                <a:gd name="textAreaBottom" fmla="*/ 83160 h 141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c000"/>
            </a:solidFill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0" name="AutoShape 92"/>
            <p:cNvSpPr/>
            <p:nvPr/>
          </p:nvSpPr>
          <p:spPr>
            <a:xfrm>
              <a:off x="1690560" y="2681280"/>
              <a:ext cx="93960" cy="141120"/>
            </a:xfrm>
            <a:custGeom>
              <a:avLst/>
              <a:gdLst>
                <a:gd name="textAreaLeft" fmla="*/ 38520 w 93960"/>
                <a:gd name="textAreaRight" fmla="*/ 55440 w 93960"/>
                <a:gd name="textAreaTop" fmla="*/ 57960 h 141120"/>
                <a:gd name="textAreaBottom" fmla="*/ 83160 h 141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c000"/>
            </a:solidFill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81" name="Group 93"/>
          <p:cNvGrpSpPr/>
          <p:nvPr/>
        </p:nvGrpSpPr>
        <p:grpSpPr>
          <a:xfrm>
            <a:off x="3543480" y="2338560"/>
            <a:ext cx="460080" cy="446040"/>
            <a:chOff x="3543480" y="2338560"/>
            <a:chExt cx="460080" cy="446040"/>
          </a:xfrm>
        </p:grpSpPr>
        <p:sp>
          <p:nvSpPr>
            <p:cNvPr id="1082" name="AutoShape 94"/>
            <p:cNvSpPr/>
            <p:nvPr/>
          </p:nvSpPr>
          <p:spPr>
            <a:xfrm>
              <a:off x="3757680" y="2338560"/>
              <a:ext cx="93600" cy="141120"/>
            </a:xfrm>
            <a:custGeom>
              <a:avLst/>
              <a:gdLst>
                <a:gd name="textAreaLeft" fmla="*/ 38520 w 93600"/>
                <a:gd name="textAreaRight" fmla="*/ 55080 w 93600"/>
                <a:gd name="textAreaTop" fmla="*/ 57960 h 141120"/>
                <a:gd name="textAreaBottom" fmla="*/ 83160 h 141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c000"/>
            </a:solidFill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3" name="AutoShape 95"/>
            <p:cNvSpPr/>
            <p:nvPr/>
          </p:nvSpPr>
          <p:spPr>
            <a:xfrm>
              <a:off x="3909960" y="2490840"/>
              <a:ext cx="93600" cy="141120"/>
            </a:xfrm>
            <a:custGeom>
              <a:avLst/>
              <a:gdLst>
                <a:gd name="textAreaLeft" fmla="*/ 38520 w 93600"/>
                <a:gd name="textAreaRight" fmla="*/ 55080 w 93600"/>
                <a:gd name="textAreaTop" fmla="*/ 57960 h 141120"/>
                <a:gd name="textAreaBottom" fmla="*/ 83160 h 141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c000"/>
            </a:solidFill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4" name="AutoShape 96"/>
            <p:cNvSpPr/>
            <p:nvPr/>
          </p:nvSpPr>
          <p:spPr>
            <a:xfrm>
              <a:off x="3662280" y="2409840"/>
              <a:ext cx="93600" cy="141120"/>
            </a:xfrm>
            <a:custGeom>
              <a:avLst/>
              <a:gdLst>
                <a:gd name="textAreaLeft" fmla="*/ 38520 w 93600"/>
                <a:gd name="textAreaRight" fmla="*/ 55080 w 93600"/>
                <a:gd name="textAreaTop" fmla="*/ 57960 h 141120"/>
                <a:gd name="textAreaBottom" fmla="*/ 83160 h 141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c000"/>
            </a:solidFill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5" name="AutoShape 97"/>
            <p:cNvSpPr/>
            <p:nvPr/>
          </p:nvSpPr>
          <p:spPr>
            <a:xfrm>
              <a:off x="3805200" y="2552760"/>
              <a:ext cx="93600" cy="141120"/>
            </a:xfrm>
            <a:custGeom>
              <a:avLst/>
              <a:gdLst>
                <a:gd name="textAreaLeft" fmla="*/ 38520 w 93600"/>
                <a:gd name="textAreaRight" fmla="*/ 55080 w 93600"/>
                <a:gd name="textAreaTop" fmla="*/ 57960 h 141120"/>
                <a:gd name="textAreaBottom" fmla="*/ 83160 h 141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c000"/>
            </a:solidFill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6" name="AutoShape 98"/>
            <p:cNvSpPr/>
            <p:nvPr/>
          </p:nvSpPr>
          <p:spPr>
            <a:xfrm>
              <a:off x="3543480" y="2643120"/>
              <a:ext cx="93600" cy="141480"/>
            </a:xfrm>
            <a:custGeom>
              <a:avLst/>
              <a:gdLst>
                <a:gd name="textAreaLeft" fmla="*/ 38520 w 93600"/>
                <a:gd name="textAreaRight" fmla="*/ 55080 w 93600"/>
                <a:gd name="textAreaTop" fmla="*/ 58320 h 141480"/>
                <a:gd name="textAreaBottom" fmla="*/ 83160 h 141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c000"/>
            </a:solidFill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87" name="Group 99"/>
          <p:cNvGrpSpPr/>
          <p:nvPr/>
        </p:nvGrpSpPr>
        <p:grpSpPr>
          <a:xfrm>
            <a:off x="5367240" y="2357280"/>
            <a:ext cx="460440" cy="446400"/>
            <a:chOff x="5367240" y="2357280"/>
            <a:chExt cx="460440" cy="446400"/>
          </a:xfrm>
        </p:grpSpPr>
        <p:sp>
          <p:nvSpPr>
            <p:cNvPr id="1088" name="AutoShape 100"/>
            <p:cNvSpPr/>
            <p:nvPr/>
          </p:nvSpPr>
          <p:spPr>
            <a:xfrm>
              <a:off x="5581800" y="2357280"/>
              <a:ext cx="93600" cy="141480"/>
            </a:xfrm>
            <a:custGeom>
              <a:avLst/>
              <a:gdLst>
                <a:gd name="textAreaLeft" fmla="*/ 38520 w 93600"/>
                <a:gd name="textAreaRight" fmla="*/ 55080 w 93600"/>
                <a:gd name="textAreaTop" fmla="*/ 58320 h 141480"/>
                <a:gd name="textAreaBottom" fmla="*/ 83160 h 141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c000"/>
            </a:solidFill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9" name="AutoShape 101"/>
            <p:cNvSpPr/>
            <p:nvPr/>
          </p:nvSpPr>
          <p:spPr>
            <a:xfrm>
              <a:off x="5734080" y="2509920"/>
              <a:ext cx="93600" cy="141120"/>
            </a:xfrm>
            <a:custGeom>
              <a:avLst/>
              <a:gdLst>
                <a:gd name="textAreaLeft" fmla="*/ 38520 w 93600"/>
                <a:gd name="textAreaRight" fmla="*/ 55080 w 93600"/>
                <a:gd name="textAreaTop" fmla="*/ 57960 h 141120"/>
                <a:gd name="textAreaBottom" fmla="*/ 83160 h 141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c000"/>
            </a:solidFill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0" name="AutoShape 102"/>
            <p:cNvSpPr/>
            <p:nvPr/>
          </p:nvSpPr>
          <p:spPr>
            <a:xfrm>
              <a:off x="5486400" y="2428920"/>
              <a:ext cx="93600" cy="141120"/>
            </a:xfrm>
            <a:custGeom>
              <a:avLst/>
              <a:gdLst>
                <a:gd name="textAreaLeft" fmla="*/ 38520 w 93600"/>
                <a:gd name="textAreaRight" fmla="*/ 55080 w 93600"/>
                <a:gd name="textAreaTop" fmla="*/ 57960 h 141120"/>
                <a:gd name="textAreaBottom" fmla="*/ 83160 h 141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c000"/>
            </a:solidFill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1" name="AutoShape 103"/>
            <p:cNvSpPr/>
            <p:nvPr/>
          </p:nvSpPr>
          <p:spPr>
            <a:xfrm>
              <a:off x="5629320" y="2571840"/>
              <a:ext cx="93600" cy="141120"/>
            </a:xfrm>
            <a:custGeom>
              <a:avLst/>
              <a:gdLst>
                <a:gd name="textAreaLeft" fmla="*/ 38520 w 93600"/>
                <a:gd name="textAreaRight" fmla="*/ 55080 w 93600"/>
                <a:gd name="textAreaTop" fmla="*/ 57960 h 141120"/>
                <a:gd name="textAreaBottom" fmla="*/ 83160 h 141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c000"/>
            </a:solidFill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2" name="AutoShape 104"/>
            <p:cNvSpPr/>
            <p:nvPr/>
          </p:nvSpPr>
          <p:spPr>
            <a:xfrm>
              <a:off x="5367240" y="2662200"/>
              <a:ext cx="93600" cy="141480"/>
            </a:xfrm>
            <a:custGeom>
              <a:avLst/>
              <a:gdLst>
                <a:gd name="textAreaLeft" fmla="*/ 38520 w 93600"/>
                <a:gd name="textAreaRight" fmla="*/ 55080 w 93600"/>
                <a:gd name="textAreaTop" fmla="*/ 58320 h 141480"/>
                <a:gd name="textAreaBottom" fmla="*/ 83160 h 141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c000"/>
            </a:solidFill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93" name="Group 105"/>
          <p:cNvGrpSpPr/>
          <p:nvPr/>
        </p:nvGrpSpPr>
        <p:grpSpPr>
          <a:xfrm>
            <a:off x="1652760" y="2357280"/>
            <a:ext cx="460080" cy="446400"/>
            <a:chOff x="1652760" y="2357280"/>
            <a:chExt cx="460080" cy="446400"/>
          </a:xfrm>
        </p:grpSpPr>
        <p:sp>
          <p:nvSpPr>
            <p:cNvPr id="1094" name="AutoShape 106"/>
            <p:cNvSpPr/>
            <p:nvPr/>
          </p:nvSpPr>
          <p:spPr>
            <a:xfrm>
              <a:off x="1866960" y="2357280"/>
              <a:ext cx="93600" cy="141480"/>
            </a:xfrm>
            <a:custGeom>
              <a:avLst/>
              <a:gdLst>
                <a:gd name="textAreaLeft" fmla="*/ 38520 w 93600"/>
                <a:gd name="textAreaRight" fmla="*/ 55080 w 93600"/>
                <a:gd name="textAreaTop" fmla="*/ 58320 h 141480"/>
                <a:gd name="textAreaBottom" fmla="*/ 83160 h 141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c000"/>
            </a:solidFill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5" name="AutoShape 107"/>
            <p:cNvSpPr/>
            <p:nvPr/>
          </p:nvSpPr>
          <p:spPr>
            <a:xfrm>
              <a:off x="2019240" y="2509920"/>
              <a:ext cx="93600" cy="141120"/>
            </a:xfrm>
            <a:custGeom>
              <a:avLst/>
              <a:gdLst>
                <a:gd name="textAreaLeft" fmla="*/ 38520 w 93600"/>
                <a:gd name="textAreaRight" fmla="*/ 55080 w 93600"/>
                <a:gd name="textAreaTop" fmla="*/ 57960 h 141120"/>
                <a:gd name="textAreaBottom" fmla="*/ 83160 h 141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c000"/>
            </a:solidFill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6" name="AutoShape 108"/>
            <p:cNvSpPr/>
            <p:nvPr/>
          </p:nvSpPr>
          <p:spPr>
            <a:xfrm>
              <a:off x="1771560" y="2428920"/>
              <a:ext cx="93600" cy="141120"/>
            </a:xfrm>
            <a:custGeom>
              <a:avLst/>
              <a:gdLst>
                <a:gd name="textAreaLeft" fmla="*/ 38520 w 93600"/>
                <a:gd name="textAreaRight" fmla="*/ 55080 w 93600"/>
                <a:gd name="textAreaTop" fmla="*/ 57960 h 141120"/>
                <a:gd name="textAreaBottom" fmla="*/ 83160 h 141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c000"/>
            </a:solidFill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7" name="AutoShape 109"/>
            <p:cNvSpPr/>
            <p:nvPr/>
          </p:nvSpPr>
          <p:spPr>
            <a:xfrm>
              <a:off x="1914480" y="2571840"/>
              <a:ext cx="93600" cy="141120"/>
            </a:xfrm>
            <a:custGeom>
              <a:avLst/>
              <a:gdLst>
                <a:gd name="textAreaLeft" fmla="*/ 38520 w 93600"/>
                <a:gd name="textAreaRight" fmla="*/ 55080 w 93600"/>
                <a:gd name="textAreaTop" fmla="*/ 57960 h 141120"/>
                <a:gd name="textAreaBottom" fmla="*/ 83160 h 141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c000"/>
            </a:solidFill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8" name="AutoShape 110"/>
            <p:cNvSpPr/>
            <p:nvPr/>
          </p:nvSpPr>
          <p:spPr>
            <a:xfrm>
              <a:off x="1652760" y="2662200"/>
              <a:ext cx="93600" cy="141480"/>
            </a:xfrm>
            <a:custGeom>
              <a:avLst/>
              <a:gdLst>
                <a:gd name="textAreaLeft" fmla="*/ 38520 w 93600"/>
                <a:gd name="textAreaRight" fmla="*/ 55080 w 93600"/>
                <a:gd name="textAreaTop" fmla="*/ 58320 h 141480"/>
                <a:gd name="textAreaBottom" fmla="*/ 83160 h 141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c000"/>
            </a:solidFill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99" name="Group 111"/>
          <p:cNvGrpSpPr/>
          <p:nvPr/>
        </p:nvGrpSpPr>
        <p:grpSpPr>
          <a:xfrm>
            <a:off x="7370640" y="5400720"/>
            <a:ext cx="1265400" cy="266760"/>
            <a:chOff x="7370640" y="5400720"/>
            <a:chExt cx="1265400" cy="266760"/>
          </a:xfrm>
        </p:grpSpPr>
        <p:pic>
          <p:nvPicPr>
            <p:cNvPr id="1100" name="Picture 112" descr=""/>
            <p:cNvPicPr/>
            <p:nvPr/>
          </p:nvPicPr>
          <p:blipFill>
            <a:blip r:embed="rId1"/>
            <a:stretch/>
          </p:blipFill>
          <p:spPr>
            <a:xfrm>
              <a:off x="7370640" y="5400720"/>
              <a:ext cx="1265400" cy="26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1" name="Text Box 113"/>
            <p:cNvSpPr/>
            <p:nvPr/>
          </p:nvSpPr>
          <p:spPr>
            <a:xfrm>
              <a:off x="7400880" y="5429160"/>
              <a:ext cx="121284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02" name="Picture 114" descr=""/>
          <p:cNvPicPr/>
          <p:nvPr/>
        </p:nvPicPr>
        <p:blipFill>
          <a:blip r:embed="rId2"/>
          <a:stretch/>
        </p:blipFill>
        <p:spPr>
          <a:xfrm>
            <a:off x="7431120" y="4754520"/>
            <a:ext cx="590400" cy="1554120"/>
          </a:xfrm>
          <a:prstGeom prst="rect">
            <a:avLst/>
          </a:prstGeom>
          <a:ln w="0">
            <a:noFill/>
          </a:ln>
        </p:spPr>
      </p:pic>
      <p:grpSp>
        <p:nvGrpSpPr>
          <p:cNvPr id="1103" name="Group 115"/>
          <p:cNvGrpSpPr/>
          <p:nvPr/>
        </p:nvGrpSpPr>
        <p:grpSpPr>
          <a:xfrm>
            <a:off x="4084560" y="5400720"/>
            <a:ext cx="1198800" cy="266760"/>
            <a:chOff x="4084560" y="5400720"/>
            <a:chExt cx="1198800" cy="266760"/>
          </a:xfrm>
        </p:grpSpPr>
        <p:pic>
          <p:nvPicPr>
            <p:cNvPr id="1104" name="Picture 116" descr=""/>
            <p:cNvPicPr/>
            <p:nvPr/>
          </p:nvPicPr>
          <p:blipFill>
            <a:blip r:embed="rId3"/>
            <a:stretch/>
          </p:blipFill>
          <p:spPr>
            <a:xfrm>
              <a:off x="4084560" y="5400720"/>
              <a:ext cx="1198800" cy="26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5" name="Text Box 117"/>
            <p:cNvSpPr/>
            <p:nvPr/>
          </p:nvSpPr>
          <p:spPr>
            <a:xfrm>
              <a:off x="4114800" y="5429160"/>
              <a:ext cx="114156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06" name="Group 118"/>
          <p:cNvGrpSpPr/>
          <p:nvPr/>
        </p:nvGrpSpPr>
        <p:grpSpPr>
          <a:xfrm>
            <a:off x="542880" y="5400720"/>
            <a:ext cx="949320" cy="266760"/>
            <a:chOff x="542880" y="5400720"/>
            <a:chExt cx="949320" cy="266760"/>
          </a:xfrm>
        </p:grpSpPr>
        <p:pic>
          <p:nvPicPr>
            <p:cNvPr id="1107" name="Picture 119" descr=""/>
            <p:cNvPicPr/>
            <p:nvPr/>
          </p:nvPicPr>
          <p:blipFill>
            <a:blip r:embed="rId4"/>
            <a:stretch/>
          </p:blipFill>
          <p:spPr>
            <a:xfrm>
              <a:off x="542880" y="5400720"/>
              <a:ext cx="949320" cy="26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8" name="Text Box 120"/>
            <p:cNvSpPr/>
            <p:nvPr/>
          </p:nvSpPr>
          <p:spPr>
            <a:xfrm>
              <a:off x="571680" y="5429160"/>
              <a:ext cx="89820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09" name="Picture 121" descr=""/>
          <p:cNvPicPr/>
          <p:nvPr/>
        </p:nvPicPr>
        <p:blipFill>
          <a:blip r:embed="rId5"/>
          <a:stretch/>
        </p:blipFill>
        <p:spPr>
          <a:xfrm>
            <a:off x="1359000" y="4754520"/>
            <a:ext cx="592200" cy="1554120"/>
          </a:xfrm>
          <a:prstGeom prst="rect">
            <a:avLst/>
          </a:prstGeom>
          <a:ln w="0">
            <a:noFill/>
          </a:ln>
        </p:spPr>
      </p:pic>
      <p:grpSp>
        <p:nvGrpSpPr>
          <p:cNvPr id="1110" name="Group 122"/>
          <p:cNvGrpSpPr/>
          <p:nvPr/>
        </p:nvGrpSpPr>
        <p:grpSpPr>
          <a:xfrm>
            <a:off x="1131840" y="2428920"/>
            <a:ext cx="1533600" cy="2784600"/>
            <a:chOff x="1131840" y="2428920"/>
            <a:chExt cx="1533600" cy="2784600"/>
          </a:xfrm>
        </p:grpSpPr>
        <p:grpSp>
          <p:nvGrpSpPr>
            <p:cNvPr id="1111" name="Group 123"/>
            <p:cNvGrpSpPr/>
            <p:nvPr/>
          </p:nvGrpSpPr>
          <p:grpSpPr>
            <a:xfrm>
              <a:off x="1762200" y="3238560"/>
              <a:ext cx="274680" cy="1974960"/>
              <a:chOff x="1762200" y="3238560"/>
              <a:chExt cx="274680" cy="1974960"/>
            </a:xfrm>
          </p:grpSpPr>
          <p:grpSp>
            <p:nvGrpSpPr>
              <p:cNvPr id="1112" name="Group 124"/>
              <p:cNvGrpSpPr/>
              <p:nvPr/>
            </p:nvGrpSpPr>
            <p:grpSpPr>
              <a:xfrm>
                <a:off x="1839960" y="3238560"/>
                <a:ext cx="115920" cy="1782720"/>
                <a:chOff x="1839960" y="3238560"/>
                <a:chExt cx="115920" cy="1782720"/>
              </a:xfrm>
            </p:grpSpPr>
            <p:pic>
              <p:nvPicPr>
                <p:cNvPr id="1113" name="Picture 12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839960" y="3238560"/>
                  <a:ext cx="115920" cy="17827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14" name="Text Box 126"/>
                <p:cNvSpPr/>
                <p:nvPr/>
              </p:nvSpPr>
              <p:spPr>
                <a:xfrm>
                  <a:off x="1863720" y="3268800"/>
                  <a:ext cx="76320" cy="17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15" name="Group 127"/>
              <p:cNvGrpSpPr/>
              <p:nvPr/>
            </p:nvGrpSpPr>
            <p:grpSpPr>
              <a:xfrm>
                <a:off x="1762200" y="4951440"/>
                <a:ext cx="274680" cy="262080"/>
                <a:chOff x="1762200" y="4951440"/>
                <a:chExt cx="274680" cy="262080"/>
              </a:xfrm>
            </p:grpSpPr>
            <p:pic>
              <p:nvPicPr>
                <p:cNvPr id="1116" name="Picture 128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762200" y="4951440"/>
                  <a:ext cx="274680" cy="2620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17" name="Text Box 129"/>
                <p:cNvSpPr/>
                <p:nvPr/>
              </p:nvSpPr>
              <p:spPr>
                <a:xfrm>
                  <a:off x="1787400" y="4983120"/>
                  <a:ext cx="230400" cy="203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18" name="Group 130"/>
            <p:cNvGrpSpPr/>
            <p:nvPr/>
          </p:nvGrpSpPr>
          <p:grpSpPr>
            <a:xfrm>
              <a:off x="1131840" y="2428920"/>
              <a:ext cx="1533600" cy="853920"/>
              <a:chOff x="1131840" y="2428920"/>
              <a:chExt cx="1533600" cy="853920"/>
            </a:xfrm>
          </p:grpSpPr>
          <p:pic>
            <p:nvPicPr>
              <p:cNvPr id="1119" name="Picture 131" descr=""/>
              <p:cNvPicPr/>
              <p:nvPr/>
            </p:nvPicPr>
            <p:blipFill>
              <a:blip r:embed="rId8"/>
              <a:stretch/>
            </p:blipFill>
            <p:spPr>
              <a:xfrm>
                <a:off x="1131840" y="2428920"/>
                <a:ext cx="1533600" cy="853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20" name="Text Box 132"/>
              <p:cNvSpPr/>
              <p:nvPr/>
            </p:nvSpPr>
            <p:spPr>
              <a:xfrm>
                <a:off x="1158840" y="2462040"/>
                <a:ext cx="1479600" cy="79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pic>
        <p:nvPicPr>
          <p:cNvPr id="1121" name="Picture 133" descr=""/>
          <p:cNvPicPr/>
          <p:nvPr/>
        </p:nvPicPr>
        <p:blipFill>
          <a:blip r:embed="rId9"/>
          <a:stretch/>
        </p:blipFill>
        <p:spPr>
          <a:xfrm>
            <a:off x="1859040" y="4754520"/>
            <a:ext cx="592200" cy="1554120"/>
          </a:xfrm>
          <a:prstGeom prst="rect">
            <a:avLst/>
          </a:prstGeom>
          <a:ln w="0">
            <a:noFill/>
          </a:ln>
        </p:spPr>
      </p:pic>
      <p:grpSp>
        <p:nvGrpSpPr>
          <p:cNvPr id="1122" name="Group 134"/>
          <p:cNvGrpSpPr/>
          <p:nvPr/>
        </p:nvGrpSpPr>
        <p:grpSpPr>
          <a:xfrm>
            <a:off x="4865760" y="3286080"/>
            <a:ext cx="1533600" cy="2808360"/>
            <a:chOff x="4865760" y="3286080"/>
            <a:chExt cx="1533600" cy="2808360"/>
          </a:xfrm>
        </p:grpSpPr>
        <p:grpSp>
          <p:nvGrpSpPr>
            <p:cNvPr id="1123" name="Group 135"/>
            <p:cNvGrpSpPr/>
            <p:nvPr/>
          </p:nvGrpSpPr>
          <p:grpSpPr>
            <a:xfrm>
              <a:off x="5499000" y="4116240"/>
              <a:ext cx="274680" cy="1978200"/>
              <a:chOff x="5499000" y="4116240"/>
              <a:chExt cx="274680" cy="1978200"/>
            </a:xfrm>
          </p:grpSpPr>
          <p:grpSp>
            <p:nvGrpSpPr>
              <p:cNvPr id="1124" name="Group 136"/>
              <p:cNvGrpSpPr/>
              <p:nvPr/>
            </p:nvGrpSpPr>
            <p:grpSpPr>
              <a:xfrm>
                <a:off x="5572080" y="4116240"/>
                <a:ext cx="122400" cy="1784520"/>
                <a:chOff x="5572080" y="4116240"/>
                <a:chExt cx="122400" cy="1784520"/>
              </a:xfrm>
            </p:grpSpPr>
            <p:pic>
              <p:nvPicPr>
                <p:cNvPr id="1125" name="Picture 13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5572080" y="4116240"/>
                  <a:ext cx="122400" cy="1784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26" name="Text Box 138"/>
                <p:cNvSpPr/>
                <p:nvPr/>
              </p:nvSpPr>
              <p:spPr>
                <a:xfrm>
                  <a:off x="5599080" y="4145040"/>
                  <a:ext cx="76320" cy="1733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27" name="Group 139"/>
              <p:cNvGrpSpPr/>
              <p:nvPr/>
            </p:nvGrpSpPr>
            <p:grpSpPr>
              <a:xfrm>
                <a:off x="5499000" y="5837400"/>
                <a:ext cx="274680" cy="257040"/>
                <a:chOff x="5499000" y="5837400"/>
                <a:chExt cx="274680" cy="257040"/>
              </a:xfrm>
            </p:grpSpPr>
            <p:pic>
              <p:nvPicPr>
                <p:cNvPr id="1128" name="Picture 140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5499000" y="5837400"/>
                  <a:ext cx="274680" cy="2570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29" name="Text Box 141"/>
                <p:cNvSpPr/>
                <p:nvPr/>
              </p:nvSpPr>
              <p:spPr>
                <a:xfrm>
                  <a:off x="5521320" y="5865840"/>
                  <a:ext cx="230040" cy="20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30" name="Group 142"/>
            <p:cNvGrpSpPr/>
            <p:nvPr/>
          </p:nvGrpSpPr>
          <p:grpSpPr>
            <a:xfrm>
              <a:off x="4865760" y="3286080"/>
              <a:ext cx="1533600" cy="854280"/>
              <a:chOff x="4865760" y="3286080"/>
              <a:chExt cx="1533600" cy="854280"/>
            </a:xfrm>
          </p:grpSpPr>
          <p:pic>
            <p:nvPicPr>
              <p:cNvPr id="1131" name="Picture 143" descr=""/>
              <p:cNvPicPr/>
              <p:nvPr/>
            </p:nvPicPr>
            <p:blipFill>
              <a:blip r:embed="rId12"/>
              <a:stretch/>
            </p:blipFill>
            <p:spPr>
              <a:xfrm>
                <a:off x="4865760" y="3286080"/>
                <a:ext cx="1533600" cy="854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2" name="Text Box 144"/>
              <p:cNvSpPr/>
              <p:nvPr/>
            </p:nvSpPr>
            <p:spPr>
              <a:xfrm>
                <a:off x="4896000" y="3316320"/>
                <a:ext cx="1479240" cy="798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pic>
        <p:nvPicPr>
          <p:cNvPr id="1133" name="Picture 145" descr=""/>
          <p:cNvPicPr/>
          <p:nvPr/>
        </p:nvPicPr>
        <p:blipFill>
          <a:blip r:embed="rId13"/>
          <a:stretch/>
        </p:blipFill>
        <p:spPr>
          <a:xfrm>
            <a:off x="5205240" y="4754520"/>
            <a:ext cx="336600" cy="1554120"/>
          </a:xfrm>
          <a:prstGeom prst="rect">
            <a:avLst/>
          </a:prstGeom>
          <a:ln w="0">
            <a:noFill/>
          </a:ln>
        </p:spPr>
      </p:pic>
      <p:grpSp>
        <p:nvGrpSpPr>
          <p:cNvPr id="1134" name="Group 146"/>
          <p:cNvGrpSpPr/>
          <p:nvPr/>
        </p:nvGrpSpPr>
        <p:grpSpPr>
          <a:xfrm>
            <a:off x="2989440" y="3262320"/>
            <a:ext cx="1533240" cy="2808360"/>
            <a:chOff x="2989440" y="3262320"/>
            <a:chExt cx="1533240" cy="2808360"/>
          </a:xfrm>
        </p:grpSpPr>
        <p:grpSp>
          <p:nvGrpSpPr>
            <p:cNvPr id="1135" name="Group 147"/>
            <p:cNvGrpSpPr/>
            <p:nvPr/>
          </p:nvGrpSpPr>
          <p:grpSpPr>
            <a:xfrm>
              <a:off x="3624120" y="4094280"/>
              <a:ext cx="274680" cy="1976400"/>
              <a:chOff x="3624120" y="4094280"/>
              <a:chExt cx="274680" cy="1976400"/>
            </a:xfrm>
          </p:grpSpPr>
          <p:grpSp>
            <p:nvGrpSpPr>
              <p:cNvPr id="1136" name="Group 148"/>
              <p:cNvGrpSpPr/>
              <p:nvPr/>
            </p:nvGrpSpPr>
            <p:grpSpPr>
              <a:xfrm>
                <a:off x="3697200" y="4094280"/>
                <a:ext cx="122400" cy="1782720"/>
                <a:chOff x="3697200" y="4094280"/>
                <a:chExt cx="122400" cy="1782720"/>
              </a:xfrm>
            </p:grpSpPr>
            <p:pic>
              <p:nvPicPr>
                <p:cNvPr id="1137" name="Picture 149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3697200" y="4094280"/>
                  <a:ext cx="122400" cy="17827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38" name="Text Box 150"/>
                <p:cNvSpPr/>
                <p:nvPr/>
              </p:nvSpPr>
              <p:spPr>
                <a:xfrm>
                  <a:off x="3724200" y="4122720"/>
                  <a:ext cx="76320" cy="173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39" name="Group 151"/>
              <p:cNvGrpSpPr/>
              <p:nvPr/>
            </p:nvGrpSpPr>
            <p:grpSpPr>
              <a:xfrm>
                <a:off x="3624120" y="5813280"/>
                <a:ext cx="274680" cy="257400"/>
                <a:chOff x="3624120" y="5813280"/>
                <a:chExt cx="274680" cy="257400"/>
              </a:xfrm>
            </p:grpSpPr>
            <p:pic>
              <p:nvPicPr>
                <p:cNvPr id="1140" name="Picture 15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3624120" y="5813280"/>
                  <a:ext cx="274680" cy="257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41" name="Text Box 153"/>
                <p:cNvSpPr/>
                <p:nvPr/>
              </p:nvSpPr>
              <p:spPr>
                <a:xfrm>
                  <a:off x="3648240" y="5843520"/>
                  <a:ext cx="230040" cy="20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42" name="Group 154"/>
            <p:cNvGrpSpPr/>
            <p:nvPr/>
          </p:nvGrpSpPr>
          <p:grpSpPr>
            <a:xfrm>
              <a:off x="2989440" y="3262320"/>
              <a:ext cx="1533240" cy="853920"/>
              <a:chOff x="2989440" y="3262320"/>
              <a:chExt cx="1533240" cy="853920"/>
            </a:xfrm>
          </p:grpSpPr>
          <p:pic>
            <p:nvPicPr>
              <p:cNvPr id="1143" name="Picture 155" descr=""/>
              <p:cNvPicPr/>
              <p:nvPr/>
            </p:nvPicPr>
            <p:blipFill>
              <a:blip r:embed="rId16"/>
              <a:stretch/>
            </p:blipFill>
            <p:spPr>
              <a:xfrm>
                <a:off x="2989440" y="3262320"/>
                <a:ext cx="1533240" cy="853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4" name="Text Box 156"/>
              <p:cNvSpPr/>
              <p:nvPr/>
            </p:nvSpPr>
            <p:spPr>
              <a:xfrm>
                <a:off x="3021120" y="3294000"/>
                <a:ext cx="1479600" cy="798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145" name="Group 157"/>
          <p:cNvGrpSpPr/>
          <p:nvPr/>
        </p:nvGrpSpPr>
        <p:grpSpPr>
          <a:xfrm>
            <a:off x="7257960" y="2357280"/>
            <a:ext cx="460440" cy="446400"/>
            <a:chOff x="7257960" y="2357280"/>
            <a:chExt cx="460440" cy="446400"/>
          </a:xfrm>
        </p:grpSpPr>
        <p:sp>
          <p:nvSpPr>
            <p:cNvPr id="1146" name="AutoShape 158"/>
            <p:cNvSpPr/>
            <p:nvPr/>
          </p:nvSpPr>
          <p:spPr>
            <a:xfrm>
              <a:off x="7472520" y="2357280"/>
              <a:ext cx="93600" cy="141480"/>
            </a:xfrm>
            <a:custGeom>
              <a:avLst/>
              <a:gdLst>
                <a:gd name="textAreaLeft" fmla="*/ 38520 w 93600"/>
                <a:gd name="textAreaRight" fmla="*/ 55080 w 93600"/>
                <a:gd name="textAreaTop" fmla="*/ 58320 h 141480"/>
                <a:gd name="textAreaBottom" fmla="*/ 83160 h 141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c000"/>
            </a:solidFill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7" name="AutoShape 159"/>
            <p:cNvSpPr/>
            <p:nvPr/>
          </p:nvSpPr>
          <p:spPr>
            <a:xfrm>
              <a:off x="7624800" y="2509920"/>
              <a:ext cx="93600" cy="141120"/>
            </a:xfrm>
            <a:custGeom>
              <a:avLst/>
              <a:gdLst>
                <a:gd name="textAreaLeft" fmla="*/ 38520 w 93600"/>
                <a:gd name="textAreaRight" fmla="*/ 55080 w 93600"/>
                <a:gd name="textAreaTop" fmla="*/ 57960 h 141120"/>
                <a:gd name="textAreaBottom" fmla="*/ 83160 h 141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c000"/>
            </a:solidFill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8" name="AutoShape 160"/>
            <p:cNvSpPr/>
            <p:nvPr/>
          </p:nvSpPr>
          <p:spPr>
            <a:xfrm>
              <a:off x="7377120" y="2428920"/>
              <a:ext cx="93600" cy="141120"/>
            </a:xfrm>
            <a:custGeom>
              <a:avLst/>
              <a:gdLst>
                <a:gd name="textAreaLeft" fmla="*/ 38520 w 93600"/>
                <a:gd name="textAreaRight" fmla="*/ 55080 w 93600"/>
                <a:gd name="textAreaTop" fmla="*/ 57960 h 141120"/>
                <a:gd name="textAreaBottom" fmla="*/ 83160 h 141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c000"/>
            </a:solidFill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9" name="AutoShape 161"/>
            <p:cNvSpPr/>
            <p:nvPr/>
          </p:nvSpPr>
          <p:spPr>
            <a:xfrm>
              <a:off x="7520040" y="2571840"/>
              <a:ext cx="93600" cy="141120"/>
            </a:xfrm>
            <a:custGeom>
              <a:avLst/>
              <a:gdLst>
                <a:gd name="textAreaLeft" fmla="*/ 38520 w 93600"/>
                <a:gd name="textAreaRight" fmla="*/ 55080 w 93600"/>
                <a:gd name="textAreaTop" fmla="*/ 57960 h 141120"/>
                <a:gd name="textAreaBottom" fmla="*/ 83160 h 141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c000"/>
            </a:solidFill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0" name="AutoShape 162"/>
            <p:cNvSpPr/>
            <p:nvPr/>
          </p:nvSpPr>
          <p:spPr>
            <a:xfrm>
              <a:off x="7257960" y="2662200"/>
              <a:ext cx="93600" cy="141480"/>
            </a:xfrm>
            <a:custGeom>
              <a:avLst/>
              <a:gdLst>
                <a:gd name="textAreaLeft" fmla="*/ 38520 w 93600"/>
                <a:gd name="textAreaRight" fmla="*/ 55080 w 93600"/>
                <a:gd name="textAreaTop" fmla="*/ 58320 h 141480"/>
                <a:gd name="textAreaBottom" fmla="*/ 83160 h 141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c000"/>
            </a:solidFill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51" name="Group 163"/>
          <p:cNvGrpSpPr/>
          <p:nvPr/>
        </p:nvGrpSpPr>
        <p:grpSpPr>
          <a:xfrm>
            <a:off x="6723000" y="2428920"/>
            <a:ext cx="1533600" cy="2784600"/>
            <a:chOff x="6723000" y="2428920"/>
            <a:chExt cx="1533600" cy="2784600"/>
          </a:xfrm>
        </p:grpSpPr>
        <p:grpSp>
          <p:nvGrpSpPr>
            <p:cNvPr id="1152" name="Group 164"/>
            <p:cNvGrpSpPr/>
            <p:nvPr/>
          </p:nvGrpSpPr>
          <p:grpSpPr>
            <a:xfrm>
              <a:off x="7353360" y="3238560"/>
              <a:ext cx="274680" cy="1974960"/>
              <a:chOff x="7353360" y="3238560"/>
              <a:chExt cx="274680" cy="1974960"/>
            </a:xfrm>
          </p:grpSpPr>
          <p:grpSp>
            <p:nvGrpSpPr>
              <p:cNvPr id="1153" name="Group 165"/>
              <p:cNvGrpSpPr/>
              <p:nvPr/>
            </p:nvGrpSpPr>
            <p:grpSpPr>
              <a:xfrm>
                <a:off x="7432560" y="3238560"/>
                <a:ext cx="122400" cy="1782720"/>
                <a:chOff x="7432560" y="3238560"/>
                <a:chExt cx="122400" cy="1782720"/>
              </a:xfrm>
            </p:grpSpPr>
            <p:pic>
              <p:nvPicPr>
                <p:cNvPr id="1154" name="Picture 166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7432560" y="3238560"/>
                  <a:ext cx="122400" cy="17827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55" name="Text Box 167"/>
                <p:cNvSpPr/>
                <p:nvPr/>
              </p:nvSpPr>
              <p:spPr>
                <a:xfrm>
                  <a:off x="7458120" y="3268800"/>
                  <a:ext cx="76320" cy="17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6" name="Group 168"/>
              <p:cNvGrpSpPr/>
              <p:nvPr/>
            </p:nvGrpSpPr>
            <p:grpSpPr>
              <a:xfrm>
                <a:off x="7353360" y="4951440"/>
                <a:ext cx="274680" cy="262080"/>
                <a:chOff x="7353360" y="4951440"/>
                <a:chExt cx="274680" cy="262080"/>
              </a:xfrm>
            </p:grpSpPr>
            <p:pic>
              <p:nvPicPr>
                <p:cNvPr id="1157" name="Picture 169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353360" y="4951440"/>
                  <a:ext cx="274680" cy="2620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58" name="Text Box 170"/>
                <p:cNvSpPr/>
                <p:nvPr/>
              </p:nvSpPr>
              <p:spPr>
                <a:xfrm>
                  <a:off x="7380360" y="4983120"/>
                  <a:ext cx="230040" cy="203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59" name="Group 171"/>
            <p:cNvGrpSpPr/>
            <p:nvPr/>
          </p:nvGrpSpPr>
          <p:grpSpPr>
            <a:xfrm>
              <a:off x="6723000" y="2428920"/>
              <a:ext cx="1533600" cy="853920"/>
              <a:chOff x="6723000" y="2428920"/>
              <a:chExt cx="1533600" cy="853920"/>
            </a:xfrm>
          </p:grpSpPr>
          <p:pic>
            <p:nvPicPr>
              <p:cNvPr id="1160" name="Picture 172" descr=""/>
              <p:cNvPicPr/>
              <p:nvPr/>
            </p:nvPicPr>
            <p:blipFill>
              <a:blip r:embed="rId19"/>
              <a:stretch/>
            </p:blipFill>
            <p:spPr>
              <a:xfrm>
                <a:off x="6723000" y="2428920"/>
                <a:ext cx="1533600" cy="853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61" name="Text Box 173"/>
              <p:cNvSpPr/>
              <p:nvPr/>
            </p:nvSpPr>
            <p:spPr>
              <a:xfrm>
                <a:off x="6751800" y="2462040"/>
                <a:ext cx="1479240" cy="79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pic>
        <p:nvPicPr>
          <p:cNvPr id="1162" name="Picture 174" descr=""/>
          <p:cNvPicPr/>
          <p:nvPr/>
        </p:nvPicPr>
        <p:blipFill>
          <a:blip r:embed="rId20"/>
          <a:stretch/>
        </p:blipFill>
        <p:spPr>
          <a:xfrm>
            <a:off x="6931080" y="4754520"/>
            <a:ext cx="592200" cy="1554120"/>
          </a:xfrm>
          <a:prstGeom prst="rect">
            <a:avLst/>
          </a:prstGeom>
          <a:ln w="0">
            <a:noFill/>
          </a:ln>
        </p:spPr>
      </p:pic>
      <p:grpSp>
        <p:nvGrpSpPr>
          <p:cNvPr id="1163" name="Group 175"/>
          <p:cNvGrpSpPr/>
          <p:nvPr/>
        </p:nvGrpSpPr>
        <p:grpSpPr>
          <a:xfrm>
            <a:off x="5724360" y="5400720"/>
            <a:ext cx="1413000" cy="266760"/>
            <a:chOff x="5724360" y="5400720"/>
            <a:chExt cx="1413000" cy="266760"/>
          </a:xfrm>
        </p:grpSpPr>
        <p:pic>
          <p:nvPicPr>
            <p:cNvPr id="1164" name="Picture 176" descr=""/>
            <p:cNvPicPr/>
            <p:nvPr/>
          </p:nvPicPr>
          <p:blipFill>
            <a:blip r:embed="rId21"/>
            <a:stretch/>
          </p:blipFill>
          <p:spPr>
            <a:xfrm>
              <a:off x="5724360" y="5400720"/>
              <a:ext cx="1413000" cy="26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5" name="Text Box 177"/>
            <p:cNvSpPr/>
            <p:nvPr/>
          </p:nvSpPr>
          <p:spPr>
            <a:xfrm>
              <a:off x="5757840" y="5429160"/>
              <a:ext cx="135576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6" name="Picture 178" descr=""/>
          <p:cNvPicPr/>
          <p:nvPr/>
        </p:nvPicPr>
        <p:blipFill>
          <a:blip r:embed="rId22"/>
          <a:stretch/>
        </p:blipFill>
        <p:spPr>
          <a:xfrm>
            <a:off x="5705640" y="4754520"/>
            <a:ext cx="334800" cy="1554120"/>
          </a:xfrm>
          <a:prstGeom prst="rect">
            <a:avLst/>
          </a:prstGeom>
          <a:ln w="0">
            <a:noFill/>
          </a:ln>
        </p:spPr>
      </p:pic>
      <p:grpSp>
        <p:nvGrpSpPr>
          <p:cNvPr id="1167" name="Group 179"/>
          <p:cNvGrpSpPr/>
          <p:nvPr/>
        </p:nvGrpSpPr>
        <p:grpSpPr>
          <a:xfrm>
            <a:off x="2225520" y="5400720"/>
            <a:ext cx="1411560" cy="266760"/>
            <a:chOff x="2225520" y="5400720"/>
            <a:chExt cx="1411560" cy="266760"/>
          </a:xfrm>
        </p:grpSpPr>
        <p:pic>
          <p:nvPicPr>
            <p:cNvPr id="1168" name="Picture 180" descr=""/>
            <p:cNvPicPr/>
            <p:nvPr/>
          </p:nvPicPr>
          <p:blipFill>
            <a:blip r:embed="rId23"/>
            <a:stretch/>
          </p:blipFill>
          <p:spPr>
            <a:xfrm>
              <a:off x="2225520" y="5400720"/>
              <a:ext cx="1411560" cy="26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9" name="Text Box 181"/>
            <p:cNvSpPr/>
            <p:nvPr/>
          </p:nvSpPr>
          <p:spPr>
            <a:xfrm>
              <a:off x="2257560" y="5429160"/>
              <a:ext cx="135576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70" name="Picture 182" descr=""/>
          <p:cNvPicPr/>
          <p:nvPr/>
        </p:nvPicPr>
        <p:blipFill>
          <a:blip r:embed="rId24"/>
          <a:stretch/>
        </p:blipFill>
        <p:spPr>
          <a:xfrm>
            <a:off x="3346560" y="4754520"/>
            <a:ext cx="334800" cy="1554120"/>
          </a:xfrm>
          <a:prstGeom prst="rect">
            <a:avLst/>
          </a:prstGeom>
          <a:ln w="0">
            <a:noFill/>
          </a:ln>
        </p:spPr>
      </p:pic>
      <p:pic>
        <p:nvPicPr>
          <p:cNvPr id="1171" name="Picture 183" descr=""/>
          <p:cNvPicPr/>
          <p:nvPr/>
        </p:nvPicPr>
        <p:blipFill>
          <a:blip r:embed="rId25"/>
          <a:stretch/>
        </p:blipFill>
        <p:spPr>
          <a:xfrm>
            <a:off x="3846600" y="4754520"/>
            <a:ext cx="334800" cy="1554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autoRev="1" nodeType="clickEffect" fill="hold" presetClass="path" presetID="42" repeatCount="4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 -6 -1.79191 -6 L -3.88889 -6 0.13156">
                                      <p:cBhvr>
                                        <p:cTn id="187" dur="2000" fill="hold"/>
                                        <p:tgtEl>
                                          <p:spTgt spid="1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8" autoRev="1" nodeType="withEffect" fill="hold" presetClass="path" presetID="64" repeatCount="4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 -6 -2.48555 -6 L -2.5 -6 -0.11514">
                                      <p:cBhvr>
                                        <p:cTn id="189" dur="2000" fill="hold"/>
                                        <p:tgtEl>
                                          <p:spTgt spid="11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0" autoRev="1" nodeType="withEffect" fill="hold" presetClass="path" presetID="64" repeatCount="4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 -6 -2.48555 -6 L -2.5 -6 -0.11514">
                                      <p:cBhvr>
                                        <p:cTn id="191" dur="2000" fill="hold"/>
                                        <p:tgtEl>
                                          <p:spTgt spid="11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2" autoRev="1" nodeType="withEffect" fill="hold" presetClass="path" presetID="42" repeatCount="4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 -6 -1.79191 -6 L -3.88889 -6 0.13156">
                                      <p:cBhvr>
                                        <p:cTn id="193" dur="2000" fill="hold"/>
                                        <p:tgtEl>
                                          <p:spTgt spid="11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10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1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10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10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10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10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2" name="Picture 1" descr=""/>
          <p:cNvPicPr/>
          <p:nvPr/>
        </p:nvPicPr>
        <p:blipFill>
          <a:blip r:embed="rId1"/>
          <a:stretch/>
        </p:blipFill>
        <p:spPr>
          <a:xfrm>
            <a:off x="1116000" y="1052640"/>
            <a:ext cx="6408720" cy="4533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одолжи предложение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Сегодня я узнал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Было интересно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Было трудно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Я выполнял задания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Я понял, что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Теперь я могу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Я приобрёл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У меня получилось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Я смог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Меня удивило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Урок дал мне для жизни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Домашнее задание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.21,22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 выбору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оставить кроссворд по теме «Устройство и работа ДВС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оставить тест по теме «Устройство и работа ДВС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7" name="image.mp4" descr=""/>
          <p:cNvPicPr/>
          <p:nvPr/>
        </p:nvPicPr>
        <p:blipFill>
          <a:blip r:embed="rId1"/>
          <a:stretch/>
        </p:blipFill>
        <p:spPr>
          <a:xfrm>
            <a:off x="-34920" y="1484280"/>
            <a:ext cx="921384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restart="whenNotActive" nodeType="interactiveSeq" fill="hold">
                <p:stCondLst>
                  <p:cond evt="onClick">
                    <p:tgtEl>
                      <p:spTgt spid="1177"/>
                    </p:tgtEl>
                  </p:cond>
                </p:stCondLst>
                <p:childTnLst>
                  <p:par>
                    <p:cTn id="220" fill="hold">
                      <p:stCondLst>
                        <p:cond evt="onClick">
                          <p:tgtEl>
                            <p:spTgt spid="1177"/>
                          </p:tgtEl>
                        </p:cond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23" dur="1" fill="hold"/>
                                        <p:tgtEl>
                                          <p:spTgt spid="11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2"/>
          <p:cNvSpPr/>
          <p:nvPr/>
        </p:nvSpPr>
        <p:spPr>
          <a:xfrm>
            <a:off x="1116000" y="378936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Picture 3" descr=""/>
          <p:cNvPicPr/>
          <p:nvPr/>
        </p:nvPicPr>
        <p:blipFill>
          <a:blip r:embed="rId1"/>
          <a:stretch/>
        </p:blipFill>
        <p:spPr>
          <a:xfrm>
            <a:off x="560520" y="476280"/>
            <a:ext cx="8218440" cy="118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109440"/>
            <a:ext cx="8218440" cy="28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0066"/>
                </a:solidFill>
                <a:latin typeface="Calibri"/>
              </a:rPr>
              <a:t>Тепловыми двигателями называют машины, в которых внутренняя энергия топлива превращается в механическую энергию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2843280" y="4076640"/>
            <a:ext cx="3457440" cy="180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" dur="8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51)"/>
                                          </p:val>
                                        </p:tav>
                                        <p:tav tm="100000">
                                          <p:val>
                                            <p:strVal val="rgb(0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" dur="8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51)"/>
                                          </p:val>
                                        </p:tav>
                                        <p:tav tm="100000">
                                          <p:val>
                                            <p:strVal val="rgb(0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" dur="8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1"/>
          <p:cNvSpPr/>
          <p:nvPr/>
        </p:nvSpPr>
        <p:spPr>
          <a:xfrm>
            <a:off x="250920" y="189000"/>
            <a:ext cx="432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6" name="Group 2"/>
          <p:cNvGrpSpPr/>
          <p:nvPr/>
        </p:nvGrpSpPr>
        <p:grpSpPr>
          <a:xfrm>
            <a:off x="1187280" y="549360"/>
            <a:ext cx="6407280" cy="718920"/>
            <a:chOff x="1187280" y="549360"/>
            <a:chExt cx="6407280" cy="718920"/>
          </a:xfrm>
        </p:grpSpPr>
        <p:sp>
          <p:nvSpPr>
            <p:cNvPr id="57" name="AutoShape 3"/>
            <p:cNvSpPr/>
            <p:nvPr/>
          </p:nvSpPr>
          <p:spPr>
            <a:xfrm>
              <a:off x="1187280" y="549360"/>
              <a:ext cx="6407280" cy="71892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Text Box 4"/>
            <p:cNvSpPr/>
            <p:nvPr/>
          </p:nvSpPr>
          <p:spPr>
            <a:xfrm>
              <a:off x="1619280" y="620640"/>
              <a:ext cx="5543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Arial"/>
                </a:rPr>
                <a:t>Тепловые двигатели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Line 5"/>
          <p:cNvSpPr/>
          <p:nvPr/>
        </p:nvSpPr>
        <p:spPr>
          <a:xfrm flipH="1">
            <a:off x="2193480" y="1413000"/>
            <a:ext cx="12286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0" name="Group 6"/>
          <p:cNvGrpSpPr/>
          <p:nvPr/>
        </p:nvGrpSpPr>
        <p:grpSpPr>
          <a:xfrm>
            <a:off x="4716360" y="4221000"/>
            <a:ext cx="3886200" cy="1079640"/>
            <a:chOff x="4716360" y="4221000"/>
            <a:chExt cx="3886200" cy="1079640"/>
          </a:xfrm>
        </p:grpSpPr>
        <p:sp>
          <p:nvSpPr>
            <p:cNvPr id="61" name="AutoShape 7"/>
            <p:cNvSpPr/>
            <p:nvPr/>
          </p:nvSpPr>
          <p:spPr>
            <a:xfrm>
              <a:off x="4716360" y="4221000"/>
              <a:ext cx="3886200" cy="107964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Text Box 8"/>
            <p:cNvSpPr/>
            <p:nvPr/>
          </p:nvSpPr>
          <p:spPr>
            <a:xfrm>
              <a:off x="5075280" y="4365720"/>
              <a:ext cx="3240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Паровая и газовая турбина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3" name="Group 9"/>
          <p:cNvGrpSpPr/>
          <p:nvPr/>
        </p:nvGrpSpPr>
        <p:grpSpPr>
          <a:xfrm>
            <a:off x="4932360" y="2349360"/>
            <a:ext cx="3886200" cy="1149480"/>
            <a:chOff x="4932360" y="2349360"/>
            <a:chExt cx="3886200" cy="1149480"/>
          </a:xfrm>
        </p:grpSpPr>
        <p:sp>
          <p:nvSpPr>
            <p:cNvPr id="64" name="AutoShape 10"/>
            <p:cNvSpPr/>
            <p:nvPr/>
          </p:nvSpPr>
          <p:spPr>
            <a:xfrm>
              <a:off x="4932360" y="2349360"/>
              <a:ext cx="3814920" cy="114948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Text Box 11"/>
            <p:cNvSpPr/>
            <p:nvPr/>
          </p:nvSpPr>
          <p:spPr>
            <a:xfrm>
              <a:off x="5003640" y="2637000"/>
              <a:ext cx="381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Реактивный двигатель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6" name="Group 12"/>
          <p:cNvGrpSpPr/>
          <p:nvPr/>
        </p:nvGrpSpPr>
        <p:grpSpPr>
          <a:xfrm>
            <a:off x="324000" y="4292640"/>
            <a:ext cx="4246560" cy="1077840"/>
            <a:chOff x="324000" y="4292640"/>
            <a:chExt cx="4246560" cy="1077840"/>
          </a:xfrm>
        </p:grpSpPr>
        <p:sp>
          <p:nvSpPr>
            <p:cNvPr id="67" name="AutoShape 13"/>
            <p:cNvSpPr/>
            <p:nvPr/>
          </p:nvSpPr>
          <p:spPr>
            <a:xfrm>
              <a:off x="539640" y="4292640"/>
              <a:ext cx="3814920" cy="107784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Text Box 14"/>
            <p:cNvSpPr/>
            <p:nvPr/>
          </p:nvSpPr>
          <p:spPr>
            <a:xfrm>
              <a:off x="324000" y="4437000"/>
              <a:ext cx="42465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Двигатель внутреннего сгорания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9" name="Group 15"/>
          <p:cNvGrpSpPr/>
          <p:nvPr/>
        </p:nvGrpSpPr>
        <p:grpSpPr>
          <a:xfrm>
            <a:off x="395280" y="2349360"/>
            <a:ext cx="3886200" cy="1078200"/>
            <a:chOff x="395280" y="2349360"/>
            <a:chExt cx="3886200" cy="1078200"/>
          </a:xfrm>
        </p:grpSpPr>
        <p:sp>
          <p:nvSpPr>
            <p:cNvPr id="70" name="AutoShape 16"/>
            <p:cNvSpPr/>
            <p:nvPr/>
          </p:nvSpPr>
          <p:spPr>
            <a:xfrm>
              <a:off x="395280" y="2349360"/>
              <a:ext cx="3814920" cy="107820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Text Box 17"/>
            <p:cNvSpPr/>
            <p:nvPr/>
          </p:nvSpPr>
          <p:spPr>
            <a:xfrm>
              <a:off x="466560" y="2619360"/>
              <a:ext cx="381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Паровая машина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2" name="Line 18"/>
          <p:cNvSpPr/>
          <p:nvPr/>
        </p:nvSpPr>
        <p:spPr>
          <a:xfrm>
            <a:off x="5076720" y="1268280"/>
            <a:ext cx="122400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Line 19"/>
          <p:cNvSpPr/>
          <p:nvPr/>
        </p:nvSpPr>
        <p:spPr>
          <a:xfrm flipH="1">
            <a:off x="3922200" y="1341360"/>
            <a:ext cx="723960" cy="288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Line 20"/>
          <p:cNvSpPr/>
          <p:nvPr/>
        </p:nvSpPr>
        <p:spPr>
          <a:xfrm>
            <a:off x="4643280" y="1268280"/>
            <a:ext cx="432000" cy="288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7">
                                  <p:stCondLst>
                                    <p:cond delay="0"/>
                                  </p:stCondLst>
                                  <p:endCondLst>
                                    <p:cond delay="0"/>
                                    <p:cond evt="begin"/>
                                  </p:end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" dur="8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51)"/>
                                          </p:val>
                                        </p:tav>
                                        <p:tav tm="100000">
                                          <p:val>
                                            <p:strVal val="rgb(0,8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" dur="8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51)"/>
                                          </p:val>
                                        </p:tav>
                                        <p:tav tm="100000">
                                          <p:val>
                                            <p:strVal val="rgb(0,8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" dur="8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50560" y="-240120"/>
            <a:ext cx="8893080" cy="21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ff5050"/>
                </a:solidFill>
                <a:latin typeface="Calibri"/>
              </a:rPr>
              <a:t>Двигатель внутреннего сгорания –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4000"/>
            </a:br>
            <a:r>
              <a:rPr b="0" lang="ru-RU" sz="2800" spc="-1" strike="noStrike">
                <a:solidFill>
                  <a:srgbClr val="ff5050"/>
                </a:solidFill>
                <a:latin typeface="Calibri"/>
              </a:rPr>
              <a:t>самый распространённый тепловой двигател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2"/>
          <p:cNvSpPr/>
          <p:nvPr/>
        </p:nvSpPr>
        <p:spPr>
          <a:xfrm>
            <a:off x="5148360" y="45086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Text Box 3"/>
          <p:cNvSpPr/>
          <p:nvPr/>
        </p:nvSpPr>
        <p:spPr>
          <a:xfrm>
            <a:off x="5400000" y="1916280"/>
            <a:ext cx="3739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опливо в нём сгорае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ямо в цилиндре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нутри самого двигател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8" name="Picture 4" descr=""/>
          <p:cNvPicPr/>
          <p:nvPr/>
        </p:nvPicPr>
        <p:blipFill>
          <a:blip r:embed="rId1"/>
          <a:stretch/>
        </p:blipFill>
        <p:spPr>
          <a:xfrm>
            <a:off x="250920" y="2276640"/>
            <a:ext cx="4968720" cy="36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1" descr=""/>
          <p:cNvPicPr/>
          <p:nvPr/>
        </p:nvPicPr>
        <p:blipFill>
          <a:blip r:embed="rId1"/>
          <a:stretch/>
        </p:blipFill>
        <p:spPr>
          <a:xfrm>
            <a:off x="1643040" y="0"/>
            <a:ext cx="601668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0" name="Group 2"/>
          <p:cNvGrpSpPr/>
          <p:nvPr/>
        </p:nvGrpSpPr>
        <p:grpSpPr>
          <a:xfrm>
            <a:off x="5143680" y="0"/>
            <a:ext cx="2070000" cy="2069280"/>
            <a:chOff x="5143680" y="0"/>
            <a:chExt cx="2070000" cy="2069280"/>
          </a:xfrm>
        </p:grpSpPr>
        <p:sp>
          <p:nvSpPr>
            <p:cNvPr id="81" name="Line 3"/>
            <p:cNvSpPr/>
            <p:nvPr/>
          </p:nvSpPr>
          <p:spPr>
            <a:xfrm flipV="1">
              <a:off x="5143680" y="212040"/>
              <a:ext cx="1855440" cy="1857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AutoShape 4"/>
            <p:cNvSpPr/>
            <p:nvPr/>
          </p:nvSpPr>
          <p:spPr>
            <a:xfrm>
              <a:off x="6429240" y="0"/>
              <a:ext cx="784440" cy="712080"/>
            </a:xfrm>
            <a:prstGeom prst="pie">
              <a:avLst/>
            </a:prstGeom>
            <a:solidFill>
              <a:srgbClr val="558ed5"/>
            </a:solidFill>
            <a:ln w="9360">
              <a:solidFill>
                <a:srgbClr val="ffff00"/>
              </a:solidFill>
              <a:miter/>
            </a:ln>
            <a:effectLst>
              <a:outerShdw dist="74769" dir="938534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3200" spc="-1" strike="noStrike">
                  <a:solidFill>
                    <a:srgbClr val="ffffff"/>
                  </a:solidFill>
                  <a:latin typeface="Calibri"/>
                </a:rPr>
                <a:t>2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3" name="Group 5"/>
          <p:cNvGrpSpPr/>
          <p:nvPr/>
        </p:nvGrpSpPr>
        <p:grpSpPr>
          <a:xfrm>
            <a:off x="5072040" y="3429000"/>
            <a:ext cx="2570040" cy="712800"/>
            <a:chOff x="5072040" y="3429000"/>
            <a:chExt cx="2570040" cy="712800"/>
          </a:xfrm>
        </p:grpSpPr>
        <p:sp>
          <p:nvSpPr>
            <p:cNvPr id="84" name="Line 6"/>
            <p:cNvSpPr/>
            <p:nvPr/>
          </p:nvSpPr>
          <p:spPr>
            <a:xfrm>
              <a:off x="5072040" y="3714840"/>
              <a:ext cx="2212920" cy="60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AutoShape 7"/>
            <p:cNvSpPr/>
            <p:nvPr/>
          </p:nvSpPr>
          <p:spPr>
            <a:xfrm>
              <a:off x="6858000" y="3429000"/>
              <a:ext cx="784080" cy="712800"/>
            </a:xfrm>
            <a:prstGeom prst="pie">
              <a:avLst/>
            </a:prstGeom>
            <a:solidFill>
              <a:srgbClr val="558ed5"/>
            </a:solidFill>
            <a:ln w="9360">
              <a:solidFill>
                <a:srgbClr val="ffff00"/>
              </a:solidFill>
              <a:miter/>
            </a:ln>
            <a:effectLst>
              <a:outerShdw dist="74769" dir="938534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3200" spc="-1" strike="noStrike">
                  <a:solidFill>
                    <a:srgbClr val="ffffff"/>
                  </a:solidFill>
                  <a:latin typeface="Calibri"/>
                </a:rPr>
                <a:t>3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6" name="Group 8"/>
          <p:cNvGrpSpPr/>
          <p:nvPr/>
        </p:nvGrpSpPr>
        <p:grpSpPr>
          <a:xfrm>
            <a:off x="5284800" y="4857840"/>
            <a:ext cx="1783800" cy="1712880"/>
            <a:chOff x="5284800" y="4857840"/>
            <a:chExt cx="1783800" cy="1712880"/>
          </a:xfrm>
        </p:grpSpPr>
        <p:sp>
          <p:nvSpPr>
            <p:cNvPr id="87" name="Line 9"/>
            <p:cNvSpPr/>
            <p:nvPr/>
          </p:nvSpPr>
          <p:spPr>
            <a:xfrm>
              <a:off x="5284800" y="4857840"/>
              <a:ext cx="1425600" cy="1427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AutoShape 10"/>
            <p:cNvSpPr/>
            <p:nvPr/>
          </p:nvSpPr>
          <p:spPr>
            <a:xfrm>
              <a:off x="6285600" y="5857920"/>
              <a:ext cx="783000" cy="712800"/>
            </a:xfrm>
            <a:prstGeom prst="pie">
              <a:avLst/>
            </a:prstGeom>
            <a:solidFill>
              <a:srgbClr val="558ed5"/>
            </a:solidFill>
            <a:ln w="9360">
              <a:solidFill>
                <a:srgbClr val="ffff00"/>
              </a:solidFill>
              <a:miter/>
            </a:ln>
            <a:effectLst>
              <a:outerShdw dist="74769" dir="938534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3200" spc="-1" strike="noStrike">
                  <a:solidFill>
                    <a:srgbClr val="ffffff"/>
                  </a:solidFill>
                  <a:latin typeface="Calibri"/>
                </a:rPr>
                <a:t>4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9" name="Group 11"/>
          <p:cNvGrpSpPr/>
          <p:nvPr/>
        </p:nvGrpSpPr>
        <p:grpSpPr>
          <a:xfrm>
            <a:off x="2500200" y="71280"/>
            <a:ext cx="2427120" cy="712800"/>
            <a:chOff x="2500200" y="71280"/>
            <a:chExt cx="2427120" cy="712800"/>
          </a:xfrm>
        </p:grpSpPr>
        <p:sp>
          <p:nvSpPr>
            <p:cNvPr id="90" name="Line 12"/>
            <p:cNvSpPr/>
            <p:nvPr/>
          </p:nvSpPr>
          <p:spPr>
            <a:xfrm flipH="1" flipV="1">
              <a:off x="2998440" y="426600"/>
              <a:ext cx="1928880" cy="3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AutoShape 13"/>
            <p:cNvSpPr/>
            <p:nvPr/>
          </p:nvSpPr>
          <p:spPr>
            <a:xfrm>
              <a:off x="2500200" y="71280"/>
              <a:ext cx="783720" cy="712800"/>
            </a:xfrm>
            <a:prstGeom prst="pie">
              <a:avLst/>
            </a:prstGeom>
            <a:solidFill>
              <a:srgbClr val="558ed5"/>
            </a:solidFill>
            <a:ln w="9360">
              <a:solidFill>
                <a:srgbClr val="ffff00"/>
              </a:solidFill>
              <a:miter/>
            </a:ln>
            <a:effectLst>
              <a:outerShdw dist="74769" dir="938534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3200" spc="-1" strike="noStrike">
                  <a:solidFill>
                    <a:srgbClr val="ffffff"/>
                  </a:solidFill>
                  <a:latin typeface="Calibri"/>
                </a:rPr>
                <a:t>8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2" name="Group 14"/>
          <p:cNvGrpSpPr/>
          <p:nvPr/>
        </p:nvGrpSpPr>
        <p:grpSpPr>
          <a:xfrm>
            <a:off x="6143760" y="1857240"/>
            <a:ext cx="1355760" cy="1427400"/>
            <a:chOff x="6143760" y="1857240"/>
            <a:chExt cx="1355760" cy="1427400"/>
          </a:xfrm>
        </p:grpSpPr>
        <p:sp>
          <p:nvSpPr>
            <p:cNvPr id="93" name="Line 15"/>
            <p:cNvSpPr/>
            <p:nvPr/>
          </p:nvSpPr>
          <p:spPr>
            <a:xfrm>
              <a:off x="6143760" y="1857240"/>
              <a:ext cx="927000" cy="927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AutoShape 16"/>
            <p:cNvSpPr/>
            <p:nvPr/>
          </p:nvSpPr>
          <p:spPr>
            <a:xfrm>
              <a:off x="6715080" y="2571840"/>
              <a:ext cx="784440" cy="712800"/>
            </a:xfrm>
            <a:prstGeom prst="pie">
              <a:avLst/>
            </a:prstGeom>
            <a:solidFill>
              <a:srgbClr val="558ed5"/>
            </a:solidFill>
            <a:ln w="9360">
              <a:solidFill>
                <a:srgbClr val="ffff00"/>
              </a:solidFill>
              <a:miter/>
            </a:ln>
            <a:effectLst>
              <a:outerShdw dist="74769" dir="938534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3200" spc="-1" strike="noStrike">
                  <a:solidFill>
                    <a:srgbClr val="ffffff"/>
                  </a:solidFill>
                  <a:latin typeface="Calibri"/>
                </a:rPr>
                <a:t>7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5" name="Group 17"/>
          <p:cNvGrpSpPr/>
          <p:nvPr/>
        </p:nvGrpSpPr>
        <p:grpSpPr>
          <a:xfrm>
            <a:off x="2357280" y="1285920"/>
            <a:ext cx="1426680" cy="1427040"/>
            <a:chOff x="2357280" y="1285920"/>
            <a:chExt cx="1426680" cy="1427040"/>
          </a:xfrm>
        </p:grpSpPr>
        <p:sp>
          <p:nvSpPr>
            <p:cNvPr id="96" name="Line 18"/>
            <p:cNvSpPr/>
            <p:nvPr/>
          </p:nvSpPr>
          <p:spPr>
            <a:xfrm flipH="1">
              <a:off x="2783520" y="1285920"/>
              <a:ext cx="1000440" cy="998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AutoShape 19"/>
            <p:cNvSpPr/>
            <p:nvPr/>
          </p:nvSpPr>
          <p:spPr>
            <a:xfrm>
              <a:off x="2357280" y="2000160"/>
              <a:ext cx="783360" cy="712800"/>
            </a:xfrm>
            <a:prstGeom prst="pie">
              <a:avLst/>
            </a:prstGeom>
            <a:solidFill>
              <a:srgbClr val="558ed5"/>
            </a:solidFill>
            <a:ln w="9360">
              <a:solidFill>
                <a:srgbClr val="ffff00"/>
              </a:solidFill>
              <a:miter/>
            </a:ln>
            <a:effectLst>
              <a:outerShdw dist="74769" dir="938534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3200" spc="-1" strike="noStrike">
                  <a:solidFill>
                    <a:srgbClr val="ffffff"/>
                  </a:solidFill>
                  <a:latin typeface="Calibri"/>
                </a:rPr>
                <a:t>6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98" name="AutoShape 20"/>
          <p:cNvCxnSpPr/>
          <p:nvPr/>
        </p:nvCxnSpPr>
        <p:spPr>
          <a:xfrm>
            <a:off x="2500200" y="1214280"/>
            <a:ext cx="1000800" cy="216720"/>
          </a:xfrm>
          <a:prstGeom prst="straightConnector1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99" name="AutoShape 21"/>
          <p:cNvCxnSpPr/>
          <p:nvPr/>
        </p:nvCxnSpPr>
        <p:spPr>
          <a:xfrm>
            <a:off x="6786720" y="2071440"/>
            <a:ext cx="1000800" cy="214920"/>
          </a:xfrm>
          <a:prstGeom prst="straightConnector1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00" name="AutoShape 22"/>
          <p:cNvCxnSpPr/>
          <p:nvPr/>
        </p:nvCxnSpPr>
        <p:spPr>
          <a:xfrm flipH="1">
            <a:off x="4214520" y="3215880"/>
            <a:ext cx="573840" cy="2520"/>
          </a:xfrm>
          <a:prstGeom prst="straightConnector1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</p:cxnSp>
      <p:grpSp>
        <p:nvGrpSpPr>
          <p:cNvPr id="101" name="Group 23"/>
          <p:cNvGrpSpPr/>
          <p:nvPr/>
        </p:nvGrpSpPr>
        <p:grpSpPr>
          <a:xfrm>
            <a:off x="571680" y="4000680"/>
            <a:ext cx="1783440" cy="1784160"/>
            <a:chOff x="571680" y="4000680"/>
            <a:chExt cx="1783440" cy="1784160"/>
          </a:xfrm>
        </p:grpSpPr>
        <p:sp>
          <p:nvSpPr>
            <p:cNvPr id="102" name="Line 24"/>
            <p:cNvSpPr/>
            <p:nvPr/>
          </p:nvSpPr>
          <p:spPr>
            <a:xfrm flipH="1">
              <a:off x="926280" y="4000680"/>
              <a:ext cx="1428840" cy="1427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AutoShape 25"/>
            <p:cNvSpPr/>
            <p:nvPr/>
          </p:nvSpPr>
          <p:spPr>
            <a:xfrm>
              <a:off x="571680" y="5072040"/>
              <a:ext cx="783360" cy="712800"/>
            </a:xfrm>
            <a:prstGeom prst="pie">
              <a:avLst/>
            </a:prstGeom>
            <a:solidFill>
              <a:srgbClr val="558ed5"/>
            </a:solidFill>
            <a:ln w="9360">
              <a:solidFill>
                <a:srgbClr val="ffff00"/>
              </a:solidFill>
              <a:miter/>
            </a:ln>
            <a:effectLst>
              <a:outerShdw dist="74769" dir="938534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3200" spc="-1" strike="noStrike">
                  <a:solidFill>
                    <a:srgbClr val="ffffff"/>
                  </a:solidFill>
                  <a:latin typeface="Calibri"/>
                </a:rPr>
                <a:t>5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4" name="Group 26"/>
          <p:cNvGrpSpPr/>
          <p:nvPr/>
        </p:nvGrpSpPr>
        <p:grpSpPr>
          <a:xfrm>
            <a:off x="1357200" y="3000240"/>
            <a:ext cx="2998800" cy="712800"/>
            <a:chOff x="1357200" y="3000240"/>
            <a:chExt cx="2998800" cy="712800"/>
          </a:xfrm>
        </p:grpSpPr>
        <p:sp>
          <p:nvSpPr>
            <p:cNvPr id="105" name="Line 27"/>
            <p:cNvSpPr/>
            <p:nvPr/>
          </p:nvSpPr>
          <p:spPr>
            <a:xfrm>
              <a:off x="1714680" y="3357720"/>
              <a:ext cx="2641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AutoShape 28"/>
            <p:cNvSpPr/>
            <p:nvPr/>
          </p:nvSpPr>
          <p:spPr>
            <a:xfrm>
              <a:off x="1357200" y="3000240"/>
              <a:ext cx="784440" cy="712800"/>
            </a:xfrm>
            <a:prstGeom prst="pie">
              <a:avLst/>
            </a:prstGeom>
            <a:solidFill>
              <a:srgbClr val="558ed5"/>
            </a:solidFill>
            <a:ln w="9360">
              <a:solidFill>
                <a:srgbClr val="ffff00"/>
              </a:solidFill>
              <a:miter/>
            </a:ln>
            <a:effectLst>
              <a:outerShdw dist="74769" dir="938534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32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93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3" dur="193" fill="hold"/>
                                        <p:tgtEl>
                                          <p:spTgt spid="10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4" dur="30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5" dur="193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6" dur="30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7" dur="193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8" dur="30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93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4" dur="193" fill="hold"/>
                                        <p:tgtEl>
                                          <p:spTgt spid="8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5" dur="30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6" dur="193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7" dur="30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8" dur="193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9" dur="30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93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5" dur="193" fill="hold"/>
                                        <p:tgtEl>
                                          <p:spTgt spid="8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6" dur="30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7" dur="193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8" dur="30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9" dur="193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0" dur="30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93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6" dur="193" fill="hold"/>
                                        <p:tgtEl>
                                          <p:spTgt spid="8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7" dur="30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8" dur="193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9" dur="30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0" dur="193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1" dur="30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93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7" dur="193" fill="hold"/>
                                        <p:tgtEl>
                                          <p:spTgt spid="10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8" dur="30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9" dur="193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0" dur="30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1" dur="193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2" dur="30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93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8" dur="193" fill="hold"/>
                                        <p:tgtEl>
                                          <p:spTgt spid="9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9" dur="30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0" dur="193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1" dur="30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2" dur="193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3" dur="30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93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9" dur="193" fill="hold"/>
                                        <p:tgtEl>
                                          <p:spTgt spid="9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0" dur="30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1" dur="193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2" dur="30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3" dur="193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4" dur="30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93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0" dur="193" fill="hold"/>
                                        <p:tgtEl>
                                          <p:spTgt spid="8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1" dur="30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2" dur="193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3" dur="30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4" dur="193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5" dur="30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path" presetID="0" repeatCount="5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583 -0.01202 L 1.66667 -6 L -3.06358 -6 E">
                                      <p:cBhvr>
                                        <p:cTn id="169" dur="2000" fill="hold"/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0" nodeType="withEffect" fill="hold" presetClass="path" presetID="42" repeatCount="5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 -6 -0.05248 L 2.5 -6 -2.13873 -6">
                                      <p:cBhvr>
                                        <p:cTn id="171" dur="2000" fill="hold"/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2" nodeType="withEffect" fill="hold" presetClass="path" presetID="0" repeatCount="5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604 -0.00763 L 3.33333 -6 L 4.50867 -6 E">
                                      <p:cBhvr>
                                        <p:cTn id="173" dur="2000" fill="hold"/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оверь себ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4365720"/>
            <a:ext cx="8229600" cy="17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Лишнее: 2, 6, 8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ценки:  нет ошибок  - «5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шибка  - «4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2 ошибки  -  «3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Rectangle 3"/>
          <p:cNvSpPr/>
          <p:nvPr/>
        </p:nvSpPr>
        <p:spPr>
          <a:xfrm>
            <a:off x="3109680" y="1557360"/>
            <a:ext cx="2331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    клапан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    болт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    поршен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    свеч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.    коленчатый ва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.    гай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.    шату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.    дис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AutoShape 1"/>
          <p:cNvSpPr/>
          <p:nvPr/>
        </p:nvSpPr>
        <p:spPr>
          <a:xfrm>
            <a:off x="642960" y="1714680"/>
            <a:ext cx="800100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Работа двигателя внутреннего сгорани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3T18:43:31Z</dcterms:created>
  <dc:creator>Людмила</dc:creator>
  <dc:description/>
  <dc:language>en-US</dc:language>
  <cp:lastModifiedBy>Школа</cp:lastModifiedBy>
  <dcterms:modified xsi:type="dcterms:W3CDTF">2016-12-01T09:51:00Z</dcterms:modified>
  <cp:revision>127</cp:revision>
  <dc:subject/>
  <dc:title>Слайд 1</dc:title>
</cp:coreProperties>
</file>