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33.png" ContentType="image/png"/>
  <Override PartName="/ppt/media/image45.png" ContentType="image/png"/>
  <Override PartName="/ppt/media/image46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8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3CAD2-9F96-4A73-8DCF-BC9864CDE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F29A9-54C0-45B0-9927-538583D5E70E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3208E-2D3A-4195-B250-1931AFAD7790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86186-EBF5-4DE7-8990-4295FA62FBEA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6E379-61C2-41AA-9B71-010C4B013D6E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79836-5866-47F1-9183-B31C4CC045A8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8530B-9B95-4FCE-8E43-E21B9D20D3D2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7C5C3-3E76-4E86-9DEA-9EF97DAA3E31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4AAD-B9DF-4E48-8CC5-760CD1A8B0F8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18E57-2A65-4110-BF98-DC8E13F282B7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99F36-9D6B-48B8-932C-BF2012BF53BB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939BE-4D6C-4E37-A2CD-CC76118611FA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1E8BA-6F11-43C1-BB89-9C4EBE373BB0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5AACE-232C-40B6-BE0F-A115B2825939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224944-1825-458E-AB56-FBACA63E40C5}" type="slidenum"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41C543-429C-4DDB-B953-919BBD8B9CCF}" type="slidenum"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53642-083C-4221-A2FC-A61B7F23116E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0D67F-39F6-4E11-BB0C-B637A8D17AC7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09217-06CB-4DC3-86D5-1955EB14800D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A2895-5F65-4CCE-A956-522D397EB4CE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8EA70-17B9-43CF-A4CE-99CD93D1EA26}" type="slidenum"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9EB2-1D73-4568-B17C-18EACDC3A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7D8C-CF5C-4CB0-8D3F-74836D5F6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831B-DDB4-4A3C-9619-20D3BA0ED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1A95-684F-4019-B9D1-53657484F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8996E-C663-4991-82CC-7FBF78912E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8514-FF57-4641-ABF3-FEF7D50035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3C681-3924-4A1D-AE36-318EEC0D21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9DCCA-84BB-40AA-BD41-C9C8C52913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EB2A1-3E53-40AC-91CB-9A91E7F5FB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0174-6122-4A2B-AD6E-F65F9A5AF3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64E15-F1C2-475C-8BEC-64B676497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E62E-1083-4E9F-92AE-88A24B434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A994-EA28-4E12-85B9-D5241D038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A305-A68F-4EB5-A1BC-EA9CB4FF9D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49A3-A50A-4DE0-A6F0-DBCE3911DE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37DC-4806-4FB6-B552-B669A0E70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CCF2-1A56-4BA2-835D-943FA48D28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F00-5705-40FB-9A9D-B181108517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219-C6E1-4A18-A2A9-E506B6BD91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2A06-958F-4879-BF02-1ED16BC5E2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591-8E0D-42AC-94D4-AD5B17A594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93A-42AF-4E37-A7B3-340A116F7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051D-A9BB-4B84-8761-91ADFED278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D45-21A6-4CCC-B0DB-97A939C927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421-4872-46B3-B558-2FFD9142DA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E8F-E9DD-49EF-8F1F-86887BFF95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4CF-F8E1-49EB-BB04-4529A24E8F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F72-6676-4F05-9432-7C29B6C414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85A-8C0B-497C-99B7-100084617A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AFC-A093-4280-9632-36346F125A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E1A8F-25EC-4F27-B2B4-34BAFC5B0BF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5495A-CC84-4CE4-BD7D-820E38E94B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C57D4-3E30-4E3D-ABB5-DF8D36B67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7A63-46AB-48E3-96E3-14587D91A20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CB6CC-FBFC-4CCA-AE34-67B8CD1A4D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0EEF3-3B75-4A6A-B577-54C32B9DDC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6B260-B05A-4F8E-A7C6-8EFC2DDBDC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7E6B2-4BCF-475A-A37B-BD63E6F17B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61DC5-0787-473F-B6B3-9F9FE86421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36776-C8DD-4583-9199-72B3595C1A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93B54-79E7-4268-9754-0736C596BAF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72C60-E8AF-47A9-AE21-26C61EAFC3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87D12-90EC-40EA-8389-9B986CEDD8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47857-0380-4FBB-9699-E2FB3D313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8DDF-0EEF-48FB-93F3-3652D80D62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763EB-6EE0-4289-A583-B725A75913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1A7BE-B542-4D19-8797-0D03E63DD5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4F2E2-03CF-4630-B775-82F0F98EF5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8E8E5-9D1A-4DF6-80F4-ECF262BEFC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E8A8-923E-4ECD-A172-D3A701982EB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98E10-B5A0-49F2-9FED-F89A1B8409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5BCEA-564D-4F49-AF00-A7A79963C8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C47FA-7D4B-4920-8CD9-E9FCE04B12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0ACBD-889F-4583-9E8E-9AB9A0AA28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733C9-A7B3-4DBD-BF96-4EC405846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D2FCB-44D9-4299-93BC-A0F18B76414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44A1B-993C-42B8-81B0-BD3FC3F82D4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1A6A-9F85-4356-94D3-2D7D5F544E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D309-910E-427B-B5B7-A103039230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F4A8-E67A-42DB-AC04-00C27FD4431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6778-3BCE-4799-B05A-EB0E9EEF776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406A-8E64-4EDA-B3C8-CF249745FD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9F55-4BA1-4EEF-8509-536B50C1167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6C95-0832-44DF-BF03-01193F5B3D2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85B9-CCFB-4BCF-BAD0-217C32E83CD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AAFB-CD83-47D5-89E6-1F3EB1F55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5417-EE41-4BAE-89F4-54DAA56392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4FBE-2BF0-4801-9780-70807D9851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A77B-3480-490C-A204-605B26D3BF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DC86-9A72-4967-8E85-7F43142EBC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7EF55-9658-4290-8B70-E754FB6C64A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88A54-1FF7-484A-8563-47294903B1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C75DF7-64B6-4364-8410-EDFC02FC59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DB6BB-DA2E-4BE6-A1AB-E2F2BA22A1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252BE-B067-41BE-90B4-4B2C09D60B8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B6841-C371-4F16-8D00-6010EEC5BCE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0C6B3-7B1E-41E5-939D-1734FCA8B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340E-8C4D-4587-B397-C342B772DB8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301AC5-3B6F-43EF-BA65-E5D4F20BBD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FF4CF-1A37-4152-A4A4-D9F1E072F3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DA691-A2BA-4308-AE82-048EAD8E920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E7E15-3A43-496E-81EC-4C59E4575B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8274D-BF5C-4B85-B3A6-F2D573ACE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C18F-DD16-48E1-8137-1E5B00C03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Text Box 4"/>
          <p:cNvSpPr/>
          <p:nvPr/>
        </p:nvSpPr>
        <p:spPr>
          <a:xfrm rot="5400000">
            <a:off x="7592760" y="107460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1560" y="3720240"/>
            <a:ext cx="320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30C080D-EFFF-4ECB-B0A7-1B1AB5CF80EF}" type="slidenum"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Text Box 19"/>
          <p:cNvSpPr/>
          <p:nvPr/>
        </p:nvSpPr>
        <p:spPr>
          <a:xfrm rot="5400000">
            <a:off x="7765560" y="117432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2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800942-85FB-40E1-8AB4-959A76FF6B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Text Box 9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3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0D0F9A-1003-44A4-AB21-71FFAAB531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Text Box 19"/>
          <p:cNvSpPr/>
          <p:nvPr/>
        </p:nvSpPr>
        <p:spPr>
          <a:xfrm rot="5400000">
            <a:off x="7764480" y="1170000"/>
            <a:ext cx="2286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DF0FF0-5626-42CC-98C4-0B81DD7322A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Text Box 9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34859C-070D-4ABF-A67B-AB31A492047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Text Box 10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6588E9-E417-478A-8A29-83CF53BA606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cap="sq"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cap="sq"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Text Box 10"/>
          <p:cNvSpPr/>
          <p:nvPr/>
        </p:nvSpPr>
        <p:spPr>
          <a:xfrm rot="5400000">
            <a:off x="759024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7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951EFC-9F7F-4AA6-8E29-9165F448A9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571680" y="260280"/>
            <a:ext cx="8034120" cy="5883480"/>
          </a:xfrm>
          <a:prstGeom prst="rect">
            <a:avLst/>
          </a:prstGeom>
          <a:solidFill>
            <a:srgbClr val="ccffff">
              <a:alpha val="51000"/>
            </a:srgbClr>
          </a:solidFill>
          <a:ln cap="sq"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484200"/>
                <a:tab algn="l" pos="1398600"/>
                <a:tab algn="l" pos="2313000"/>
                <a:tab algn="l" pos="3227400"/>
                <a:tab algn="l" pos="4141800"/>
                <a:tab algn="l" pos="5056200"/>
                <a:tab algn="l" pos="5970600"/>
                <a:tab algn="l" pos="6885000"/>
                <a:tab algn="l" pos="7799400"/>
                <a:tab algn="l" pos="8713800"/>
                <a:tab algn="l" pos="9628200"/>
                <a:tab algn="l" pos="10542600"/>
                <a:tab algn="l" pos="10782360"/>
              </a:tabLst>
            </a:pPr>
            <a:r>
              <a:rPr b="1" lang="ru-RU" sz="1600" spc="-1" strike="noStrike" u="sng">
                <a:solidFill>
                  <a:srgbClr val="ff965c"/>
                </a:solidFill>
                <a:uFillTx/>
                <a:latin typeface="Century Schoolbook"/>
              </a:rPr>
              <a:t>МБОУ «РЕПЬЁВСКАЯ СОШ»</a:t>
            </a:r>
            <a:br>
              <a:rPr sz="1600"/>
            </a:br>
            <a:r>
              <a:rPr b="1" lang="ru-RU" sz="3200" spc="-1" strike="noStrike" u="sng">
                <a:solidFill>
                  <a:srgbClr val="ff965c"/>
                </a:solidFill>
                <a:uFillTx/>
                <a:latin typeface="Comic Sans MS"/>
              </a:rPr>
              <a:t>Воспитательный потенциал курса физики: новый стандарт и его реализация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 u="sng">
                <a:solidFill>
                  <a:srgbClr val="ff965c"/>
                </a:solidFill>
                <a:uFillTx/>
                <a:latin typeface="Comic Sans MS"/>
              </a:rPr>
              <a:t>            </a:t>
            </a:r>
            <a:r>
              <a:rPr b="1" lang="ru-RU" sz="1800" spc="-1" strike="noStrike" u="sng">
                <a:solidFill>
                  <a:srgbClr val="ff965c"/>
                </a:solidFill>
                <a:uFillTx/>
                <a:latin typeface="Century Schoolbook"/>
              </a:rPr>
              <a:t>ПОДГОТОВИЛА</a:t>
            </a:r>
            <a:r>
              <a:rPr b="1" lang="ru-RU" sz="1800" spc="-1" strike="noStrike" u="sng">
                <a:solidFill>
                  <a:srgbClr val="ff965c"/>
                </a:solidFill>
                <a:uFillTx/>
                <a:latin typeface="Comic Sans MS"/>
              </a:rPr>
              <a:t>: КОСЫХ Л.А.</a:t>
            </a:r>
            <a:br>
              <a:rPr sz="1800"/>
            </a:br>
            <a:r>
              <a:rPr b="1" lang="ru-RU" sz="1800" spc="-1" strike="noStrike" u="sng">
                <a:solidFill>
                  <a:srgbClr val="ff965c"/>
                </a:solidFill>
                <a:uFillTx/>
                <a:latin typeface="Comic Sans MS"/>
              </a:rPr>
              <a:t>                         </a:t>
            </a:r>
            <a:br>
              <a:rPr sz="2800"/>
            </a:br>
            <a:br>
              <a:rPr sz="2800"/>
            </a:br>
            <a:r>
              <a:rPr b="1" lang="ru-RU" sz="2000" spc="-1" strike="noStrike" u="sng">
                <a:solidFill>
                  <a:srgbClr val="ff965c"/>
                </a:solidFill>
                <a:uFillTx/>
                <a:latin typeface="Century Schoolbook"/>
              </a:rPr>
              <a:t>август</a:t>
            </a:r>
            <a:r>
              <a:rPr b="1" lang="ru-RU" sz="1400" spc="-1" strike="noStrike" u="sng">
                <a:solidFill>
                  <a:srgbClr val="ff965c"/>
                </a:solidFill>
                <a:uFillTx/>
                <a:latin typeface="Century Schoolbook"/>
              </a:rPr>
              <a:t> 2015 Г.</a:t>
            </a:r>
            <a:br>
              <a:rPr sz="2800"/>
            </a:br>
            <a:br>
              <a:rPr sz="1800"/>
            </a:b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24000" y="4365720"/>
            <a:ext cx="82296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428760" y="28584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1357200" y="2000160"/>
            <a:ext cx="171468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600720" cy="2319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" descr=""/>
          <p:cNvPicPr/>
          <p:nvPr/>
        </p:nvPicPr>
        <p:blipFill>
          <a:blip r:embed="rId3"/>
          <a:stretch/>
        </p:blipFill>
        <p:spPr>
          <a:xfrm>
            <a:off x="5076720" y="692280"/>
            <a:ext cx="3598920" cy="482436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4"/>
          <p:cNvSpPr/>
          <p:nvPr/>
        </p:nvSpPr>
        <p:spPr>
          <a:xfrm>
            <a:off x="5219640" y="64911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5003640" y="580536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вященник Дмитрий с матушкой Мариной среди прихожан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395280" y="29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ешний вид колокольни Репьевского храма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611280" y="6216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Колокола» современного храма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3348000" cy="25113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3396960" cy="4535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" descr=""/>
          <p:cNvPicPr/>
          <p:nvPr/>
        </p:nvPicPr>
        <p:blipFill>
          <a:blip r:embed="rId3"/>
          <a:stretch/>
        </p:blipFill>
        <p:spPr>
          <a:xfrm>
            <a:off x="684360" y="141300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"/>
          <p:cNvSpPr/>
          <p:nvPr/>
        </p:nvSpPr>
        <p:spPr>
          <a:xfrm>
            <a:off x="250920" y="189000"/>
            <a:ext cx="8229600" cy="1143000"/>
          </a:xfrm>
          <a:prstGeom prst="rect">
            <a:avLst/>
          </a:prstGeom>
          <a:noFill/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Внеклассное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мероприятие «Колокольный звон России»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464000" y="5373720"/>
            <a:ext cx="468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575f6d"/>
                </a:solidFill>
                <a:uFillTx/>
                <a:latin typeface="Arial"/>
              </a:rPr>
              <a:t>ВЫСТУПЛЕНИЕ ИЕРЕЯ  ДМИТРИЯ О ИСТОРИИ КОЛОКОЛОВ.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4171680" cy="3124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3"/>
          <p:cNvSpPr/>
          <p:nvPr/>
        </p:nvSpPr>
        <p:spPr>
          <a:xfrm>
            <a:off x="928800" y="4714920"/>
            <a:ext cx="7272360" cy="1143000"/>
          </a:xfrm>
          <a:prstGeom prst="rect">
            <a:avLst/>
          </a:prstGeom>
          <a:noFill/>
          <a:ln cap="sq"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 u="sng">
                <a:solidFill>
                  <a:srgbClr val="ff0066"/>
                </a:solidFill>
                <a:uFillTx/>
                <a:latin typeface="Arial"/>
              </a:rPr>
              <a:t>УЧАЩИЕСЯ ПИШУТ ОТЗЫВЫ О ПРОВЕДЕННОМ МЕРОПРИЯТИИ И РАЗМЕЩАЮТ ИХ НА МАКЕТЕ ЦЕРКВИ.</a:t>
            </a:r>
            <a:endParaRPr b="0" lang="en-US" sz="25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072040" cy="281628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2"/>
          <p:cNvSpPr/>
          <p:nvPr/>
        </p:nvSpPr>
        <p:spPr>
          <a:xfrm>
            <a:off x="468360" y="50976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800" spc="-1" strike="noStrike" u="sng">
                <a:solidFill>
                  <a:srgbClr val="fff39d"/>
                </a:solidFill>
                <a:uFillTx/>
                <a:latin typeface="Arial"/>
              </a:rPr>
              <a:t>ЛЮДСКИХ СУДЕБ ЧЁРНАЯ БОЛЬ – ЧЕРНОБЫЛЬ …</a:t>
            </a:r>
            <a:br>
              <a:rPr sz="3800"/>
            </a:br>
            <a:r>
              <a:rPr b="0" lang="ru-RU" sz="3800" spc="-1" strike="noStrike" u="sng">
                <a:solidFill>
                  <a:srgbClr val="fff39d"/>
                </a:solidFill>
                <a:uFillTx/>
                <a:latin typeface="Arial"/>
              </a:rPr>
              <a:t>28 ЛЕТ СПУСТЯ.</a:t>
            </a:r>
            <a:endParaRPr b="0" lang="en-US" sz="3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2286000" y="879480"/>
            <a:ext cx="617220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700" spc="-1" strike="noStrike" u="sng">
                <a:solidFill>
                  <a:srgbClr val="fff39d"/>
                </a:solidFill>
                <a:uFillTx/>
                <a:latin typeface="Century Schoolbook"/>
              </a:rPr>
              <a:t> </a:t>
            </a:r>
            <a:r>
              <a:rPr b="1" lang="ru-RU" sz="2700" spc="-1" strike="noStrike" u="sng">
                <a:solidFill>
                  <a:srgbClr val="fff39d"/>
                </a:solidFill>
                <a:uFillTx/>
                <a:latin typeface="Century Schoolbook"/>
              </a:rPr>
              <a:t>1) ЯДЕРНЫЙ РЕАКТОР И ЕГО ИСПОЛЬЗОВАНИЕ.</a:t>
            </a:r>
            <a:br>
              <a:rPr sz="2700"/>
            </a:br>
            <a:br>
              <a:rPr sz="2700"/>
            </a:br>
            <a:r>
              <a:rPr b="1" lang="ru-RU" sz="2700" spc="-1" strike="noStrike" u="sng">
                <a:solidFill>
                  <a:srgbClr val="fff39d"/>
                </a:solidFill>
                <a:uFillTx/>
                <a:latin typeface="Century Schoolbook"/>
              </a:rPr>
              <a:t> 2) ЧЕРНОБЫЛЬСКАЯ АВАРИЯ.</a:t>
            </a:r>
            <a:br>
              <a:rPr sz="2700"/>
            </a:br>
            <a:br>
              <a:rPr sz="2700"/>
            </a:br>
            <a:r>
              <a:rPr b="1" lang="ru-RU" sz="2700" spc="-1" strike="noStrike" u="sng">
                <a:solidFill>
                  <a:srgbClr val="fff39d"/>
                </a:solidFill>
                <a:uFillTx/>
                <a:latin typeface="Century Schoolbook"/>
              </a:rPr>
              <a:t> 3) ПОСЛЕДСТВИЯ АВАРИИ И ИХ ЛИКВИДАЦИЯ.</a:t>
            </a:r>
            <a:br>
              <a:rPr sz="2700"/>
            </a:br>
            <a:br>
              <a:rPr sz="2700"/>
            </a:br>
            <a:r>
              <a:rPr b="1" lang="ru-RU" sz="2700" spc="-1" strike="noStrike" u="sng">
                <a:solidFill>
                  <a:srgbClr val="fff39d"/>
                </a:solidFill>
                <a:uFillTx/>
                <a:latin typeface="Century Schoolbook"/>
              </a:rPr>
              <a:t>   4) ТЮЛЬГАНЦЫ - ЛИКВИДАТОРЫ АВАРИИ .</a:t>
            </a:r>
            <a:endParaRPr b="0" lang="en-US" sz="27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928880" y="428760"/>
            <a:ext cx="62434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39720"/>
                <a:tab algn="l" pos="1554120"/>
                <a:tab algn="l" pos="2468520"/>
                <a:tab algn="l" pos="3382920"/>
                <a:tab algn="l" pos="4297320"/>
                <a:tab algn="l" pos="5211720"/>
                <a:tab algn="l" pos="6126120"/>
                <a:tab algn="l" pos="7040520"/>
                <a:tab algn="l" pos="7954920"/>
                <a:tab algn="l" pos="8869320"/>
                <a:tab algn="l" pos="97837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f39d"/>
                </a:solidFill>
                <a:uFillTx/>
                <a:latin typeface="Century Schoolbook"/>
              </a:rPr>
              <a:t>ТЕМЫ ИССЛЕДОВАНИЙ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"/>
          <p:cNvGrpSpPr/>
          <p:nvPr/>
        </p:nvGrpSpPr>
        <p:grpSpPr>
          <a:xfrm>
            <a:off x="450720" y="249120"/>
            <a:ext cx="8520120" cy="1163880"/>
            <a:chOff x="450720" y="249120"/>
            <a:chExt cx="8520120" cy="1163880"/>
          </a:xfrm>
        </p:grpSpPr>
        <p:pic>
          <p:nvPicPr>
            <p:cNvPr id="467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249120"/>
              <a:ext cx="8520120" cy="11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Text Box 3"/>
            <p:cNvSpPr/>
            <p:nvPr/>
          </p:nvSpPr>
          <p:spPr>
            <a:xfrm>
              <a:off x="450720" y="249120"/>
              <a:ext cx="85201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469" name="Text Box 4"/>
          <p:cNvSpPr/>
          <p:nvPr/>
        </p:nvSpPr>
        <p:spPr>
          <a:xfrm>
            <a:off x="5391000" y="1905120"/>
            <a:ext cx="3753000" cy="32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39 ГОД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О.ГАН  И  Ф. ШТРАССМАН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1214280" y="4572000"/>
            <a:ext cx="678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РИ ДЕЛЕНИИ 1 ЯДРА ВЫДЕЛЯЕТСЯ 200 МЭВ ЭНЕРГИ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99"/>
                </a:solidFill>
                <a:uFillTx/>
                <a:latin typeface="Arial"/>
              </a:rPr>
              <a:t>ПРИ ДЕЛЕНИИ 1 Г УРАНА – СТОЛЬКО ЖЕ, СКОЛЬКО ПРИ СГОРАНИИ 2,5 Т НЕФТ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1428840" y="1643040"/>
            <a:ext cx="3649680" cy="27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1"/>
          <p:cNvGrpSpPr/>
          <p:nvPr/>
        </p:nvGrpSpPr>
        <p:grpSpPr>
          <a:xfrm>
            <a:off x="450720" y="189000"/>
            <a:ext cx="8649000" cy="1236600"/>
            <a:chOff x="450720" y="189000"/>
            <a:chExt cx="8649000" cy="1236600"/>
          </a:xfrm>
        </p:grpSpPr>
        <p:pic>
          <p:nvPicPr>
            <p:cNvPr id="473" name="Picture 2" descr=""/>
            <p:cNvPicPr/>
            <p:nvPr/>
          </p:nvPicPr>
          <p:blipFill>
            <a:blip r:embed="rId1"/>
            <a:stretch/>
          </p:blipFill>
          <p:spPr>
            <a:xfrm>
              <a:off x="450720" y="189000"/>
              <a:ext cx="86490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3"/>
            <p:cNvSpPr/>
            <p:nvPr/>
          </p:nvSpPr>
          <p:spPr>
            <a:xfrm>
              <a:off x="450720" y="189000"/>
              <a:ext cx="864900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475" name="Text Box 4"/>
          <p:cNvSpPr/>
          <p:nvPr/>
        </p:nvSpPr>
        <p:spPr>
          <a:xfrm>
            <a:off x="2643120" y="1500120"/>
            <a:ext cx="285768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1 – ТВЭЛ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2 – ЗАМЕДЛИТЕЛЬ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3 – ОТРАЖАТЕЛЬ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4 – РЕГУЛИРУЮЩИЕ СТЕРЖНИ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5 – РАДИАЦИОННАЯ ЗАЩИТА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5143680" y="585792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Схема энергоблока АЭС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с реактором типа РБМК-1000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2"/>
          <a:stretch/>
        </p:blipFill>
        <p:spPr>
          <a:xfrm>
            <a:off x="571680" y="1571760"/>
            <a:ext cx="1857240" cy="3328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4929120" y="3857760"/>
            <a:ext cx="35496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"/>
          <p:cNvSpPr/>
          <p:nvPr/>
        </p:nvSpPr>
        <p:spPr>
          <a:xfrm>
            <a:off x="0" y="-41436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 u="sng">
                <a:solidFill>
                  <a:srgbClr val="575f6d"/>
                </a:solidFill>
                <a:uFillTx/>
                <a:latin typeface="Century Schoolbook"/>
              </a:rPr>
              <a:t>26 АПРЕЛЯ 1986 ГОДА В 1 Ч. 24 МИН. ВЗРЫВ НА ЧЕРНОБЫЛЬСКОЙ АЭС</a:t>
            </a:r>
            <a:r>
              <a:rPr b="0" lang="ru-RU" sz="3800" spc="-1" strike="noStrike" u="sng">
                <a:solidFill>
                  <a:srgbClr val="575f6d"/>
                </a:solidFill>
                <a:uFillTx/>
                <a:latin typeface="Century Schoolbook"/>
              </a:rPr>
              <a:t> </a:t>
            </a:r>
            <a:endParaRPr b="0" lang="en-US" sz="3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7848720" cy="51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486400" cy="403884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2"/>
          <p:cNvSpPr/>
          <p:nvPr/>
        </p:nvSpPr>
        <p:spPr>
          <a:xfrm>
            <a:off x="395280" y="170028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Халитов И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5364000" y="17002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Карякин Ю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4" name="Line 4"/>
          <p:cNvSpPr/>
          <p:nvPr/>
        </p:nvSpPr>
        <p:spPr>
          <a:xfrm flipH="1">
            <a:off x="5074920" y="2060640"/>
            <a:ext cx="506520" cy="5763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971640" y="443700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Амплеев Г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3419640" y="5445000"/>
            <a:ext cx="14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Шонин Н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857160" y="571680"/>
            <a:ext cx="74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 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Группа Тюльганцев-ликвидаторов Чернобыльской аварии</a:t>
            </a:r>
            <a:endParaRPr b="0" lang="en-US" sz="3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1476360" y="595008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Отправленная  в Чернобыль  20.05.1986 года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4929120" y="314280"/>
            <a:ext cx="27860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«ШТАТНОЕ МЕРОПРИЯТИЕ, -ПОДУМАЛ Я , И БЫЛ ПРИЯТНО УДИВЛЁН, КОГДА УВИДЕЛ ХОРОШУЮ ПОДГОТОВКУ ПЕДАГОГОВ И УЧЕНИКОВ. ДЕТИ С ИНТЕРЕСОМ СЛУШАЛИ МОЙ РАССКАЗ И ЗАДАВАЛИ МНОГО ВОПРОСОВ.»</a:t>
            </a:r>
            <a:br>
              <a:rPr sz="1800"/>
            </a:br>
            <a:r>
              <a:rPr b="0" lang="ru-RU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ИЗ ОТЗЫВА Н.М. ШОНИНА О МЕРОПРИЯТИИ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3143160" cy="45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3924360" y="30240"/>
            <a:ext cx="491472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575f6d"/>
                </a:solidFill>
                <a:uFillTx/>
                <a:latin typeface="Century Schoolbook"/>
              </a:rPr>
              <a:t>МУНИЦИПАЛЬНОЕ БЮДЖЕТНОЕ ОБЩЕОБРАЗОВАТЕЛЬНОЕ УЧРЕЖДЕНИЕ</a:t>
            </a:r>
            <a:br>
              <a:rPr sz="1600"/>
            </a:br>
            <a:r>
              <a:rPr b="1" i="1" lang="ru-RU" sz="1600" spc="-1" strike="noStrike" u="sng">
                <a:solidFill>
                  <a:srgbClr val="575f6d"/>
                </a:solidFill>
                <a:uFillTx/>
                <a:latin typeface="Century Schoolbook"/>
              </a:rPr>
              <a:t>«РЕПЬЕВСКАЯ СРЕДНЯЯ ОБЩЕОБРАЗОВАТЕЛЬНАЯ ШКОЛА»</a:t>
            </a:r>
            <a:br>
              <a:rPr sz="1600"/>
            </a:b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Century Schoolbook"/>
              </a:rPr>
              <a:t>КОНКУРС  «ЗА НРАВСТВЕННЫЙ ПОДВИГ  УЧИТЕЛЯ»</a:t>
            </a:r>
            <a:br>
              <a:rPr sz="1600"/>
            </a:br>
            <a:r>
              <a:rPr b="1" i="1" lang="ru-RU" sz="1600" spc="-1" strike="noStrike" u="sng">
                <a:solidFill>
                  <a:srgbClr val="575f6d"/>
                </a:solidFill>
                <a:uFillTx/>
                <a:latin typeface="Century Schoolbook"/>
              </a:rPr>
              <a:t>НОМИНАЦИЯ: РАЗРАБОТКА ВНЕКЛАССНОГО МЕРОПРИЯТИЯ</a:t>
            </a:r>
            <a:br>
              <a:rPr sz="1600"/>
            </a:br>
            <a:br>
              <a:rPr sz="1600"/>
            </a:b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Century Schoolbook"/>
              </a:rPr>
              <a:t>«</a:t>
            </a:r>
            <a:r>
              <a:rPr b="1" i="1" lang="ru-RU" sz="2200" spc="-1" strike="noStrike" u="sng">
                <a:solidFill>
                  <a:srgbClr val="ff0066"/>
                </a:solidFill>
                <a:uFillTx/>
                <a:latin typeface="Century Schoolbook"/>
              </a:rPr>
              <a:t>КОЛОКОЛЬНЫЙ ЗВОН РОССИИ»</a:t>
            </a:r>
            <a:br>
              <a:rPr sz="2200"/>
            </a:br>
            <a:br>
              <a:rPr sz="1600"/>
            </a:br>
            <a:r>
              <a:rPr b="1" i="1" lang="ru-RU" sz="1600" spc="-1" strike="noStrike" u="sng">
                <a:solidFill>
                  <a:srgbClr val="575f6d"/>
                </a:solidFill>
                <a:uFillTx/>
                <a:latin typeface="Century Schoolbook"/>
              </a:rPr>
              <a:t>( РАССЧИТАНО НА ДЕТЕЙ  14-17 ЛЕТ)</a:t>
            </a:r>
            <a:br>
              <a:rPr sz="1600"/>
            </a:br>
            <a:r>
              <a:rPr b="0" lang="ru-RU" sz="1600" spc="-1" strike="noStrike" u="sng">
                <a:solidFill>
                  <a:srgbClr val="575f6d"/>
                </a:solidFill>
                <a:uFillTx/>
                <a:latin typeface="Century Schoolbook"/>
              </a:rPr>
              <a:t> </a:t>
            </a: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Century Schoolbook"/>
              </a:rPr>
              <a:t>ОВЧИННИКОВА ГАЛИНА ПАВЛОВНА</a:t>
            </a:r>
            <a:br>
              <a:rPr sz="1600"/>
            </a:br>
            <a:r>
              <a:rPr b="1" i="1" lang="ru-RU" sz="1600" spc="-1" strike="noStrike" u="sng">
                <a:solidFill>
                  <a:srgbClr val="7598d9"/>
                </a:solidFill>
                <a:uFillTx/>
                <a:latin typeface="Century Schoolbook"/>
              </a:rPr>
              <a:t> УЧИТЕЛЬ ИСТОРИИ И ОБЩЕСТВОЗНАНИЯ,                                                                  ВЫСШАЯ КВАЛИФИКАЦИОННАЯ КАТЕГОРИЯ.</a:t>
            </a:r>
            <a:br>
              <a:rPr sz="1600"/>
            </a:br>
            <a:r>
              <a:rPr b="1" i="1" lang="ru-RU" sz="1600" spc="-1" strike="noStrike" u="sng">
                <a:solidFill>
                  <a:srgbClr val="ff0066"/>
                </a:solidFill>
                <a:uFillTx/>
                <a:latin typeface="Century Schoolbook"/>
              </a:rPr>
              <a:t>КОСЫХ ЛЮДМИЛА АЛЕКСАНДРОВНА,</a:t>
            </a:r>
            <a:r>
              <a:rPr b="1" i="1" lang="ru-RU" sz="1600" spc="-1" strike="noStrike" u="sng">
                <a:solidFill>
                  <a:srgbClr val="7598d9"/>
                </a:solidFill>
                <a:uFillTx/>
                <a:latin typeface="Century Schoolbook"/>
              </a:rPr>
              <a:t> УЧИТЕЛЬ МАТЕМАТИКИ И ФИЗИКИ,    ПЕРВАЯ КВАЛИФИКАЦИОННАЯ КАТЕГОРИЯ.</a:t>
            </a:r>
            <a:br>
              <a:rPr sz="1600"/>
            </a:br>
            <a:r>
              <a:rPr b="0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 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395280" y="620640"/>
            <a:ext cx="3497400" cy="5573880"/>
            <a:chOff x="395280" y="620640"/>
            <a:chExt cx="3497400" cy="5573880"/>
          </a:xfrm>
        </p:grpSpPr>
        <p:pic>
          <p:nvPicPr>
            <p:cNvPr id="365" name="Picture 3" descr=""/>
            <p:cNvPicPr/>
            <p:nvPr/>
          </p:nvPicPr>
          <p:blipFill>
            <a:blip r:embed="rId1"/>
            <a:stretch/>
          </p:blipFill>
          <p:spPr>
            <a:xfrm>
              <a:off x="395280" y="620640"/>
              <a:ext cx="3497400" cy="55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Text Box 4"/>
            <p:cNvSpPr/>
            <p:nvPr/>
          </p:nvSpPr>
          <p:spPr>
            <a:xfrm>
              <a:off x="395280" y="620640"/>
              <a:ext cx="3497400" cy="55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"/>
          <p:cNvSpPr/>
          <p:nvPr/>
        </p:nvSpPr>
        <p:spPr>
          <a:xfrm>
            <a:off x="457200" y="338040"/>
            <a:ext cx="82281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324000" y="981000"/>
            <a:ext cx="864072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</a:rPr>
              <a:t>2012-2013 учебный год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гионального этапа Всероссийского конкурса в области педагогики, воспитания и работы с детьми «За нравственный подвиг учителя» в номинации «Лучшая инновационная разработка» (методическая разработка «Колокольный звон России»)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;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астие в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жрегиональных Богородице-Рождественских образовательных чтениях «Культурно-историческое наследие России как основа духовно-нравственного воспитания подрастающего поколения»;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24000" y="2492280"/>
            <a:ext cx="8280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</a:rPr>
              <a:t>2013-2014 учебный год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обедители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ого, участники регионального этапа Всероссийского конкурса в области педагогики, воспитания и работы с детьми «За нравственный подвиг учителя» в номинации «Лучшая инновационная разработка» (методическая разработка «Людских судеб чёрная боль – Чернобыль…»)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бедители муниципального конкурса учебно-методических разработок «Путь к духовности»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468360" y="3716280"/>
            <a:ext cx="828036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lang="ru-RU" sz="1400" spc="-1" strike="noStrike" u="sng">
                <a:solidFill>
                  <a:srgbClr val="c00000"/>
                </a:solidFill>
                <a:uFillTx/>
                <a:latin typeface="Times New Roman"/>
              </a:rPr>
              <a:t>2014-2015 учебный год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участие в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I межрегиональных Богородице-Рождественских образовательных чтениях, посвященных 1000-летию  святого равноапостольного князя Владимира «Наследие Святой Руси: цивилизационный выбор и современные образовательные тенденции»;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бедители муниципального конкурса учебно-методических разработок «Путь к духовности»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tretch/>
        </p:blipFill>
        <p:spPr>
          <a:xfrm>
            <a:off x="3492360" y="4941720"/>
            <a:ext cx="223200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575f6d"/>
                </a:solidFill>
                <a:latin typeface="Century Schoolbook"/>
              </a:rPr>
              <a:t>Внеклассное мероприятие:</a:t>
            </a:r>
            <a:endParaRPr b="0" lang="en-US" sz="4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31640" y="4114800"/>
            <a:ext cx="7126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Schoolbook"/>
              </a:rPr>
              <a:t>«Наука ковала Победу»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4753080" cy="280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700" spc="-1" strike="noStrike">
                <a:solidFill>
                  <a:srgbClr val="575f6d"/>
                </a:solidFill>
                <a:latin typeface="Baskerville Old Face"/>
              </a:rPr>
              <a:t>«В этот час решительного боя советские ученые идут со своим народом, отдавая все силы борьбе с фашистскими поджигателями войны – во имя защиты своей Родины и во имя защиты мировой науки и спасения культуры, служащей всему человечеству.»</a:t>
            </a:r>
            <a:endParaRPr b="0" lang="en-US" sz="1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8000" y="33300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entury Schoolbook"/>
              </a:rPr>
              <a:t>Обращения Академии наук СССР к ученым всех стран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0" name="Picture 4" descr="ve233"/>
          <p:cNvPicPr/>
          <p:nvPr/>
        </p:nvPicPr>
        <p:blipFill>
          <a:blip r:embed="rId1"/>
          <a:stretch/>
        </p:blipFill>
        <p:spPr>
          <a:xfrm>
            <a:off x="5364000" y="1484280"/>
            <a:ext cx="3456000" cy="302436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5"/>
          <p:cNvSpPr/>
          <p:nvPr/>
        </p:nvSpPr>
        <p:spPr>
          <a:xfrm>
            <a:off x="611280" y="479736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Участие в разгроме фашизма – самая благородная и великая задача, которая когда-либо стояла перед наукой …".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Президента Академии наук в годы войны Владимира Леонтьевича Комаров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08000" y="115920"/>
            <a:ext cx="8928000" cy="6626160"/>
          </a:xfrm>
          <a:prstGeom prst="rect">
            <a:avLst/>
          </a:prstGeom>
          <a:noFill/>
          <a:ln w="111240">
            <a:solidFill>
              <a:srgbClr val="f474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нк –Т- 34»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504" name="Group 4"/>
          <p:cNvGrpSpPr/>
          <p:nvPr/>
        </p:nvGrpSpPr>
        <p:grpSpPr>
          <a:xfrm>
            <a:off x="4334040" y="525600"/>
            <a:ext cx="4093920" cy="5830920"/>
            <a:chOff x="4334040" y="525600"/>
            <a:chExt cx="4093920" cy="5830920"/>
          </a:xfrm>
        </p:grpSpPr>
        <p:pic>
          <p:nvPicPr>
            <p:cNvPr id="505" name="Picture 5" descr=""/>
            <p:cNvPicPr/>
            <p:nvPr/>
          </p:nvPicPr>
          <p:blipFill>
            <a:blip r:embed="rId1"/>
            <a:stretch/>
          </p:blipFill>
          <p:spPr>
            <a:xfrm>
              <a:off x="4334040" y="525600"/>
              <a:ext cx="40939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"/>
            <p:cNvSpPr/>
            <p:nvPr/>
          </p:nvSpPr>
          <p:spPr>
            <a:xfrm>
              <a:off x="4334040" y="525600"/>
              <a:ext cx="40939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07" name="Text Box 7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и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елей Т-34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оров :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а Кошкина,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Морозова,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я Кучеренко, 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ов, рабочих – они стали душой танка, они отдали ему свои лучшие годы.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декабря 2001года – в день 60-летия контрнаступления советских войск в битве под Москвой, на 37-ом километре Дмитровского  шоссе был открыт музейно – мемориальный комплекс «История танка Т-34». Именно 6 декабря 1941года с рубежа, на котором расположен музейный комплекс, танки Т-34 пошли в наступление на Лобню, занятую врагом.</a:t>
            </a:r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тивоминная оборона кораблей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09" name="Picture 3" descr="C:\Documents and Settings\Павел\Рабочий стол\корабль.bm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1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86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3"/>
          <p:cNvPicPr/>
          <p:nvPr/>
        </p:nvPicPr>
        <p:blipFill>
          <a:blip r:embed="rId2"/>
          <a:stretch/>
        </p:blipFill>
        <p:spPr>
          <a:xfrm>
            <a:off x="250920" y="2205000"/>
            <a:ext cx="8548560" cy="444492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4"/>
          <p:cNvSpPr/>
          <p:nvPr/>
        </p:nvSpPr>
        <p:spPr>
          <a:xfrm>
            <a:off x="0" y="207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Ладожское озеро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Народ очень точно назвал ее Дорогой жизни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От нее зависело спасение жителей Ленинграда,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обеспечение фронта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всем необходимым.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600" spc="-1" strike="noStrike">
                <a:solidFill>
                  <a:srgbClr val="575f6d"/>
                </a:solidFill>
                <a:latin typeface="Century Schoolbook"/>
              </a:rPr>
              <a:t>С.А.Лавочкин - конструктор истребителя высокого класса Ла-5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Я не вижу моего врага — немца-конструктора, который сидит над своими чертежами ... в глубоком убежище. Но, не видя его, я воюю с ним ... Я знаю, что бы ни придумал немец, я обязан придумать лучше. Я собираю всю мою волю и фантазию, все мои знания и опыт ... чтобы в день, когда два новых самолета — наш и вражеский — столкнутся в военном небе, наш оказался победителем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539280" y="1557360"/>
            <a:ext cx="5472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 создан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еактивного оружия-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ртиллерийско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становки </a:t>
            </a:r>
            <a:r>
              <a:rPr b="0" i="1" lang="ru-RU" sz="2400" spc="-1" strike="noStrike">
                <a:solidFill>
                  <a:srgbClr val="ff0000"/>
                </a:solidFill>
                <a:latin typeface="Century Schoolbook"/>
              </a:rPr>
              <a:t>“Катюша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аствовали ученые 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нструктор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c60000"/>
                </a:solidFill>
                <a:latin typeface="Century Schoolbook"/>
              </a:rPr>
              <a:t>Н.И. Тихомиров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c60000"/>
                </a:solidFill>
                <a:latin typeface="Century Schoolbook"/>
              </a:rPr>
              <a:t>В.А. Артемьев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многие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6" name="Picture 2" descr="C:\Documents and Settings\Admin\Рабочий стол\тихомиров.bmp"/>
          <p:cNvPicPr/>
          <p:nvPr/>
        </p:nvPicPr>
        <p:blipFill>
          <a:blip r:embed="rId1"/>
          <a:stretch/>
        </p:blipFill>
        <p:spPr>
          <a:xfrm>
            <a:off x="6156360" y="260280"/>
            <a:ext cx="2500200" cy="2782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17" name="Picture 3" descr="C:\Documents and Settings\Admin\Рабочий стол\клейменов.bmp"/>
          <p:cNvPicPr/>
          <p:nvPr/>
        </p:nvPicPr>
        <p:blipFill>
          <a:blip r:embed="rId2"/>
          <a:stretch/>
        </p:blipFill>
        <p:spPr>
          <a:xfrm>
            <a:off x="6156360" y="3357720"/>
            <a:ext cx="2627280" cy="276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18" name="Rectangle 5"/>
          <p:cNvSpPr/>
          <p:nvPr/>
        </p:nvSpPr>
        <p:spPr>
          <a:xfrm>
            <a:off x="755640" y="6922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атюша”</a:t>
            </a:r>
            <a:endParaRPr b="0" lang="en-US" sz="4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С  ДНЁМ  ПОБЕДЫ 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6195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ff3300"/>
                </a:solidFill>
                <a:latin typeface="Bookman Old Style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ы не забудем всех тех, кто с оружием в руках на полях сражений и в глубоком тылу отстоял свободу и независимость нашей Родины.  Мы не забудем всех тех, кто создавал вооружение, делал открытия, выполнял исследования – это  ученые-физики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чёные- математик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нструкторы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сследователи,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нженеры, техни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21" name="Picture 4" descr="Война 1"/>
          <p:cNvPicPr/>
          <p:nvPr/>
        </p:nvPicPr>
        <p:blipFill>
          <a:blip r:embed="rId1"/>
          <a:stretch/>
        </p:blipFill>
        <p:spPr>
          <a:xfrm>
            <a:off x="5168880" y="1781280"/>
            <a:ext cx="2757600" cy="40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720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895320" y="390600"/>
            <a:ext cx="878040" cy="961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"/>
          <p:cNvPicPr/>
          <p:nvPr/>
        </p:nvPicPr>
        <p:blipFill>
          <a:blip r:embed="rId3"/>
          <a:stretch/>
        </p:blipFill>
        <p:spPr>
          <a:xfrm>
            <a:off x="822240" y="1901880"/>
            <a:ext cx="884160" cy="10364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"/>
          <p:cNvPicPr/>
          <p:nvPr/>
        </p:nvPicPr>
        <p:blipFill>
          <a:blip r:embed="rId4"/>
          <a:stretch/>
        </p:blipFill>
        <p:spPr>
          <a:xfrm>
            <a:off x="822240" y="327348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"/>
          <p:cNvPicPr/>
          <p:nvPr/>
        </p:nvPicPr>
        <p:blipFill>
          <a:blip r:embed="rId5"/>
          <a:stretch/>
        </p:blipFill>
        <p:spPr>
          <a:xfrm>
            <a:off x="895320" y="4932360"/>
            <a:ext cx="811080" cy="103032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6"/>
          <p:cNvGrpSpPr/>
          <p:nvPr/>
        </p:nvGrpSpPr>
        <p:grpSpPr>
          <a:xfrm>
            <a:off x="3816000" y="189000"/>
            <a:ext cx="5146920" cy="1077840"/>
            <a:chOff x="3816000" y="189000"/>
            <a:chExt cx="5146920" cy="1077840"/>
          </a:xfrm>
        </p:grpSpPr>
        <p:sp>
          <p:nvSpPr>
            <p:cNvPr id="373" name="Rectangle 7"/>
            <p:cNvSpPr/>
            <p:nvPr/>
          </p:nvSpPr>
          <p:spPr>
            <a:xfrm flipH="1" rot="10800000">
              <a:off x="3817800" y="200160"/>
              <a:ext cx="4562640" cy="1001520"/>
            </a:xfrm>
            <a:prstGeom prst="rect">
              <a:avLst/>
            </a:prstGeom>
            <a:gradFill rotWithShape="0">
              <a:gsLst>
                <a:gs pos="0">
                  <a:srgbClr val="e9893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Garamond"/>
                </a:rPr>
                <a:t>ТЕМЫ  ИССЛЕДОВАНИЯ</a:t>
              </a: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Garamond"/>
                </a:rPr>
                <a:t> </a:t>
              </a: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4" name="Group 8"/>
            <p:cNvGrpSpPr/>
            <p:nvPr/>
          </p:nvGrpSpPr>
          <p:grpSpPr>
            <a:xfrm>
              <a:off x="7775640" y="189000"/>
              <a:ext cx="1187280" cy="1077840"/>
              <a:chOff x="7775640" y="189000"/>
              <a:chExt cx="1187280" cy="1077840"/>
            </a:xfrm>
          </p:grpSpPr>
          <p:grpSp>
            <p:nvGrpSpPr>
              <p:cNvPr id="375" name="Group 9"/>
              <p:cNvGrpSpPr/>
              <p:nvPr/>
            </p:nvGrpSpPr>
            <p:grpSpPr>
              <a:xfrm>
                <a:off x="7775640" y="189000"/>
                <a:ext cx="1187280" cy="1077840"/>
                <a:chOff x="7775640" y="189000"/>
                <a:chExt cx="1187280" cy="1077840"/>
              </a:xfrm>
            </p:grpSpPr>
            <p:sp>
              <p:nvSpPr>
                <p:cNvPr id="376" name="Oval 10"/>
                <p:cNvSpPr/>
                <p:nvPr/>
              </p:nvSpPr>
              <p:spPr>
                <a:xfrm flipH="1" rot="10800000">
                  <a:off x="7775640" y="189000"/>
                  <a:ext cx="1187280" cy="10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3c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77" name="AutoShape 11"/>
                <p:cNvSpPr/>
                <p:nvPr/>
              </p:nvSpPr>
              <p:spPr>
                <a:xfrm flipH="1" rot="10800000">
                  <a:off x="7907760" y="844200"/>
                  <a:ext cx="915480" cy="405000"/>
                </a:xfrm>
                <a:custGeom>
                  <a:avLst/>
                  <a:gdLst>
                    <a:gd name="textAreaLeft" fmla="*/ -360 w 915480"/>
                    <a:gd name="textAreaRight" fmla="*/ 915480 w 915480"/>
                    <a:gd name="textAreaTop" fmla="*/ 0 h 405000"/>
                    <a:gd name="textAreaBottom" fmla="*/ 405360 h 4050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78" name="Text Box 12"/>
              <p:cNvSpPr/>
              <p:nvPr/>
            </p:nvSpPr>
            <p:spPr>
              <a:xfrm flipH="1" rot="10800000">
                <a:off x="8171280" y="542880"/>
                <a:ext cx="43668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79" name="Text Box 13"/>
            <p:cNvSpPr/>
            <p:nvPr/>
          </p:nvSpPr>
          <p:spPr>
            <a:xfrm flipH="1" rot="10800000">
              <a:off x="4300920" y="396360"/>
              <a:ext cx="328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80" name="Text Box 14"/>
            <p:cNvSpPr/>
            <p:nvPr/>
          </p:nvSpPr>
          <p:spPr>
            <a:xfrm rot="10800000">
              <a:off x="3816000" y="742680"/>
              <a:ext cx="4002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381" name="Group 15"/>
          <p:cNvGrpSpPr/>
          <p:nvPr/>
        </p:nvGrpSpPr>
        <p:grpSpPr>
          <a:xfrm>
            <a:off x="1979280" y="1125360"/>
            <a:ext cx="6085080" cy="1113120"/>
            <a:chOff x="1979280" y="1125360"/>
            <a:chExt cx="6085080" cy="1113120"/>
          </a:xfrm>
        </p:grpSpPr>
        <p:sp>
          <p:nvSpPr>
            <p:cNvPr id="382" name="Rectangle 16"/>
            <p:cNvSpPr/>
            <p:nvPr/>
          </p:nvSpPr>
          <p:spPr>
            <a:xfrm flipH="1">
              <a:off x="2809800" y="1273320"/>
              <a:ext cx="5254560" cy="928440"/>
            </a:xfrm>
            <a:prstGeom prst="rect">
              <a:avLst/>
            </a:prstGeom>
            <a:gradFill rotWithShape="0">
              <a:gsLst>
                <a:gs pos="0">
                  <a:srgbClr val="418ae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83" name="Group 17"/>
            <p:cNvGrpSpPr/>
            <p:nvPr/>
          </p:nvGrpSpPr>
          <p:grpSpPr>
            <a:xfrm>
              <a:off x="1979280" y="1125360"/>
              <a:ext cx="1220760" cy="1113120"/>
              <a:chOff x="1979280" y="1125360"/>
              <a:chExt cx="1220760" cy="1113120"/>
            </a:xfrm>
          </p:grpSpPr>
          <p:grpSp>
            <p:nvGrpSpPr>
              <p:cNvPr id="384" name="Group 18"/>
              <p:cNvGrpSpPr/>
              <p:nvPr/>
            </p:nvGrpSpPr>
            <p:grpSpPr>
              <a:xfrm>
                <a:off x="1979280" y="1125360"/>
                <a:ext cx="1220760" cy="1113120"/>
                <a:chOff x="1979280" y="1125360"/>
                <a:chExt cx="1220760" cy="1113120"/>
              </a:xfrm>
            </p:grpSpPr>
            <p:sp>
              <p:nvSpPr>
                <p:cNvPr id="385" name="Oval 19"/>
                <p:cNvSpPr/>
                <p:nvPr/>
              </p:nvSpPr>
              <p:spPr>
                <a:xfrm flipH="1">
                  <a:off x="1978920" y="1125360"/>
                  <a:ext cx="1220760" cy="111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d45"/>
                    </a:gs>
                    <a:gs pos="100000">
                      <a:srgbClr val="4996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386" name="AutoShape 20"/>
                <p:cNvSpPr/>
                <p:nvPr/>
              </p:nvSpPr>
              <p:spPr>
                <a:xfrm flipH="1">
                  <a:off x="2118600" y="1143000"/>
                  <a:ext cx="941400" cy="419040"/>
                </a:xfrm>
                <a:custGeom>
                  <a:avLst/>
                  <a:gdLst>
                    <a:gd name="textAreaLeft" fmla="*/ -360 w 941400"/>
                    <a:gd name="textAreaRight" fmla="*/ 941400 w 941400"/>
                    <a:gd name="textAreaTop" fmla="*/ 0 h 419040"/>
                    <a:gd name="textAreaBottom" fmla="*/ 419400 h 4190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a7e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387" name="Text Box 21"/>
              <p:cNvSpPr/>
              <p:nvPr/>
            </p:nvSpPr>
            <p:spPr>
              <a:xfrm flipH="1">
                <a:off x="2486160" y="1278000"/>
                <a:ext cx="171360" cy="45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88" name="Text Box 22"/>
            <p:cNvSpPr/>
            <p:nvPr/>
          </p:nvSpPr>
          <p:spPr>
            <a:xfrm flipH="1">
              <a:off x="3438360" y="1671480"/>
              <a:ext cx="3432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3200400" y="1498680"/>
              <a:ext cx="4357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ЧТО ТАКОЕ КОЛОКОЛ? РОДОСЛОВНАЯ КОЛОКОЛОВ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1763640" y="2349360"/>
            <a:ext cx="7126560" cy="1293840"/>
            <a:chOff x="1763640" y="2349360"/>
            <a:chExt cx="7126560" cy="1293840"/>
          </a:xfrm>
        </p:grpSpPr>
        <p:sp>
          <p:nvSpPr>
            <p:cNvPr id="391" name="Rectangle 25"/>
            <p:cNvSpPr/>
            <p:nvPr/>
          </p:nvSpPr>
          <p:spPr>
            <a:xfrm flipH="1" rot="10800000">
              <a:off x="1763640" y="2398680"/>
              <a:ext cx="6721200" cy="1162080"/>
            </a:xfrm>
            <a:prstGeom prst="rect">
              <a:avLst/>
            </a:prstGeom>
            <a:gradFill rotWithShape="0">
              <a:gsLst>
                <a:gs pos="0">
                  <a:srgbClr val="33ad8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ЗВУКИ КОЛОКОЛА . ИЗ ЧЕГО ЛЬЮТ КОЛОКОЛА 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"ДОМА", ГДЕ ЖИВУТ КОЛОКОЛА И РОЖДАЮТСЯ ЗВУКИ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7731360" y="2349360"/>
              <a:ext cx="1158840" cy="1293840"/>
              <a:chOff x="7731360" y="2349360"/>
              <a:chExt cx="1158840" cy="1293840"/>
            </a:xfrm>
          </p:grpSpPr>
          <p:sp>
            <p:nvSpPr>
              <p:cNvPr id="393" name="Oval 27"/>
              <p:cNvSpPr/>
              <p:nvPr/>
            </p:nvSpPr>
            <p:spPr>
              <a:xfrm flipH="1" rot="10800000">
                <a:off x="7731000" y="2349360"/>
                <a:ext cx="1158840" cy="1293840"/>
              </a:xfrm>
              <a:prstGeom prst="ellipse">
                <a:avLst/>
              </a:prstGeom>
              <a:gradFill rotWithShape="0">
                <a:gsLst>
                  <a:gs pos="0">
                    <a:srgbClr val="0c3232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 flipH="1" rot="10800000">
                <a:off x="7862400" y="3133440"/>
                <a:ext cx="893520" cy="487440"/>
              </a:xfrm>
              <a:custGeom>
                <a:avLst/>
                <a:gdLst>
                  <a:gd name="textAreaLeft" fmla="*/ 360 w 893520"/>
                  <a:gd name="textAreaRight" fmla="*/ 894240 w 89352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395" name="Text Box 29"/>
            <p:cNvSpPr/>
            <p:nvPr/>
          </p:nvSpPr>
          <p:spPr>
            <a:xfrm flipH="1" rot="10800000">
              <a:off x="8308440" y="2890800"/>
              <a:ext cx="2160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96" name="Text Box 30"/>
            <p:cNvSpPr/>
            <p:nvPr/>
          </p:nvSpPr>
          <p:spPr>
            <a:xfrm flipH="1" rot="10800000">
              <a:off x="4313160" y="2565360"/>
              <a:ext cx="3205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97" name="Text Box 31"/>
            <p:cNvSpPr/>
            <p:nvPr/>
          </p:nvSpPr>
          <p:spPr>
            <a:xfrm rot="10800000">
              <a:off x="2211120" y="2702880"/>
              <a:ext cx="5461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398" name="Group 32"/>
          <p:cNvGrpSpPr/>
          <p:nvPr/>
        </p:nvGrpSpPr>
        <p:grpSpPr>
          <a:xfrm>
            <a:off x="1835280" y="5229360"/>
            <a:ext cx="7158960" cy="1149120"/>
            <a:chOff x="1835280" y="5229360"/>
            <a:chExt cx="7158960" cy="1149120"/>
          </a:xfrm>
        </p:grpSpPr>
        <p:sp>
          <p:nvSpPr>
            <p:cNvPr id="399" name="Rectangle 33"/>
            <p:cNvSpPr/>
            <p:nvPr/>
          </p:nvSpPr>
          <p:spPr>
            <a:xfrm flipH="1">
              <a:off x="2653920" y="5300640"/>
              <a:ext cx="6340320" cy="1069920"/>
            </a:xfrm>
            <a:prstGeom prst="rect">
              <a:avLst/>
            </a:prstGeom>
            <a:gradFill rotWithShape="0">
              <a:gsLst>
                <a:gs pos="0">
                  <a:srgbClr val="e9893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 u="sng">
                  <a:solidFill>
                    <a:srgbClr val="000000"/>
                  </a:solidFill>
                  <a:uFillTx/>
                  <a:latin typeface="Garamond"/>
                </a:rPr>
                <a:t>        </a:t>
              </a: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СУДЬБА ЦЕРКВИ И КОЛОКОЛОВ  РЕПЬЁВСКОГО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 </a:t>
              </a: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ХРАМА  АЛЕКСЕЯ  БОЖЬЕГО ЧЕЛОВЕКА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400" name="Group 34"/>
            <p:cNvGrpSpPr/>
            <p:nvPr/>
          </p:nvGrpSpPr>
          <p:grpSpPr>
            <a:xfrm>
              <a:off x="1835280" y="5229360"/>
              <a:ext cx="1650240" cy="1149120"/>
              <a:chOff x="1835280" y="5229360"/>
              <a:chExt cx="1650240" cy="1149120"/>
            </a:xfrm>
          </p:grpSpPr>
          <p:grpSp>
            <p:nvGrpSpPr>
              <p:cNvPr id="401" name="Group 35"/>
              <p:cNvGrpSpPr/>
              <p:nvPr/>
            </p:nvGrpSpPr>
            <p:grpSpPr>
              <a:xfrm>
                <a:off x="1835280" y="5229360"/>
                <a:ext cx="1650240" cy="1149120"/>
                <a:chOff x="1835280" y="5229360"/>
                <a:chExt cx="1650240" cy="1149120"/>
              </a:xfrm>
            </p:grpSpPr>
            <p:sp>
              <p:nvSpPr>
                <p:cNvPr id="402" name="Oval 36"/>
                <p:cNvSpPr/>
                <p:nvPr/>
              </p:nvSpPr>
              <p:spPr>
                <a:xfrm flipH="1">
                  <a:off x="1835280" y="5229360"/>
                  <a:ext cx="1650240" cy="114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3c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03" name="AutoShape 37"/>
                <p:cNvSpPr/>
                <p:nvPr/>
              </p:nvSpPr>
              <p:spPr>
                <a:xfrm flipH="1">
                  <a:off x="2022840" y="5248440"/>
                  <a:ext cx="1272600" cy="433080"/>
                </a:xfrm>
                <a:custGeom>
                  <a:avLst/>
                  <a:gdLst>
                    <a:gd name="textAreaLeft" fmla="*/ -360 w 1272600"/>
                    <a:gd name="textAreaRight" fmla="*/ 1272600 w 1272600"/>
                    <a:gd name="textAreaTop" fmla="*/ 0 h 433080"/>
                    <a:gd name="textAreaBottom" fmla="*/ 433440 h 4330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404" name="Text Box 38"/>
              <p:cNvSpPr/>
              <p:nvPr/>
            </p:nvSpPr>
            <p:spPr>
              <a:xfrm flipH="1">
                <a:off x="2392920" y="5357880"/>
                <a:ext cx="60588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05" name="Text Box 39"/>
            <p:cNvSpPr/>
            <p:nvPr/>
          </p:nvSpPr>
          <p:spPr>
            <a:xfrm flipH="1">
              <a:off x="3641760" y="5786280"/>
              <a:ext cx="45738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06" name="Text Box 40"/>
            <p:cNvSpPr/>
            <p:nvPr/>
          </p:nvSpPr>
          <p:spPr>
            <a:xfrm>
              <a:off x="3434760" y="5303880"/>
              <a:ext cx="5559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407" name="Group 41"/>
          <p:cNvGrpSpPr/>
          <p:nvPr/>
        </p:nvGrpSpPr>
        <p:grpSpPr>
          <a:xfrm>
            <a:off x="2123280" y="3716280"/>
            <a:ext cx="6597000" cy="1366560"/>
            <a:chOff x="2123280" y="3716280"/>
            <a:chExt cx="6597000" cy="1366560"/>
          </a:xfrm>
        </p:grpSpPr>
        <p:sp>
          <p:nvSpPr>
            <p:cNvPr id="408" name="Rectangle 42"/>
            <p:cNvSpPr/>
            <p:nvPr/>
          </p:nvSpPr>
          <p:spPr>
            <a:xfrm flipH="1" rot="10800000">
              <a:off x="2122920" y="3762000"/>
              <a:ext cx="5697720" cy="1141560"/>
            </a:xfrm>
            <a:prstGeom prst="rect">
              <a:avLst/>
            </a:prstGeom>
            <a:gradFill rotWithShape="0">
              <a:gsLst>
                <a:gs pos="0">
                  <a:srgbClr val="418ae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ЦЕЛИТЕЛЬНЫЕ СВОЙСТВА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 </a:t>
              </a: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КОЛОКОЛЬНОГО ЗВОНА. 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ЛЕГЕНДЫ, ПРЕДАНИЯ, СКАЗЫ О 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Garamond"/>
                </a:rPr>
                <a:t>КОЛОКОЛАХ</a:t>
              </a: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409" name="Group 43"/>
            <p:cNvGrpSpPr/>
            <p:nvPr/>
          </p:nvGrpSpPr>
          <p:grpSpPr>
            <a:xfrm>
              <a:off x="7396200" y="3716280"/>
              <a:ext cx="1324080" cy="1366560"/>
              <a:chOff x="7396200" y="3716280"/>
              <a:chExt cx="1324080" cy="1366560"/>
            </a:xfrm>
          </p:grpSpPr>
          <p:grpSp>
            <p:nvGrpSpPr>
              <p:cNvPr id="410" name="Group 44"/>
              <p:cNvGrpSpPr/>
              <p:nvPr/>
            </p:nvGrpSpPr>
            <p:grpSpPr>
              <a:xfrm>
                <a:off x="7396200" y="3716280"/>
                <a:ext cx="1324080" cy="1366560"/>
                <a:chOff x="7396200" y="3716280"/>
                <a:chExt cx="1324080" cy="1366560"/>
              </a:xfrm>
            </p:grpSpPr>
            <p:sp>
              <p:nvSpPr>
                <p:cNvPr id="411" name="Oval 45"/>
                <p:cNvSpPr/>
                <p:nvPr/>
              </p:nvSpPr>
              <p:spPr>
                <a:xfrm flipH="1" rot="10800000">
                  <a:off x="7396200" y="3716280"/>
                  <a:ext cx="1324080" cy="1366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62d45"/>
                    </a:gs>
                    <a:gs pos="100000">
                      <a:srgbClr val="4996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412" name="AutoShape 46"/>
                <p:cNvSpPr/>
                <p:nvPr/>
              </p:nvSpPr>
              <p:spPr>
                <a:xfrm flipH="1" rot="10800000">
                  <a:off x="7547040" y="4546080"/>
                  <a:ext cx="1020960" cy="514440"/>
                </a:xfrm>
                <a:custGeom>
                  <a:avLst/>
                  <a:gdLst>
                    <a:gd name="textAreaLeft" fmla="*/ 360 w 1020960"/>
                    <a:gd name="textAreaRight" fmla="*/ 1021680 w 1020960"/>
                    <a:gd name="textAreaTop" fmla="*/ 0 h 514440"/>
                    <a:gd name="textAreaBottom" fmla="*/ 514800 h 51444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a7e8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endParaRPr b="0" lang="en-US" sz="2000" spc="-1" strike="noStrike" u="sng">
                    <a:solidFill>
                      <a:srgbClr val="ffffff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413" name="Text Box 47"/>
              <p:cNvSpPr/>
              <p:nvPr/>
            </p:nvSpPr>
            <p:spPr>
              <a:xfrm flipH="1" rot="10800000">
                <a:off x="7980480" y="4233600"/>
                <a:ext cx="17928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0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414" name="Text Box 48"/>
            <p:cNvSpPr/>
            <p:nvPr/>
          </p:nvSpPr>
          <p:spPr>
            <a:xfrm flipH="1" rot="10800000">
              <a:off x="3427560" y="3860280"/>
              <a:ext cx="3722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15" name="Text Box 49"/>
            <p:cNvSpPr/>
            <p:nvPr/>
          </p:nvSpPr>
          <p:spPr>
            <a:xfrm rot="10800000">
              <a:off x="2660400" y="4060800"/>
              <a:ext cx="47336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0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787640" y="1052640"/>
            <a:ext cx="3663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кол, как и многие инструменты, — антропоморфен. Его части соответствуют человеческим органам. Верхняя часть его называется голова или корона, отверстия в ней — уши, далее шейка, плечи, матица, пояс, юбка или рубаха (тело). Каждый колокол имел свой голос, принимал освящение подобно крещению и имел свою судьбу, нередко трагическую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и колокола подвешивался язык — металлический стержень с утолщением в конце (яблоком), которым били по краю колокола, он назывался губой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Рисунок 42" descr="Схема церковного колокола"/>
          <p:cNvPicPr/>
          <p:nvPr/>
        </p:nvPicPr>
        <p:blipFill>
          <a:blip r:embed="rId1"/>
          <a:stretch/>
        </p:blipFill>
        <p:spPr>
          <a:xfrm>
            <a:off x="179280" y="1628640"/>
            <a:ext cx="4753080" cy="4680000"/>
          </a:xfrm>
          <a:prstGeom prst="rect">
            <a:avLst/>
          </a:prstGeom>
          <a:ln w="0">
            <a:noFill/>
          </a:ln>
        </p:spPr>
      </p:pic>
      <p:pic>
        <p:nvPicPr>
          <p:cNvPr id="418" name="WordArt 4" descr=""/>
          <p:cNvPicPr/>
          <p:nvPr/>
        </p:nvPicPr>
        <p:blipFill>
          <a:blip r:embed="rId2"/>
          <a:stretch/>
        </p:blipFill>
        <p:spPr>
          <a:xfrm>
            <a:off x="749160" y="249120"/>
            <a:ext cx="70837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WordArt 2"/>
          <p:cNvSpPr txBox="1"/>
          <p:nvPr/>
        </p:nvSpPr>
        <p:spPr>
          <a:xfrm>
            <a:off x="457200" y="274680"/>
            <a:ext cx="7466040" cy="1141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 u="sng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50000">
                      <a:srgbClr val="ffcc00"/>
                    </a:gs>
                    <a:gs pos="100000">
                      <a:srgbClr val="52040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Arial"/>
              </a:rPr>
              <a:t>"ЯЗЫК"         КОЛОКОЛА</a:t>
            </a:r>
            <a:endParaRPr b="0" lang="en-US" sz="2000" spc="1" strike="noStrike" u="sng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50000">
                    <a:srgbClr val="ffcc00"/>
                  </a:gs>
                  <a:gs pos="100000">
                    <a:srgbClr val="520402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pic>
        <p:nvPicPr>
          <p:cNvPr id="420" name="Picture 3" descr="NAQE6CA18WNNDCAG87EF1CA4FUJWXCAMDLES8CAYE27E8CAFG347WCAH0I9IACATDPZIPCALWH2UCCAVUPHTICA2EPL7RCAIJBE77CAGVBV3DCA5UXY0VCAD23F12CAKCYBDOCA1Z9USICAZOSWY2"/>
          <p:cNvPicPr/>
          <p:nvPr/>
        </p:nvPicPr>
        <p:blipFill>
          <a:blip r:embed="rId1"/>
          <a:stretch/>
        </p:blipFill>
        <p:spPr>
          <a:xfrm>
            <a:off x="3780000" y="297000"/>
            <a:ext cx="780840" cy="11998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4"/>
          <p:cNvSpPr/>
          <p:nvPr/>
        </p:nvSpPr>
        <p:spPr>
          <a:xfrm>
            <a:off x="550800" y="5110200"/>
            <a:ext cx="283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22" name="Picture 5" descr="язык 2"/>
          <p:cNvPicPr/>
          <p:nvPr/>
        </p:nvPicPr>
        <p:blipFill>
          <a:blip r:embed="rId2"/>
          <a:stretch/>
        </p:blipFill>
        <p:spPr>
          <a:xfrm>
            <a:off x="1009800" y="2224080"/>
            <a:ext cx="2373120" cy="42260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962160" y="1916280"/>
            <a:ext cx="46479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Язык» изготавливают из железа. Масса его обычно составляет 1/25 от массы колокол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 может быть различной: она зависит от способа возбуждения звука – раскачивают ли «язык» или раскачивают колоко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457200" y="274680"/>
            <a:ext cx="7466040" cy="114120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 u="sng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uFillTx/>
                <a:latin typeface="Arial"/>
              </a:rPr>
              <a:t>Из чего льют колокола</a:t>
            </a:r>
            <a:endParaRPr b="0" lang="en-US" sz="2000" spc="1" strike="noStrike" u="sng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uFillTx/>
              <a:latin typeface="Arial"/>
              <a:ea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2852280"/>
            <a:ext cx="4897440" cy="35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ивки колоколов применяется сплав из меди и олова, который называют “колокольная бронза”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окольная бронза содержит около 20% олова и 80% мед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характеристики бронз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тность 8800 кг/м3;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тура плавления 880 оС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1"/>
          <a:stretch/>
        </p:blipFill>
        <p:spPr>
          <a:xfrm>
            <a:off x="5543640" y="2241720"/>
            <a:ext cx="2724120" cy="411480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28" name="Picture 6" descr="NAQE6CA18WNNDCAG87EF1CA4FUJWXCAMDLES8CAYE27E8CAFG347WCAH0I9IACATDPZIPCALWH2UCCAVUPHTICA2EPL7RCAIJBE77CAGVBV3DCA5UXY0VCAD23F12CAKCYBDOCA1Z9USICAZOSWY2"/>
          <p:cNvPicPr/>
          <p:nvPr/>
        </p:nvPicPr>
        <p:blipFill>
          <a:blip r:embed="rId2"/>
          <a:stretch/>
        </p:blipFill>
        <p:spPr>
          <a:xfrm>
            <a:off x="324000" y="1773360"/>
            <a:ext cx="780840" cy="1128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30" name="WordArt 3" descr=""/>
          <p:cNvPicPr/>
          <p:nvPr/>
        </p:nvPicPr>
        <p:blipFill>
          <a:blip r:embed="rId2"/>
          <a:stretch/>
        </p:blipFill>
        <p:spPr>
          <a:xfrm>
            <a:off x="201600" y="176040"/>
            <a:ext cx="8813880" cy="145764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4"/>
          <p:cNvSpPr/>
          <p:nvPr/>
        </p:nvSpPr>
        <p:spPr>
          <a:xfrm>
            <a:off x="647640" y="490536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кола размещают на колокольнях – специальных башнях с открытым верхним ярусом или на звонницах – особых надстройках с проемами на самом храме. Подвешивают их высоко над землёй, чтобы звук распространялся на большие расстояния, чтобы слышимость звона была дальше. Колокольни играют роль резонатора, усиливают звуки колоколов.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32" name="Picture 5" descr="Колокольня"/>
          <p:cNvPicPr/>
          <p:nvPr/>
        </p:nvPicPr>
        <p:blipFill>
          <a:blip r:embed="rId3"/>
          <a:stretch/>
        </p:blipFill>
        <p:spPr>
          <a:xfrm>
            <a:off x="684360" y="1665360"/>
            <a:ext cx="3132000" cy="324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3" name="Picture 6" descr="Колокольня 3"/>
          <p:cNvPicPr/>
          <p:nvPr/>
        </p:nvPicPr>
        <p:blipFill>
          <a:blip r:embed="rId4"/>
          <a:stretch/>
        </p:blipFill>
        <p:spPr>
          <a:xfrm>
            <a:off x="5148360" y="1592280"/>
            <a:ext cx="3178080" cy="3349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3743280" cy="31687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"/>
          <p:cNvSpPr/>
          <p:nvPr/>
        </p:nvSpPr>
        <p:spPr>
          <a:xfrm>
            <a:off x="900000" y="5084640"/>
            <a:ext cx="25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ам Алексея Божьего Человека в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. Репьёвка 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450720" y="176040"/>
            <a:ext cx="8328240" cy="11163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"/>
          <p:cNvSpPr/>
          <p:nvPr/>
        </p:nvSpPr>
        <p:spPr>
          <a:xfrm>
            <a:off x="4714920" y="1785960"/>
            <a:ext cx="40323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С1835 ПО 1839 Г. - СТРОИТЕЛЬСТВО ХРАМА. 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30 МАРТА 1840 Г. - ОСВЕЩЕНИЕ ХРАМА.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В ХРАМЕ БЫЛО 7 КОЛОКОЛОВ: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5 БОЛЬШИХ И 2 МАЛЕНЬКИХ (БОЛЬШОЙ КОЛОКОЛ ВЕСИЛ 75 ПУДОВ).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В 1840 Г. СВЯЩЕННИКОМ ПРИ ХРАМЕ ЧИСЛИЛСЯ ИОАНН КОЛОКОЛЬЦЕВ, А ДИАКОНОМ ИОАНН КАРФАГЕНСКИЙ. 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В ПРИХОД ВХОДИЛИ: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С. РЕПЬЁВКА (41 ДВОР),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Д. КОЗЛОВКА (16 ДВОРОВ),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С.ТРОИЦКОЕ (85 ДВОРОВ).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ВСЕГО ПРИХОЖАН 1468 ЧЕЛОВЕК. 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В 1905 Г. – 1550 ЧЕЛОВЕК. 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575f6d"/>
                </a:solidFill>
                <a:uFillTx/>
                <a:latin typeface="Arial"/>
              </a:rPr>
              <a:t>ЗВОН КОЛОКОЛОВ РАЗДАВАЛСЯ ПО ВСЕЙ ОКРУГЕ ДО 1927 ГОДА.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2543040" cy="38163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487440" y="324000"/>
            <a:ext cx="8180280" cy="11142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324000" y="5445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катериновская церковь в               с. Тугустемир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5796000" y="5661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рковь Алексея человека Божия в с. Репьёвка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084720" y="1628640"/>
            <a:ext cx="2795760" cy="388800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2714760" y="1643040"/>
            <a:ext cx="33843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 u="sng">
                <a:solidFill>
                  <a:srgbClr val="575f6d"/>
                </a:solidFill>
                <a:uFillTx/>
                <a:latin typeface="Arial"/>
              </a:rPr>
              <a:t>      </a:t>
            </a:r>
            <a:r>
              <a:rPr b="0" lang="ru-RU" sz="2000" spc="-1" strike="noStrike" u="sng">
                <a:solidFill>
                  <a:srgbClr val="575f6d"/>
                </a:solidFill>
                <a:uFillTx/>
                <a:latin typeface="Arial"/>
              </a:rPr>
              <a:t>С 1927 ГОДА НАЧИНАЕТСЯ КОМПАНИЯ ПО ЗАКРЫТИЮ ХРАМОВ. ТОЛЬКО В НАШЕМ ТЮЛЬГАНСКОМ РАЙОНЕ ИЗ 20 ХРАМОВ  18 ПОЛНОСТЬЮ   БЫЛИ СТЁРТЫ  С ЛИЦА ЗЕМЛИ. СОХРАНИЛИСЬ ЗДАНИЯ ЦЕРКВЕЙ В С.ТУГУСТЕМИРЕ И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000" spc="-1" strike="noStrike" u="sng">
                <a:solidFill>
                  <a:srgbClr val="575f6d"/>
                </a:solidFill>
                <a:uFillTx/>
                <a:latin typeface="Arial"/>
              </a:rPr>
              <a:t>          </a:t>
            </a:r>
            <a:r>
              <a:rPr b="0" lang="ru-RU" sz="2000" spc="-1" strike="noStrike" u="sng">
                <a:solidFill>
                  <a:srgbClr val="575f6d"/>
                </a:solidFill>
                <a:uFillTx/>
                <a:latin typeface="Arial"/>
              </a:rPr>
              <a:t>С. РЕПЬЕВКА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2:28:53Z</dcterms:created>
  <dc:creator>Александрова Наталья Васильевна</dc:creator>
  <dc:description/>
  <dc:language>en-US</dc:language>
  <cp:lastModifiedBy>Ильдар</cp:lastModifiedBy>
  <dcterms:modified xsi:type="dcterms:W3CDTF">2017-10-11T16:21:39Z</dcterms:modified>
  <cp:revision>137</cp:revision>
  <dc:subject/>
  <dc:title>Использование ИКТ в образовательном процессе</dc:title>
</cp:coreProperties>
</file>