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FD7-9C68-4DCF-9340-417D946C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565-F7B4-4F5C-A664-DC250AD0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794-4C41-4FED-B503-92915931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A78-56E6-41A4-8D2B-E930EA34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FF57-48B2-4794-939D-6C5BEE49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1583-EBD7-4314-A4D6-41458CB4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F628-05F9-4BAA-A1A9-BA48C9DD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288F-9ABF-42E3-A503-2BC53444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5B95-EE0F-4F9C-8D7B-C12F19E7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21F9-A85F-4C7F-99DC-027913E0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B269-7793-41FF-AB51-3BB96AE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71A-82AC-424B-898E-51F2804F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01BC-3C54-42A5-A3AA-7AF1C39E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CF8B-077D-4FB2-9EFE-E78D1E68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5E8D-5C0A-4A18-9E45-1E61C875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ED82-9401-4E7D-9AE4-79A99576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2FDB-4C27-4E2D-80C9-7841746F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302-DFE1-48CA-99E4-04E0C0FC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BA2-ADDA-4E26-8C47-E9F4E80E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23C-E77B-4065-8692-089D94E2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B2E-06FE-40CD-9619-0ED732B2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0D6-578E-4F33-BF0C-4DDADB09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E2D-1813-4298-90FC-E15B3E5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9DF-2ECC-415F-BE2B-E81E1690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BB08-F790-4E90-9369-6B08C8661E0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547B-A541-424A-A256-D0A845A4ACE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1066680"/>
            <a:ext cx="6400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Times New Roman"/>
              </a:rPr>
              <a:t>Здоровый образ жизни и профилактика утомления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60280"/>
            <a:ext cx="4176720" cy="23767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из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кружающая сре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лнечная активнос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лектромагнитные пол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тмосферные явления, почв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лимат, вода, эколо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4437000"/>
            <a:ext cx="4032360" cy="2016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Биолог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кружающая сре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ивотный и растите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2349360"/>
            <a:ext cx="3241440" cy="2016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оциальная сре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еловеческое общ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2349360"/>
            <a:ext cx="3384360" cy="208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оизводств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реда (школа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словия труд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кологи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068640"/>
            <a:ext cx="1584360" cy="72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3429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363640" y="34290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2637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72000" y="3789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012000" y="414936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300360" y="4365720"/>
            <a:ext cx="3589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79640" y="1844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410920" y="2060640"/>
            <a:ext cx="289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372000" y="1915920"/>
            <a:ext cx="43164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1557360"/>
            <a:ext cx="719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627280" y="4292280"/>
            <a:ext cx="2872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4221000"/>
            <a:ext cx="289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Адаптация – процесс приспособления строения и функций организма к условиям существования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74680"/>
            <a:ext cx="83628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Утомление – это функциональное состояние организма, вызванное умственной или физической работой, при котором могут наблюдаться временное снижение работоспособности, изменение функций организма и появление ощущения усталос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Внешние признаки утомления при умственном труде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685800"/>
          <a:ext cx="8229600" cy="5751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905120"/>
                <a:gridCol w="22096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кты наблю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том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значитель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итель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к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ним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дк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л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сеянное, частые отвл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лабленное, реакция на новые раздражители отсутствую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остоянная, потягивание ног и выпрямление туловищ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ая смена поз, повороты головы в стороны, облокачивание, поддержание головы рук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емление положить голову на стол, вытянуться, откинувшись на спин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ви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ч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уверенные, замедле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етливые движения рук и пальцев (ухудшение почер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терес к новому материал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ивой интерес, задают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абый интерес, отсутствие вопро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отсутствие интереса, апа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 Никифорович</cp:lastModifiedBy>
  <dcterms:modified xsi:type="dcterms:W3CDTF">2009-01-15T06:19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