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8.jpeg" ContentType="image/jpeg"/>
  <Override PartName="/ppt/media/image18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1EC-7991-4119-B7F0-26789FC7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2000" y="529704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69F-890A-4612-8470-5FDC7646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38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E46-E1B7-4410-98D3-69216AF9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668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200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668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BA4-B991-4F73-8998-1A800487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4466-5D16-4592-8080-A21503F5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2000" y="1979280"/>
            <a:ext cx="825840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B097-DA64-4565-B453-60536532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5840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AF40-DA4F-4527-A244-BF94435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4397-C2A8-4DEF-B9C0-A8C1EBC0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D5D7-6FF4-4B19-94B1-8ED9AD7D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549000"/>
            <a:ext cx="88344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6562-7571-432E-A3B1-54609B02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4F5B-DE01-45A7-ACDE-3448AB5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2000" y="1979280"/>
            <a:ext cx="825840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DF4-9103-405D-A7F1-BEEF664D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38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3781-9360-42FC-B6E3-A9836E1D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7CF0-62C5-419F-B67B-B33A9C3A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2000" y="529704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E09E-1035-412D-BECF-60F95BB0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38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7579-B761-4E8C-92CB-EF25F2BD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668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200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668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17D7-8A22-418A-BC94-8836DED3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BE323-1D1C-4FCB-AE41-E21CD8626D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2000" y="1979280"/>
            <a:ext cx="825840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AB44E3-C15A-4827-A349-D22DEA5CA3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5840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9A54E-C2AE-49DB-B519-71BDDE3504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994F5-0386-46BE-9B3B-96FFEBA673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81125-4332-49E4-BC86-90EAF67EE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5840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ED4-13EC-4F83-8DCA-43C4194E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549000"/>
            <a:ext cx="88344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F6415-11B8-4629-B8C4-9866718B64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D9BC01-82CD-40C9-8347-1E47475828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238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42D322-05B3-4754-B70A-2EDFC997B6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A07A0A-5035-4B69-BCC7-8CD20538E9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2000" y="529704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8339A-0451-4E60-BDD1-F4CE04DC42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238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D1660-7EA2-4532-9754-2507F68371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7668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200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7668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E7904-E20C-4D98-9977-2CDB087924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68A6A-E8EF-4336-A4B8-A2473AC4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2000" y="1979280"/>
            <a:ext cx="825840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487DD-1E41-419C-8553-F2E578FA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5840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FBA54-0B70-48D6-9430-1F2CA92D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361-ABED-4AF5-99F3-529C4831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32357-9122-4BEF-9681-6735DF03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9DC6F-51A2-42F7-A163-9FE5F81C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549000"/>
            <a:ext cx="88344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54C1A6-20A0-4A6E-9997-6124626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85AD6-0919-41D0-B2D4-42EA1B7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238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CFEFA-708D-4D9C-9682-B6230D6E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20DD2-F7AB-460B-B94D-AFEDFFD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92000" y="529704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BB7C7-ECBE-44EA-BA4A-E7A23BA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238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D6389-EF67-441F-AC87-802AD3F8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76680" y="197928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9200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76680" y="5297040"/>
            <a:ext cx="265896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663D6-DDD0-4E22-8D4C-85E38692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9C9-7F66-446E-A2D7-9FA3BFDA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49000"/>
            <a:ext cx="88344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9AA-C563-4F43-9A5C-973D4626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857-3986-456E-BCC5-CC8A6B8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3800" y="529704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B8E-CC1C-4B29-9FD6-049E15E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3800" y="1979280"/>
            <a:ext cx="402984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2000" y="5297040"/>
            <a:ext cx="8258400" cy="302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16E-BF9A-464F-9911-B6E07F2C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33280"/>
            <a:ext cx="90392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3924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1624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6368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1624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F896F-6F76-4F18-8748-427D7B5E3F0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542520"/>
            <a:ext cx="8827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2000" y="1979640"/>
            <a:ext cx="8251920" cy="634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419520"/>
            <a:ext cx="23194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419520"/>
            <a:ext cx="31669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000" y="6419520"/>
            <a:ext cx="23194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E607D-BBB4-486B-AE58-53753DACBA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-271440"/>
            <a:ext cx="90360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2184480"/>
            <a:ext cx="9036000" cy="83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Aft>
                <a:spcPts val="17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7000"/>
              </a:lnSpc>
              <a:spcAft>
                <a:spcPts val="17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lnSpc>
                <a:spcPct val="97000"/>
              </a:lnSpc>
              <a:spcAft>
                <a:spcPts val="17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lnSpc>
                <a:spcPct val="97000"/>
              </a:lnSpc>
              <a:spcAft>
                <a:spcPts val="17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lnSpc>
                <a:spcPct val="97000"/>
              </a:lnSpc>
              <a:spcAft>
                <a:spcPts val="17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lnSpc>
                <a:spcPct val="97000"/>
              </a:lnSpc>
              <a:spcAft>
                <a:spcPts val="17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lnSpc>
                <a:spcPct val="97000"/>
              </a:lnSpc>
              <a:spcAft>
                <a:spcPts val="17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-11798280" y="-11798280"/>
            <a:ext cx="11764800" cy="117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6BC92A5E-D90B-4EBA-98AE-07F439BB1A39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834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92000" y="1979280"/>
            <a:ext cx="825840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539280" y="6419520"/>
            <a:ext cx="23259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447720" y="6419520"/>
            <a:ext cx="31734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7083360" y="6419520"/>
            <a:ext cx="23256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C41EA-CDEF-49A1-9C05-C141E9217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31640" y="1368360"/>
            <a:ext cx="9072720" cy="388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31565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31565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нятие  кружк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31565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31565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Лоскутная мозаика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31565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03280" y="303120"/>
            <a:ext cx="88200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Матери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7520" y="1679400"/>
            <a:ext cx="293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8720" y="1511280"/>
            <a:ext cx="377964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обычные -лоскутки и обрезки ткани, кусочки кожи и замши, а также вещи, которые уже не носите, но материал, из которого они сделаны, хорошо сохра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83160" y="1932120"/>
            <a:ext cx="327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1760" y="1440000"/>
            <a:ext cx="33609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и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ются катушечные хлопчатобумажные нитки различных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355560" y="936720"/>
            <a:ext cx="115884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6960" y="936720"/>
            <a:ext cx="11761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35640" y="2808360"/>
            <a:ext cx="1655640" cy="194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888240" y="2752560"/>
            <a:ext cx="2184480" cy="171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983280" y="4764240"/>
            <a:ext cx="1895760" cy="178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016000" y="3887640"/>
            <a:ext cx="1587600" cy="21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735280" y="373068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360360" y="4103640"/>
            <a:ext cx="1655640" cy="2808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3603600" y="5256360"/>
            <a:ext cx="2448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41520" y="500040"/>
            <a:ext cx="864684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b84700"/>
                </a:solidFill>
                <a:latin typeface="Arial"/>
              </a:rPr>
              <a:t>Полезно зна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шитья из лоскутков пригодны почти все ткани, но х/б подходят больше других, потому что они прекрасно стираются и долговечнее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шитья подходят и тонкие и плотные, и даже бархатные ткани различной техники окр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тические ткани плохо держат скл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кани, которые быстро протираются и тянутся, не следует соединять с х/б тка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чено, что ткани с красным и фиолетовым окрасом линяют чаще всех остальных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тирке следует обрезать кромку ткани во избежание искажения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зделиях, которые не будут носиться и часто стираться, допускается сшивание лоскутов разного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90840" y="3200400"/>
            <a:ext cx="6905520" cy="119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мощни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144000" y="7020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148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871640" y="5576760"/>
            <a:ext cx="6905520" cy="119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ёрст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243080" y="720720"/>
            <a:ext cx="754056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076480" y="5832360"/>
            <a:ext cx="5556240" cy="119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жниц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062000" y="720720"/>
            <a:ext cx="793764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816200" y="6119640"/>
            <a:ext cx="6032520" cy="635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кал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055520" y="689040"/>
            <a:ext cx="8017200" cy="49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160720" y="6048360"/>
            <a:ext cx="6191280" cy="635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тюг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63640" y="720720"/>
            <a:ext cx="809784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008080" y="5904000"/>
            <a:ext cx="6272280" cy="87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лав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008000" y="647640"/>
            <a:ext cx="8097840" cy="50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160720" y="5649840"/>
            <a:ext cx="6113160" cy="1190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лыше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008000" y="685800"/>
            <a:ext cx="8094600" cy="50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5520" y="20160"/>
            <a:ext cx="90694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7157d"/>
                </a:solidFill>
                <a:latin typeface="Arial Black"/>
              </a:rPr>
              <a:t>Инструменты, материалы и приспособления для  изготовления изделий в лоскутной техник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57120" y="1319040"/>
            <a:ext cx="1508040" cy="1465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103480" y="1319040"/>
            <a:ext cx="1508040" cy="1319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691080" y="1398600"/>
            <a:ext cx="3097080" cy="1733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0" y="3144960"/>
            <a:ext cx="5713560" cy="488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7102440" y="1319040"/>
            <a:ext cx="1082880" cy="150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76120" y="3541680"/>
            <a:ext cx="2936880" cy="1998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5834160" y="2906640"/>
            <a:ext cx="4033800" cy="662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3452760" y="4095720"/>
            <a:ext cx="2843280" cy="24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7021440" y="3422520"/>
            <a:ext cx="2936880" cy="2541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6300720" y="5591160"/>
            <a:ext cx="1417680" cy="1112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1546200" y="5605560"/>
            <a:ext cx="140004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11160" y="763560"/>
            <a:ext cx="85741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вейную машинку игло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 испортиш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71720" y="4255920"/>
            <a:ext cx="8175600" cy="277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Кашу маслом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 испортишь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10078920" cy="754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0520" y="1762200"/>
            <a:ext cx="81421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31640" y="576360"/>
            <a:ext cx="90727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3280" y="307800"/>
            <a:ext cx="898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четание цв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040" y="1092240"/>
            <a:ext cx="907272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87520" y="1176480"/>
            <a:ext cx="4956120" cy="562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0" name=""/>
          <p:cNvSpPr/>
          <p:nvPr/>
        </p:nvSpPr>
        <p:spPr>
          <a:xfrm>
            <a:off x="6048360" y="1503360"/>
            <a:ext cx="3360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астные сочетание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64120" y="3108240"/>
            <a:ext cx="302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овой 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4120" y="5880240"/>
            <a:ext cx="327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тонные сочетание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605560" y="1763640"/>
            <a:ext cx="550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521320" y="3359160"/>
            <a:ext cx="550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521320" y="6132600"/>
            <a:ext cx="550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22360" y="2160720"/>
            <a:ext cx="8908920" cy="186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 лоскуток,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 нужен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25800" y="647640"/>
            <a:ext cx="5433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7ff"/>
                </a:solidFill>
                <a:latin typeface="Arial"/>
                <a:ea typeface="Arial Unicode MS"/>
              </a:rPr>
              <a:t>Прихва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0520" y="1762200"/>
            <a:ext cx="81421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672000" y="3311640"/>
            <a:ext cx="5832360" cy="3676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31640" y="1484280"/>
            <a:ext cx="417672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15880" y="763560"/>
            <a:ext cx="8809200" cy="26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 швейной машины — полсироты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 без иглы — и вся сиро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4880" y="4255920"/>
            <a:ext cx="8572680" cy="254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Без отца — полсироты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 без матери — и вся сирота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30480" y="287280"/>
            <a:ext cx="8094600" cy="30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куки бер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лу в ру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71720" y="4255920"/>
            <a:ext cx="8651880" cy="285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От скуки бер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ло в руки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95440" y="1160640"/>
            <a:ext cx="8908920" cy="186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 лоскуток, а нужен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39840" y="4892760"/>
            <a:ext cx="9366120" cy="163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Мал золотник, да дорог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456000" y="1079640"/>
            <a:ext cx="2665440" cy="280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20720" y="4143240"/>
            <a:ext cx="2473200" cy="2625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47640" y="792000"/>
            <a:ext cx="2735280" cy="2735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643800" y="576360"/>
            <a:ext cx="2716200" cy="295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3600360" y="4319640"/>
            <a:ext cx="2498760" cy="2663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840360" y="4175280"/>
            <a:ext cx="2448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92000" y="1969920"/>
            <a:ext cx="31086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Дерюжки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напольные дорожки, выполненные из длинных лент, собранных из обрезков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0720" y="2195640"/>
            <a:ext cx="28558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Ляпачихи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ёстрые покрывала из обрезков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59160" y="3816360"/>
            <a:ext cx="36957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эчворк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изделия, собранные из лоскутков квадратной и треугольной формы в различные геометрические орнаменты и композиции, что напоминает вышивку, роспись ткани или тканные ков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5120" y="1211400"/>
            <a:ext cx="144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132000" y="1224000"/>
            <a:ext cx="858960" cy="9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80120" y="1319040"/>
            <a:ext cx="587520" cy="83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877000" y="2560680"/>
            <a:ext cx="2232000" cy="218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152360" y="2448000"/>
            <a:ext cx="2016360" cy="161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260880" y="4103640"/>
            <a:ext cx="2498400" cy="2664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92000" y="287280"/>
            <a:ext cx="83520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7ff"/>
                </a:solidFill>
                <a:latin typeface="Arial"/>
                <a:ea typeface="Arial Unicode MS"/>
              </a:rPr>
              <a:t>Разновидности лоскутного шит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8000" y="1128600"/>
            <a:ext cx="83520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7ff"/>
                </a:solidFill>
                <a:latin typeface="Arial"/>
              </a:rPr>
              <a:t>Изготовление</a:t>
            </a:r>
            <a:r>
              <a:rPr b="1" lang="ru-RU" sz="4400" spc="-1" strike="noStrike">
                <a:solidFill>
                  <a:srgbClr val="0047ff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47ff"/>
                </a:solidFill>
                <a:latin typeface="Arial"/>
              </a:rPr>
              <a:t>прихватки в технике «Пэчворк»</a:t>
            </a:r>
            <a:r>
              <a:rPr b="1" lang="ru-RU" sz="4400" spc="-1" strike="noStrike">
                <a:solidFill>
                  <a:srgbClr val="0047ff"/>
                </a:solidFill>
                <a:latin typeface="Arial"/>
                <a:ea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52720" y="2664000"/>
            <a:ext cx="45356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31280" y="502920"/>
            <a:ext cx="921564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Пэчворк 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как вид рукоделия впервые появился в Англии в ХVII Веке, когда туда стали привозить индийские х/б ткани различных расцветок и узоров. Поэтому оставшиеся после раскроя одежды остатки ткани использовали для изготовления предмета интерьера. Постепенно люди научились комбинировать цвета, фигуры, создавать сложные узоры. Появился вид рукоделия «пэчворк» (patch – лоскуток, work – работа). Пэчворк с переселенцами попал из Европы в Америку и там стал национальным видом декоративно- прикладного искусства.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За последние два столетия мастера пэчворка выработали технологию изготовления лоскутных изделий и разработали множество прекрасных узоров.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В России пэчворком начали заниматься во второй половине ХΙХ века, но он не успел развиться, так как не был обеспечен поддержкой государства и сохранялся усилиями многих мастериц. Традиции русского узора – несложная мозаика из квадратов и треугольников контрастного цвета.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Единое полотно в технике пэчворк создается по принципу мозаики. Оно состоит из отдельных  узоров, полос, аппликации. Основные условия для создания гармонично красивых изделий - тщательный подбор лоскутков по цвету и рисунку. Традиционный узор ткани используемой для лоскутной техники – мелкий растительный рисунок по цветному или черному фону. В современном пэчворке используются также ткани с крупным  рисунком.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Лоскутное шитье приобретает развивающийся характер во всем мире. Об этом свидетельствуют различные выставки не только в России, но и за рубежом.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15:57:10Z</dcterms:created>
  <dc:creator>school </dc:creator>
  <dc:description/>
  <dc:language>en-US</dc:language>
  <cp:lastModifiedBy>Customer</cp:lastModifiedBy>
  <cp:lastPrinted>2013-02-04T04:43:14Z</cp:lastPrinted>
  <dcterms:modified xsi:type="dcterms:W3CDTF">2013-02-10T11:45:38Z</dcterms:modified>
  <cp:revision>4</cp:revision>
  <dc:subject/>
  <dc:title>Слайд 1</dc:title>
</cp:coreProperties>
</file>