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2.jpeg" ContentType="image/jpeg"/>
  <Override PartName="/ppt/media/image11.jpeg" ContentType="image/jpeg"/>
  <Override PartName="/ppt/media/image36.jpeg" ContentType="image/jpeg"/>
  <Override PartName="/ppt/media/image29.jpeg" ContentType="image/jpeg"/>
  <Override PartName="/ppt/media/image10.jpeg" ContentType="image/jpeg"/>
  <Override PartName="/ppt/media/image35.jpeg" ContentType="image/jpeg"/>
  <Override PartName="/ppt/media/image28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33.jpeg" ContentType="image/jpeg"/>
  <Override PartName="/ppt/media/image34.gif" ContentType="image/gif"/>
  <Override PartName="/ppt/media/image16.jpeg" ContentType="image/jpeg"/>
  <Override PartName="/ppt/media/image9.gif" ContentType="image/gif"/>
  <Override PartName="/ppt/media/image7.jpeg" ContentType="image/jpeg"/>
  <Override PartName="/ppt/media/image5.gif" ContentType="image/gif"/>
  <Override PartName="/ppt/media/image14.jpeg" ContentType="image/jpeg"/>
  <Override PartName="/ppt/media/image8.gif" ContentType="image/gif"/>
  <Override PartName="/ppt/media/image18.jpeg" ContentType="image/jpeg"/>
  <Override PartName="/ppt/media/image1.png" ContentType="image/png"/>
  <Override PartName="/ppt/media/image1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02960" y="694800"/>
            <a:ext cx="484668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6"/>
          </p:nvPr>
        </p:nvSpPr>
        <p:spPr>
          <a:xfrm>
            <a:off x="388152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7"/>
          </p:nvPr>
        </p:nvSpPr>
        <p:spPr>
          <a:xfrm>
            <a:off x="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8"/>
          </p:nvPr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984C0-A3D3-4256-814E-EEEBC3B30C88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CF723-8D2B-4F40-8C85-DA524A96C72E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2D6CC-62D8-40C4-9BAB-A70BC6158AE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25FA9-3978-4E23-8610-65BAB6A6C44E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AB110-EC38-4AB2-950E-4B1378E4DC12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B4366-AA73-41DC-B674-CE270DF3CE89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77A51-99C7-42FF-B5E2-ADBB52BE85A6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5A5AE-AAA7-4814-9F6F-B865F08ED5DD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C906C-286D-4C4F-B776-CFD8E8CB33BF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C9CF2-A5C0-4609-BDDC-78E5BE8FD892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1BFDB-FC5B-4B03-9E28-69219E1D203C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C085F-6144-46F8-8629-1ABF466290B7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22604-B4E1-4EA4-A99C-FFCDFEFFEA79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BBB32-AD1E-49FC-A721-A8DE96B89BAF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91111-B9E4-482A-AB93-2272B366166E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0A283-97B0-4685-9A24-690C92BE3E7A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25892-088B-4113-82EC-316EEFF85639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6AB2A-1D49-44C1-96B4-569BB4BA64AF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57FAF-5B4A-42FB-82EF-EC37E50290BB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027BB-9590-4467-B989-02F68500ED7A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EC369-B6CC-4146-B330-C8D969D81266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2AA01-64D4-4C7F-87C8-16A0A1C165B0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D98EB-4639-4DE3-9597-49670DF96BD6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E9026-DCC9-4EB1-A6E4-DA4DF989EFE5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53FFC-E0B5-458C-9FEA-A4BC839ABF26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8A78A-D3A8-41A2-B024-BA27EF3F93E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51D30-15DF-43EF-ADE2-F09D04DD7965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FEE34-96FD-4894-B1D4-7BFF10C7E11B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D166E-DA9E-404C-B552-C9E8D3E2C56B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372D8-A9C6-4D7F-867B-68A026C0BDA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971F6-4175-49B6-ADB6-CAC2A1ABC507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1561A-6FD7-48E4-9837-6B7AA7692FA8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78604-D3BC-427E-97B8-ADA22A5EF29C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E9297-EA84-49FD-BB9B-EE2286D834F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7FEA8-3658-44F0-9B6F-EFB213D72A6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EF3E8-D1BC-4108-8D1B-BB3B991E5630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628D3-7496-49F9-ABBE-E347F3CC6271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D8C2F-ABFB-4D6D-846C-73A85FF6382F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C9B6F-D514-4901-97C9-617A5C979ABA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B6E9B-835C-4F72-8B6D-DEB8C37F1FA5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15CD-BD59-421C-93B8-9D9F45EB7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651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164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37797-AB80-4408-83B6-8D127077D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651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8651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164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4164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1C5AA-A018-4460-A2ED-090B37BD4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651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8651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8651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164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4164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4164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A6A20-EF66-494E-A5B6-6D28937ECC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6A405-FA8C-4F4F-8E59-659EAD79F5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86516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54984-B542-4630-AA7C-D05E1B0594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6516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0B46A-E242-43A9-A9B7-C3FA990DD8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6516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86516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64673-7560-49C3-83D8-1A3EECE4CC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55BEB-B5FE-4342-9368-65C4E5A1F3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81E16-B506-4D08-B101-0FE7F9ACF6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651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86516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4164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97579-3375-42B7-99E7-E3B91AE48C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6516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D50A8-AA1C-49F8-B411-692E11E49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6516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8651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4164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F4F8C-61FF-467B-B688-A646201B34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651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8651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164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0DAA4-E9ED-4C19-B5AC-B14C93CDA5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651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4164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90647-A4CB-48EE-90E2-530EE0545A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651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8651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164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4164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4B874-D714-4105-A111-84D3CD9589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651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8651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8651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4164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4164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4164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6288D-BCF2-48D7-86FC-A342437257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2F1A6-DF10-48B7-8BBC-614B445F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86516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440C3-9391-4C35-9A35-7583FBFE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6516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D1FDB-A020-4463-86B2-DA18A53D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6516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86516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DBEBA-7529-48C2-86FE-E326000A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737A3-158C-485B-9DE9-4D4A3A1C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6516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B8A3-4444-4A30-B216-318CB19893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CDC51-AD68-4CC3-9B8E-4D664994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651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86516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4164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EC837-5295-44DF-AC35-3126B87E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6516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8651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520" y="394164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30E12-1526-4890-BA8A-2FD3C826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651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8651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164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5EED9-1464-48AB-B341-669E7934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651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4164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8AAAC-41EB-4467-AC3F-797503C4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651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520" y="18651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4164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520" y="394164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4529A-A93C-4384-BEDF-7C7317A7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651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280" y="18651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1360" y="18651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4164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280" y="394164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1360" y="394164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8D0E8-2107-4FB5-B114-8EBC9235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6516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86516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CE8D-6DA8-42DB-81B8-3AB731AF0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E4887-E8CE-4A0F-892F-08CDB0972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3EC81-F5CB-4229-A5EF-06255E035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651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86516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164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E1BE4-AF48-4C60-A6DC-FFE25A21C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6516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8651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4164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83AC0-1B7E-42D6-8F8F-56CFBB88B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651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8651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164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D7C2C-F8E1-425E-A43A-3DE38BA7D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6876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308227-8651-4AE8-AF38-5F06B6ECF0BD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6876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21328E-0513-433B-ABE9-535700935B07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86516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3"/>
          </p:nvPr>
        </p:nvSpPr>
        <p:spPr>
          <a:xfrm>
            <a:off x="456840" y="6345000"/>
            <a:ext cx="2128680" cy="4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4"/>
          </p:nvPr>
        </p:nvSpPr>
        <p:spPr>
          <a:xfrm>
            <a:off x="3127320" y="6345000"/>
            <a:ext cx="2897280" cy="4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5"/>
          </p:nvPr>
        </p:nvSpPr>
        <p:spPr>
          <a:xfrm>
            <a:off x="6556320" y="634500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FE4B1E-DA18-4290-B0A7-4BC93D1E8E0D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38088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WordArt 2"/>
          <p:cNvSpPr txBox="1"/>
          <p:nvPr/>
        </p:nvSpPr>
        <p:spPr>
          <a:xfrm>
            <a:off x="762120" y="1523880"/>
            <a:ext cx="769608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Impact"/>
              </a:rPr>
              <a:t> </a:t>
            </a:r>
            <a:endParaRPr b="1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1015b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Impact"/>
              </a:rPr>
              <a:t>на Олимпийских</a:t>
            </a:r>
            <a:endParaRPr b="1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1015b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Impact"/>
              </a:rPr>
              <a:t>играх</a:t>
            </a:r>
            <a:endParaRPr b="1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1015b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Impact"/>
              </a:rPr>
              <a:t> </a:t>
            </a:r>
            <a:endParaRPr b="1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1015b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WordArt 3"/>
          <p:cNvSpPr txBox="1"/>
          <p:nvPr/>
        </p:nvSpPr>
        <p:spPr>
          <a:xfrm>
            <a:off x="1828800" y="1295280"/>
            <a:ext cx="563868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Impact"/>
              </a:rPr>
              <a:t>РОССИЯ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1015b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457200" y="1600200"/>
            <a:ext cx="411480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ервая Олимпийская чемпионка зимних Игр среди российских спортсменов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 гонке на 10км.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(фото на стр 81)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657600" cy="3630600"/>
          </a:xfrm>
          <a:prstGeom prst="rect">
            <a:avLst/>
          </a:prstGeom>
          <a:ln w="0">
            <a:noFill/>
          </a:ln>
        </p:spPr>
      </p:pic>
      <p:sp>
        <p:nvSpPr>
          <p:cNvPr id="181" name="WordArt 3"/>
          <p:cNvSpPr txBox="1"/>
          <p:nvPr/>
        </p:nvSpPr>
        <p:spPr>
          <a:xfrm>
            <a:off x="1676520" y="304920"/>
            <a:ext cx="57909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Tahoma"/>
              </a:rPr>
              <a:t>Любовь Козыре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1015b">
                    <a:alpha val="5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Tahom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Tahoma"/>
              </a:rPr>
              <a:t>(Баранова)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1015b">
                    <a:alpha val="5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33520" y="563868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онькобежец Евгений Гришин на этой же олимпиаде завоевал 2 золотые медали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457200" y="22320"/>
            <a:ext cx="82296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екордсменкой Игр по числу завоеванных золотых наград стала гимнастка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Лариса Латынина.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на победила в четырёх видах гимнастической программы.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762120" y="1295280"/>
            <a:ext cx="7467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Лариса Латынина – 9 золотых медалей, гимнастик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Лидия Скобликова – 6 золотых медалей, бег на коньках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Галина Кулакова – 4 золотых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</a:t>
            </a: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медали в лыжных гонках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2514600" y="228600"/>
            <a:ext cx="4010040" cy="6324480"/>
          </a:xfrm>
          <a:prstGeom prst="rect">
            <a:avLst/>
          </a:prstGeom>
          <a:ln w="0">
            <a:noFill/>
          </a:ln>
        </p:spPr>
      </p:pic>
      <p:sp>
        <p:nvSpPr>
          <p:cNvPr id="186" name="WordArt 4"/>
          <p:cNvSpPr txBox="1"/>
          <p:nvPr/>
        </p:nvSpPr>
        <p:spPr>
          <a:xfrm>
            <a:off x="685800" y="2286000"/>
            <a:ext cx="8001000" cy="24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Arial Black"/>
              </a:rPr>
              <a:t>1956 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1015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Arial Black"/>
              </a:rPr>
              <a:t>Летние Олимпийские Игр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1015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457200" y="77760"/>
            <a:ext cx="822960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Имена наиболее прославленных спортсменов выступавших в составе СССР на летних Игр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609480" y="228600"/>
            <a:ext cx="8686800" cy="69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ладимир Куц – легкая атлетика (2-х кратный ол. чемп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Борис Шахлин – гимнастика ( 7 золотых медале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алерий Брумель – прыжки в высо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олина Астахова – гимнастика (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ячеслав Иванов – гребля (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Михаил Воронин – гимнастика (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Борис Лагутин – бокс 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Александр Медведь – борьба (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иктор Санеев – тройной прыжок (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Леонид Жаботинский – Тяжелая атлетика 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алерий Борзов – легкая атлетика 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льга Корбут, Людмила Турищева – гимнастика (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асилий Алексеев – тяжёлая атлетика 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Александр Дитятин – гимнастика (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Татьяна Казанкина – легкая атлетика (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элли Ким – гимнастика (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ладимир Сальников – плавание  (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Александр Карелин – борьба (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ладимир Артёмов – гимнастика (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Евгений Садовый – плавание (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Александр Попов – плавание (4)  - действующий член М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562720" cy="423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5" dur="2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2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2000"/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1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1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2000"/>
                                        <p:tgtEl>
                                          <p:spTgt spid="1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2000"/>
                                        <p:tgtEl>
                                          <p:spTgt spid="1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1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18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8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18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457200" y="304920"/>
            <a:ext cx="8229600" cy="70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Любовь Баранова (Козырева) – лыж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Евгений Гришин – коньки (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Лидия Скобликова – коньки (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лавдия Боярских – лыжи (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ладимир Меланьин – биатлон (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Людмила Белоусова и Александр Протопопов – первые советские олимпийские чемпионы в парном ката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Александр Тихонов – биатлон (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Галина Кулакова – лыжи (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ячеслав Веденин – лыжи 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аиса Сметанина – (3-5-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ладислав Третьяк – хоккей (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Людмила Пахомова и Александр Горшков – первые олимпийские чемпионы в спортивных танцах на льд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иколай Зимятов – лыжи (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Ирина Роднина и Александр Зайцев – парное катание (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Анфиса Резцова – лыжи, биатлон (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Любовь Егорова – лыжи (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Лариса Лазутина – лыжи (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льга Данилова – лыжи (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Юлия Чепалова – лыжи 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362320" y="1828800"/>
            <a:ext cx="4572000" cy="43275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3"/>
          <p:cNvSpPr/>
          <p:nvPr/>
        </p:nvSpPr>
        <p:spPr>
          <a:xfrm>
            <a:off x="304920" y="226800"/>
            <a:ext cx="828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ена наиболее отличившихся   спортсменов на зимних Игр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2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5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8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1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4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7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2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3" dur="20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20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9" dur="2000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2" dur="2000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5" dur="2000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8" dur="2000"/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2000"/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2000"/>
                                        <p:tgtEl>
                                          <p:spTgt spid="1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1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3" dur="2000"/>
                                        <p:tgtEl>
                                          <p:spTgt spid="1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457200" y="1287360"/>
            <a:ext cx="228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946320" cy="4724640"/>
          </a:xfrm>
          <a:prstGeom prst="rect">
            <a:avLst/>
          </a:prstGeom>
          <a:ln w="0">
            <a:noFill/>
          </a:ln>
        </p:spPr>
      </p:pic>
      <p:sp>
        <p:nvSpPr>
          <p:cNvPr id="195" name="WordArt 3"/>
          <p:cNvSpPr txBox="1"/>
          <p:nvPr/>
        </p:nvSpPr>
        <p:spPr>
          <a:xfrm>
            <a:off x="6629400" y="4800600"/>
            <a:ext cx="16765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Impact"/>
              </a:rPr>
              <a:t>1980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1015b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762120" y="304920"/>
            <a:ext cx="7848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Impact"/>
              </a:rPr>
              <a:t>Церемония открытия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07932" dir="13500000" blurRad="0" rotWithShape="0">
                  <a:srgbClr val="01015b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Impact"/>
              </a:rPr>
              <a:t>XXII Олимпийских Игр в Москве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07932" dir="13500000" blurRad="0" rotWithShape="0">
                  <a:srgbClr val="01015b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WordArt 5"/>
          <p:cNvSpPr txBox="1"/>
          <p:nvPr/>
        </p:nvSpPr>
        <p:spPr>
          <a:xfrm>
            <a:off x="304920" y="2286000"/>
            <a:ext cx="16761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Impact"/>
              </a:rPr>
              <a:t>1980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1015b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4" dur="2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7" dur="2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838080" y="441972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едвежонок Миша 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лисман ХХ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Олимпийских Игр   в Москв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Group 2"/>
          <p:cNvGrpSpPr/>
          <p:nvPr/>
        </p:nvGrpSpPr>
        <p:grpSpPr>
          <a:xfrm>
            <a:off x="2971800" y="838080"/>
            <a:ext cx="3430440" cy="3503880"/>
            <a:chOff x="2971800" y="838080"/>
            <a:chExt cx="3430440" cy="3503880"/>
          </a:xfrm>
        </p:grpSpPr>
        <p:pic>
          <p:nvPicPr>
            <p:cNvPr id="200" name="Picture 3" descr=""/>
            <p:cNvPicPr/>
            <p:nvPr/>
          </p:nvPicPr>
          <p:blipFill>
            <a:blip r:embed="rId1"/>
            <a:stretch/>
          </p:blipFill>
          <p:spPr>
            <a:xfrm>
              <a:off x="2971800" y="838080"/>
              <a:ext cx="3430440" cy="350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4"/>
            <p:cNvSpPr/>
            <p:nvPr/>
          </p:nvSpPr>
          <p:spPr>
            <a:xfrm>
              <a:off x="2971800" y="838080"/>
              <a:ext cx="3430440" cy="35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4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457200" y="380880"/>
            <a:ext cx="8229600" cy="65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Игры </a:t>
            </a: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XXVI</a:t>
            </a: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Олимпиады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996г (США, Атланта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оссияне впервые после далеких Стокгольмских игр 1912 года выступали своей отдельной команд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оссийская команда выступила вполне достойно: 26 золотых, 21 – серебряная, 27 бронзовых медал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 неофициальном зачете команда заняла 2 место уступив команде США, третьими были спортсмены Герма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1295280" y="1905120"/>
            <a:ext cx="66294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295280" y="2971800"/>
            <a:ext cx="6629400" cy="1066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1295280" y="4038480"/>
            <a:ext cx="6629400" cy="1067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WordArt 5"/>
          <p:cNvSpPr txBox="1"/>
          <p:nvPr/>
        </p:nvSpPr>
        <p:spPr>
          <a:xfrm>
            <a:off x="3276720" y="2819520"/>
            <a:ext cx="243828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Arial Black"/>
              </a:rPr>
              <a:t>1996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1015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4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7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2" dur="8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3" dur="8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8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8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8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8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0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5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0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77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7" dur="770" fill="hold"/>
                                        <p:tgtEl>
                                          <p:spTgt spid="2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8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9" dur="77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0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1" dur="77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2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77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6" dur="770" fill="hold"/>
                                        <p:tgtEl>
                                          <p:spTgt spid="2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7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8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9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0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1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5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6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7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8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9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0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77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6" dur="770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7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8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9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0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1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460680" cy="48765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2"/>
          <p:cNvSpPr/>
          <p:nvPr/>
        </p:nvSpPr>
        <p:spPr>
          <a:xfrm>
            <a:off x="380880" y="380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-1600200" y="7162920"/>
            <a:ext cx="588960" cy="4413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4"/>
          <p:cNvSpPr/>
          <p:nvPr/>
        </p:nvSpPr>
        <p:spPr>
          <a:xfrm>
            <a:off x="5257800" y="1905120"/>
            <a:ext cx="3048120" cy="30456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3"/>
          <a:stretch/>
        </p:blipFill>
        <p:spPr>
          <a:xfrm>
            <a:off x="7543800" y="5638680"/>
            <a:ext cx="749160" cy="7621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6"/>
          <p:cNvSpPr/>
          <p:nvPr/>
        </p:nvSpPr>
        <p:spPr>
          <a:xfrm>
            <a:off x="5334120" y="2362320"/>
            <a:ext cx="2209680" cy="30456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WordArt 7"/>
          <p:cNvSpPr txBox="1"/>
          <p:nvPr/>
        </p:nvSpPr>
        <p:spPr>
          <a:xfrm>
            <a:off x="5562720" y="1905120"/>
            <a:ext cx="250020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Россия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4" name="WordArt 8"/>
          <p:cNvSpPr txBox="1"/>
          <p:nvPr/>
        </p:nvSpPr>
        <p:spPr>
          <a:xfrm>
            <a:off x="5562720" y="2362320"/>
            <a:ext cx="175248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вперед!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5" name="WordArt 9"/>
          <p:cNvSpPr txBox="1"/>
          <p:nvPr/>
        </p:nvSpPr>
        <p:spPr>
          <a:xfrm>
            <a:off x="990720" y="304920"/>
            <a:ext cx="7315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ссийские спортсмены в новом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олети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533520" y="228600"/>
            <a:ext cx="8229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Денис Панкратов и Александр Попов – плавание (по 2победы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танислав Поздняков – фехтование (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Алексей Немов – гимнастика (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ветлана Мастеркова – лёгкая атлетика 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льга Брусникина и Мария Киселёва – синхронное плавание 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Андрей Лавров – гандбол (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ветлана Хоркина – гимнастика 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Евгений Кафельников –тенни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ячеслав Екимов – велосипедист 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Справка…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Фото на 3 разворо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3049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5948280" y="4038480"/>
            <a:ext cx="2247840" cy="2286000"/>
          </a:xfrm>
          <a:prstGeom prst="rect">
            <a:avLst/>
          </a:prstGeom>
          <a:ln w="0">
            <a:noFill/>
          </a:ln>
        </p:spPr>
      </p:pic>
      <p:sp>
        <p:nvSpPr>
          <p:cNvPr id="220" name="WordArt 4"/>
          <p:cNvSpPr txBox="1"/>
          <p:nvPr/>
        </p:nvSpPr>
        <p:spPr>
          <a:xfrm>
            <a:off x="1143000" y="5181480"/>
            <a:ext cx="42670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Impact"/>
              </a:rPr>
              <a:t>Эмблема Олимпийского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07932" dir="13500000" blurRad="0" rotWithShape="0">
                  <a:srgbClr val="01015b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Impact"/>
              </a:rPr>
              <a:t>       </a:t>
            </a: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Impact"/>
              </a:rPr>
              <a:t>комитета России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07932" dir="13500000" blurRad="0" rotWithShape="0">
                  <a:srgbClr val="01015b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WordArt 5"/>
          <p:cNvSpPr txBox="1"/>
          <p:nvPr/>
        </p:nvSpPr>
        <p:spPr>
          <a:xfrm>
            <a:off x="3276720" y="1828800"/>
            <a:ext cx="5562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Impact"/>
              </a:rPr>
              <a:t>Президент Олимпийского комитета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07932" dir="13500000" blurRad="0" rotWithShape="0">
                  <a:srgbClr val="01015b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Impact"/>
              </a:rPr>
              <a:t>России –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07932" dir="13500000" blurRad="0" rotWithShape="0">
                  <a:srgbClr val="01015b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Impact"/>
              </a:rPr>
              <a:t>Леонид Васильевич Тягачёв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07932" dir="13500000" blurRad="0" rotWithShape="0">
                  <a:srgbClr val="01015b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2"/>
          <a:stretch/>
        </p:blipFill>
        <p:spPr>
          <a:xfrm>
            <a:off x="7924680" y="7621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7"/>
          <p:cNvSpPr/>
          <p:nvPr/>
        </p:nvSpPr>
        <p:spPr>
          <a:xfrm>
            <a:off x="685800" y="1752480"/>
            <a:ext cx="2209680" cy="2590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       </a:t>
            </a:r>
            <a:r>
              <a:rPr b="1" i="1" lang="ru-RU" sz="8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2014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457200" y="1905120"/>
            <a:ext cx="8229600" cy="43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XXII </a:t>
            </a:r>
            <a:r>
              <a:rPr b="1" lang="ru-RU" sz="6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зимние Олимпийские игры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1" lang="ru-RU" sz="6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г. СОЧ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0"/>
                      </p:stCondLst>
                      <p:childTnLst>
                        <p:par>
                          <p:cTn id="76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5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1" i="1" lang="ru-RU" sz="3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Дебют России</a:t>
            </a:r>
            <a:br>
              <a:rPr sz="3400"/>
            </a:b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( дореволюционная Росс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457200" y="1905120"/>
            <a:ext cx="6324480" cy="50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Игры (Афины) 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8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86г. Россия не участвовала – не набрали сред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IV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Игры(Лондон)1908г.  Состоялся дебют спортсменов России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Сборная России – 6 челове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лимпийским чемпионом в фигурном катании ста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.Панин-Коломенкин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две серебряные медали завоевали борцы Н.Орлов и А.Пет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6705720" y="2362320"/>
            <a:ext cx="2070000" cy="2743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2514600" y="1905120"/>
            <a:ext cx="4303800" cy="4343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457200" cy="343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4"/>
          <a:stretch/>
        </p:blipFill>
        <p:spPr>
          <a:xfrm>
            <a:off x="380880" y="2666880"/>
            <a:ext cx="457200" cy="343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5"/>
          <a:stretch/>
        </p:blipFill>
        <p:spPr>
          <a:xfrm>
            <a:off x="3200400" y="2286000"/>
            <a:ext cx="32688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1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4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7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5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457200" y="380880"/>
            <a:ext cx="8229600" cy="67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« О спорт! Ты – мир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Ты устанавливаешь хорошие, добрые, дружественные отношения между народ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Ты – соглас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Ты сближаешь людей, жаждущих един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Ты учишь разноязыкую, разноплеменную молодежь уважать друг дру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Ты источник благородного, мирного, дружеского соревн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Ты собираешь молодёжь – наше будущее, нашу надежду – под свои мирные знаме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О спорт! Ты – мир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" descr=""/>
          <p:cNvPicPr/>
          <p:nvPr/>
        </p:nvPicPr>
        <p:blipFill>
          <a:blip r:embed="rId1"/>
          <a:stretch/>
        </p:blipFill>
        <p:spPr>
          <a:xfrm>
            <a:off x="3276720" y="762120"/>
            <a:ext cx="25905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838080" y="1447920"/>
            <a:ext cx="746784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101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000080" y="1587600"/>
            <a:ext cx="7145280" cy="36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"/>
          <p:cNvSpPr/>
          <p:nvPr/>
        </p:nvSpPr>
        <p:spPr>
          <a:xfrm>
            <a:off x="2362320" y="304920"/>
            <a:ext cx="4647960" cy="62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101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Group 2"/>
          <p:cNvGrpSpPr/>
          <p:nvPr/>
        </p:nvGrpSpPr>
        <p:grpSpPr>
          <a:xfrm>
            <a:off x="2590920" y="457200"/>
            <a:ext cx="4189320" cy="5865840"/>
            <a:chOff x="2590920" y="457200"/>
            <a:chExt cx="4189320" cy="5865840"/>
          </a:xfrm>
        </p:grpSpPr>
        <p:pic>
          <p:nvPicPr>
            <p:cNvPr id="232" name="Picture 3" descr=""/>
            <p:cNvPicPr/>
            <p:nvPr/>
          </p:nvPicPr>
          <p:blipFill>
            <a:blip r:embed="rId1"/>
            <a:stretch/>
          </p:blipFill>
          <p:spPr>
            <a:xfrm>
              <a:off x="2590920" y="457200"/>
              <a:ext cx="4189320" cy="586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4"/>
            <p:cNvSpPr/>
            <p:nvPr/>
          </p:nvSpPr>
          <p:spPr>
            <a:xfrm>
              <a:off x="2590920" y="457200"/>
              <a:ext cx="4189320" cy="58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533520" y="914400"/>
            <a:ext cx="792468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101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44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990720" y="1523880"/>
            <a:ext cx="70102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101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05720" cy="37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"/>
          <p:cNvSpPr/>
          <p:nvPr/>
        </p:nvSpPr>
        <p:spPr>
          <a:xfrm>
            <a:off x="1828800" y="380880"/>
            <a:ext cx="525780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101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Group 2"/>
          <p:cNvGrpSpPr/>
          <p:nvPr/>
        </p:nvGrpSpPr>
        <p:grpSpPr>
          <a:xfrm>
            <a:off x="2057400" y="609480"/>
            <a:ext cx="4808520" cy="5561280"/>
            <a:chOff x="2057400" y="609480"/>
            <a:chExt cx="4808520" cy="5561280"/>
          </a:xfrm>
        </p:grpSpPr>
        <p:pic>
          <p:nvPicPr>
            <p:cNvPr id="240" name="Picture 3" descr=""/>
            <p:cNvPicPr/>
            <p:nvPr/>
          </p:nvPicPr>
          <p:blipFill>
            <a:blip r:embed="rId1"/>
            <a:stretch/>
          </p:blipFill>
          <p:spPr>
            <a:xfrm>
              <a:off x="2057400" y="609480"/>
              <a:ext cx="4808520" cy="556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4"/>
            <p:cNvSpPr/>
            <p:nvPr/>
          </p:nvSpPr>
          <p:spPr>
            <a:xfrm>
              <a:off x="2057400" y="609480"/>
              <a:ext cx="4808520" cy="556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685800" y="1219320"/>
            <a:ext cx="762012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101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16292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1371600" y="990720"/>
            <a:ext cx="640080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101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943600" cy="44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"/>
          <p:cNvSpPr/>
          <p:nvPr/>
        </p:nvSpPr>
        <p:spPr>
          <a:xfrm>
            <a:off x="1828800" y="1219320"/>
            <a:ext cx="54864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101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2133720" y="1436760"/>
            <a:ext cx="4952880" cy="40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ОК – Российский олимпийский комит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457200" y="1905120"/>
            <a:ext cx="548640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                                        был созд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оссийский олимпийский комитет (РОК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Его председателем был избран очень известный тогда педагог – руководитель учебных заведений Вячеслав Иванович Срезневский.    И он сразу взялся за дело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 играх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V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Олимпиады  1912г Россия была представлена уже 178 участниками. Россия завоевала две серебряные медали – в стрельбе и борьбе, и две бронзовые медали – в стрельбе и парусном спор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457200" cy="342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152280" y="4343400"/>
            <a:ext cx="457200" cy="361800"/>
          </a:xfrm>
          <a:prstGeom prst="rect">
            <a:avLst/>
          </a:prstGeom>
          <a:ln w="0">
            <a:noFill/>
          </a:ln>
        </p:spPr>
      </p:pic>
      <p:sp>
        <p:nvSpPr>
          <p:cNvPr id="145" name="WordArt 5"/>
          <p:cNvSpPr txBox="1"/>
          <p:nvPr/>
        </p:nvSpPr>
        <p:spPr>
          <a:xfrm>
            <a:off x="1752480" y="1828800"/>
            <a:ext cx="1295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911г</a:t>
            </a:r>
            <a:endParaRPr b="1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3"/>
          <a:stretch/>
        </p:blipFill>
        <p:spPr>
          <a:xfrm>
            <a:off x="6353280" y="2286000"/>
            <a:ext cx="23968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"/>
          <p:cNvSpPr/>
          <p:nvPr/>
        </p:nvSpPr>
        <p:spPr>
          <a:xfrm>
            <a:off x="1371600" y="609480"/>
            <a:ext cx="640080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101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2828880" y="2004840"/>
            <a:ext cx="3484440" cy="2848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3051000" y="1960560"/>
            <a:ext cx="3040200" cy="29354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3"/>
          <a:stretch/>
        </p:blipFill>
        <p:spPr>
          <a:xfrm>
            <a:off x="2722680" y="2054160"/>
            <a:ext cx="3698640" cy="2747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"/>
          <p:cNvPicPr/>
          <p:nvPr/>
        </p:nvPicPr>
        <p:blipFill>
          <a:blip r:embed="rId4"/>
          <a:stretch/>
        </p:blipFill>
        <p:spPr>
          <a:xfrm>
            <a:off x="1600200" y="762120"/>
            <a:ext cx="594360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514600" y="304920"/>
            <a:ext cx="4114800" cy="609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101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2743200" y="533520"/>
            <a:ext cx="364824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1905120" y="990720"/>
            <a:ext cx="5486400" cy="510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101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2209680" y="1171440"/>
            <a:ext cx="4876920" cy="470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572000" cy="4267080"/>
          </a:xfrm>
          <a:prstGeom prst="rect">
            <a:avLst/>
          </a:prstGeom>
          <a:ln w="0">
            <a:noFill/>
          </a:ln>
        </p:spPr>
      </p:pic>
      <p:sp>
        <p:nvSpPr>
          <p:cNvPr id="258" name="WordArt 2"/>
          <p:cNvSpPr txBox="1"/>
          <p:nvPr/>
        </p:nvSpPr>
        <p:spPr>
          <a:xfrm>
            <a:off x="2133720" y="380880"/>
            <a:ext cx="52578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Outside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Impact"/>
              </a:rPr>
              <a:t>О спорт ! Ты - мир!</a:t>
            </a:r>
            <a:endParaRPr b="0" lang="en-US" sz="1800" spc="1" strike="noStrike">
              <a:ln w="1908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1015b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Group 2"/>
          <p:cNvGrpSpPr/>
          <p:nvPr/>
        </p:nvGrpSpPr>
        <p:grpSpPr>
          <a:xfrm>
            <a:off x="0" y="0"/>
            <a:ext cx="9142560" cy="6829560"/>
            <a:chOff x="0" y="0"/>
            <a:chExt cx="9142560" cy="6829560"/>
          </a:xfrm>
        </p:grpSpPr>
        <p:pic>
          <p:nvPicPr>
            <p:cNvPr id="26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2560" cy="682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4"/>
            <p:cNvSpPr/>
            <p:nvPr/>
          </p:nvSpPr>
          <p:spPr>
            <a:xfrm>
              <a:off x="0" y="0"/>
              <a:ext cx="9142560" cy="68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"/>
          <p:cNvPicPr/>
          <p:nvPr/>
        </p:nvPicPr>
        <p:blipFill>
          <a:blip r:embed="rId2"/>
          <a:stretch/>
        </p:blipFill>
        <p:spPr>
          <a:xfrm>
            <a:off x="0" y="990720"/>
            <a:ext cx="5410080" cy="51814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5"/>
          <p:cNvSpPr/>
          <p:nvPr/>
        </p:nvSpPr>
        <p:spPr>
          <a:xfrm>
            <a:off x="457200" y="160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380880" y="1600200"/>
            <a:ext cx="4562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Первы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российским Олимпийским чемпионом   ста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Н.Панин-Коломенкин – фигурное катание 1908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"/>
          <p:cNvPicPr/>
          <p:nvPr/>
        </p:nvPicPr>
        <p:blipFill>
          <a:blip r:embed="rId2"/>
          <a:stretch/>
        </p:blipFill>
        <p:spPr>
          <a:xfrm>
            <a:off x="0" y="990720"/>
            <a:ext cx="5029200" cy="518148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533520" y="1523880"/>
            <a:ext cx="3962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Первой олимпийской чемпионкой в истории спорта СССР стала метательница диска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Нина Пономарёва (Ромашкова)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"/>
          <p:cNvPicPr/>
          <p:nvPr/>
        </p:nvPicPr>
        <p:blipFill>
          <a:blip r:embed="rId2"/>
          <a:stretch/>
        </p:blipFill>
        <p:spPr>
          <a:xfrm>
            <a:off x="0" y="990720"/>
            <a:ext cx="5410080" cy="51814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457200" y="160020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Перв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Олимпийская чемпион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зимних Игр среди российских спортсменов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в гонке на 10км Любовь Козырева (Баранов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"/>
          <p:cNvPicPr/>
          <p:nvPr/>
        </p:nvPicPr>
        <p:blipFill>
          <a:blip r:embed="rId2"/>
          <a:stretch/>
        </p:blipFill>
        <p:spPr>
          <a:xfrm>
            <a:off x="0" y="990720"/>
            <a:ext cx="5410080" cy="518148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5"/>
          <p:cNvSpPr/>
          <p:nvPr/>
        </p:nvSpPr>
        <p:spPr>
          <a:xfrm>
            <a:off x="457200" y="160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2"/>
          <a:stretch/>
        </p:blipFill>
        <p:spPr>
          <a:xfrm>
            <a:off x="0" y="990720"/>
            <a:ext cx="5410080" cy="51814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5"/>
          <p:cNvSpPr/>
          <p:nvPr/>
        </p:nvSpPr>
        <p:spPr>
          <a:xfrm>
            <a:off x="457200" y="160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Справка …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чиная с 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VII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Игр 1920г (Антверпен) наша команда не участвовала в играх вплоть до 1952 г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е было и команды Германии. Вместе с союзниками по Первой мировой войне она была отстранена от участия в играх.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7543800" y="685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380880" cy="285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3"/>
          <a:stretch/>
        </p:blipFill>
        <p:spPr>
          <a:xfrm>
            <a:off x="457200" y="3581280"/>
            <a:ext cx="380880" cy="3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457200" y="1905120"/>
            <a:ext cx="822960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 algn="ctr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             году в СССР был создан Олимпийский комитет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скоре его признал МОК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ша страна стала полноправным членом олимпийской семь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457200" cy="342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990720" y="3962520"/>
            <a:ext cx="457200" cy="34272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4"/>
          <p:cNvGrpSpPr/>
          <p:nvPr/>
        </p:nvGrpSpPr>
        <p:grpSpPr>
          <a:xfrm>
            <a:off x="7696080" y="685800"/>
            <a:ext cx="532080" cy="531720"/>
            <a:chOff x="7696080" y="685800"/>
            <a:chExt cx="532080" cy="531720"/>
          </a:xfrm>
        </p:grpSpPr>
        <p:pic>
          <p:nvPicPr>
            <p:cNvPr id="156" name="Picture 5" descr=""/>
            <p:cNvPicPr/>
            <p:nvPr/>
          </p:nvPicPr>
          <p:blipFill>
            <a:blip r:embed="rId3"/>
            <a:stretch/>
          </p:blipFill>
          <p:spPr>
            <a:xfrm>
              <a:off x="7696080" y="685800"/>
              <a:ext cx="532080" cy="5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6"/>
            <p:cNvSpPr/>
            <p:nvPr/>
          </p:nvSpPr>
          <p:spPr>
            <a:xfrm>
              <a:off x="7696080" y="685800"/>
              <a:ext cx="53208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Rectangle 7"/>
          <p:cNvSpPr/>
          <p:nvPr/>
        </p:nvSpPr>
        <p:spPr>
          <a:xfrm>
            <a:off x="685800" y="60948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правка 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WordArt 8"/>
          <p:cNvSpPr txBox="1"/>
          <p:nvPr/>
        </p:nvSpPr>
        <p:spPr>
          <a:xfrm>
            <a:off x="1752480" y="1981080"/>
            <a:ext cx="1257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5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457200" y="-69840"/>
            <a:ext cx="8229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Дебют Российских спортсменов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(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 составе СССР)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br>
              <a:rPr sz="40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             Олимпийские игры,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               Хельсинки (Финлянд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609480" y="3429000"/>
            <a:ext cx="82296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оманда состоящая из спортсменов                   10 союзных республик выступала по всей программе Игр,  кроме хоккея на траве, и добилась огромного успех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71 медаль (22 золотые, 30 серебряных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7 бронзовых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 многолетних олимпийских лидеров – спортсменов США – было ненамного больш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76 медалей (40-19-17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WordArt 3"/>
          <p:cNvSpPr txBox="1"/>
          <p:nvPr/>
        </p:nvSpPr>
        <p:spPr>
          <a:xfrm>
            <a:off x="1981080" y="2057400"/>
            <a:ext cx="838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Arial Black"/>
              </a:rPr>
              <a:t>XV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1015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1219320" y="2590920"/>
            <a:ext cx="1676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Arial Black"/>
              </a:rPr>
              <a:t>1952г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1015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143000" y="35053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2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4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533520" y="685800"/>
            <a:ext cx="80769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ервой олимпийской чемпионкой в истории спорта СССР стала метательница диска 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ина Пономарёва (Ромашкова)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457200" y="19051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5105520" y="5715000"/>
            <a:ext cx="355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Фото стр 4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457200" y="204840"/>
            <a:ext cx="822960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Дебют Российских спортсменов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(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 составе СССР)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br>
              <a:rPr sz="3600"/>
            </a:b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    Олимпийские игры,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            Хельсинки (Финлянд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533520" y="2743200"/>
            <a:ext cx="8229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</a:t>
            </a: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ина Ромашкова (Пономарева) – метательница диск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</a:t>
            </a: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иктор Чукарин  - гимнастик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</a:t>
            </a: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Любовь Козырева – лыжный спорт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</a:t>
            </a: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Евгений Гришин - коньки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>
            <a:off x="609480" y="29718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3"/>
          <a:stretch/>
        </p:blipFill>
        <p:spPr>
          <a:xfrm>
            <a:off x="609480" y="45720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4"/>
          <a:stretch/>
        </p:blipFill>
        <p:spPr>
          <a:xfrm>
            <a:off x="609480" y="51814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74" name="WordArt 7"/>
          <p:cNvSpPr txBox="1"/>
          <p:nvPr/>
        </p:nvSpPr>
        <p:spPr>
          <a:xfrm>
            <a:off x="2209680" y="1371600"/>
            <a:ext cx="6858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Arial Black"/>
              </a:rPr>
              <a:t>XV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1015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WordArt 8"/>
          <p:cNvSpPr txBox="1"/>
          <p:nvPr/>
        </p:nvSpPr>
        <p:spPr>
          <a:xfrm>
            <a:off x="1447920" y="1828800"/>
            <a:ext cx="1371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Arial Black"/>
              </a:rPr>
              <a:t>1952г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1015b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380880" y="533520"/>
            <a:ext cx="8229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Дебют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российских спортсменов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(в составе СССР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457200" y="3352680"/>
            <a:ext cx="838188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зимни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лимпийские Игр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Италия, Кортина де Ампеццо)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WordArt 3"/>
          <p:cNvSpPr txBox="1"/>
          <p:nvPr/>
        </p:nvSpPr>
        <p:spPr>
          <a:xfrm>
            <a:off x="3733920" y="2590920"/>
            <a:ext cx="2133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1015b">
                      <a:alpha val="50000"/>
                    </a:srgbClr>
                  </a:outerShdw>
                </a:effectLst>
                <a:latin typeface="Arial"/>
              </a:rPr>
              <a:t>1956 г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1015b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" dur="2000" fill="hold"/>
                                        <p:tgtEl>
                                          <p:spTgt spid="1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347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льдар</cp:lastModifiedBy>
  <dcterms:modified xsi:type="dcterms:W3CDTF">2016-01-21T09:44:12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