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6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7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8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90BFC-6616-4C80-A9AF-2B848B7B05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5F1B5-6EFA-41BA-B1BF-D997C2C570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8EA14-0FEE-4053-8C91-5B9CEC7FFD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E04DE-CC8D-4F72-BC8D-3AA455FDC5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5A9D9-842E-4D8E-A507-2A576A4992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CE2BE-5504-4628-86FE-7684576A1F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F8228-88EA-4080-8970-6887C45DFF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6D40E-1A52-4341-94A5-8928BB5964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B3F47-8802-4C13-82A4-3640A94E90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80DDB-9B7E-49F2-A97E-681287739A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BEA3E-BE6B-479F-AF5E-275AA256CA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C76B-3A98-4E5C-A315-9246383CA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B9C6-8446-45FE-8EEE-CE73C3C20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CEA7-997A-4B00-A2BD-47E389238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85A3-13E2-4B6A-9403-B3924585F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71A2-FC8B-4DAE-9E7E-87067AF4F4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1A12-6577-4268-B841-969EBC7061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E1A4-39A8-447A-9A6F-134FA87E05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4432-DA51-4A9C-B900-39EF975E97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7F74-E5E9-4BD3-8750-D2F154C1BC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EB58-1DEC-477C-B18E-CB1FACD67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7411-F68B-4BC1-A100-EEA7AA5C1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610F-A56B-44A7-8792-E19087D20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5B8D-6F02-42CB-9BD7-4976CEE473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4053-989A-4999-A6FF-18C45E79E1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EF05-E63D-44C5-A56E-0122ACFE17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19D9-7132-4910-B920-7091376225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451E-B78B-402D-B9F6-B37FF947C7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FF47A-A28C-4DE6-A500-874EAD70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0765D-7842-45B8-8886-EC110073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38D20-0681-4DAC-A00C-8CFF7035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ADD9B-1E24-4286-A5FE-55CE8D95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61FAF-7CAA-49D3-B444-E6895E4F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D98B-5304-4AA5-8F46-45D63C3AA0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7D29C-22A0-44FC-9FFE-280EEB8B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6E459-C496-408C-9252-B23ED64F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12FFD-AEBF-44E5-8C2F-10558B2E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BE0FE-66E7-4E4F-9848-B0E0088F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F9459-4B03-4534-9391-B3CA8306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4896D-8720-48FE-A87A-AA4C2A18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33EA5-4FE4-48AA-8940-330D706F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1ADF-2B58-4928-851C-332CE965D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B536-278B-4166-A2E2-403C5D9BF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0DC4-B396-4376-8077-820A597B3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C3BD-337A-40C4-9DF6-9FBEDDBD1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CEA3-6BF4-499E-B9DB-EF90C40D5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BCDC-A00B-4CE3-995B-6C58F00EC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1" name="Freeform 2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38480"/>
                <a:gd name="textAreaBottom" fmla="*/ 2238840 h 22384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027760"/>
                <a:gd name="textAreaBottom" fmla="*/ 5028120 h 502776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02120"/>
                <a:gd name="textAreaBottom" fmla="*/ 2202480 h 2202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>
                <a:gd name="textAreaLeft" fmla="*/ 0 w 7312320"/>
                <a:gd name="textAreaRight" fmla="*/ 7312680 w 7312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832120"/>
                <a:gd name="textAreaBottom" fmla="*/ 2832480 h 28321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246400"/>
                <a:gd name="textAreaBottom" fmla="*/ 2246760 h 224640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>
                <a:gd name="textAreaLeft" fmla="*/ 0 w 4569120"/>
                <a:gd name="textAreaRight" fmla="*/ 4569480 w 4569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6400"/>
                <a:gd name="textAreaBottom" fmla="*/ 2246760 h 22464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Text Box 10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A6A1A8-17AD-4E2C-8E2D-878164CE000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51" name="Freeform 2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104080"/>
                <a:gd name="textAreaBottom" fmla="*/ 5104440 h 51040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3"/>
            <p:cNvSpPr/>
            <p:nvPr/>
          </p:nvSpPr>
          <p:spPr>
            <a:xfrm>
              <a:off x="838080" y="3809880"/>
              <a:ext cx="8304480" cy="304668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3046680"/>
                <a:gd name="textAreaBottom" fmla="*/ 3047040 h 30466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318960" y="3773520"/>
              <a:ext cx="5483520" cy="44280"/>
            </a:xfrm>
            <a:custGeom>
              <a:avLst/>
              <a:gdLst>
                <a:gd name="textAreaLeft" fmla="*/ 0 w 5483520"/>
                <a:gd name="textAreaRight" fmla="*/ 5483880 w 5483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838080" y="1752480"/>
              <a:ext cx="7767720" cy="44640"/>
            </a:xfrm>
            <a:custGeom>
              <a:avLst/>
              <a:gdLst>
                <a:gd name="textAreaLeft" fmla="*/ 0 w 7767720"/>
                <a:gd name="textAreaRight" fmla="*/ 7767720 w 7767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318960" y="3773520"/>
              <a:ext cx="46080" cy="31068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106800"/>
                <a:gd name="textAreaBottom" fmla="*/ 3107160 h 31068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838080" y="1752480"/>
              <a:ext cx="44640" cy="5118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118120"/>
                <a:gd name="textAreaBottom" fmla="*/ 5118480 h 51181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BFBFE8-20C4-4B14-AE99-0DBFAEF1254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3"/>
          </p:nvPr>
        </p:nvSpPr>
        <p:spPr>
          <a:xfrm>
            <a:off x="456840" y="48751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4"/>
          </p:nvPr>
        </p:nvSpPr>
        <p:spPr>
          <a:xfrm>
            <a:off x="3127320" y="48751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5"/>
          </p:nvPr>
        </p:nvSpPr>
        <p:spPr>
          <a:xfrm>
            <a:off x="6556320" y="48751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F81316-3713-4FBC-85B8-16CAE0B70C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Спортсмены Оренбургской обла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838080" y="1905120"/>
            <a:ext cx="83059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Е.С.Кодяйкин – первый участник Игр из Оренбургской област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Игры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XV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Олимпиады 1956 года   (Мельбурн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В беге на дистанции 3000 м с препятствия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он был девят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Ю.Н.Малышев – зимние Олимпийские   иг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1960 год  (США, Сквовелл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Конькобежец   занял 10 мест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Г.В.Доля - игры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летней Олимпиады, 1960г (Италия, Рим)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Спортсменке покорилась высота 171с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Ее 4 место стало для Оренбуржья шагом впере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7289640" y="258840"/>
            <a:ext cx="15526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Га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200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Бузулук САМБО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5921280" y="3927600"/>
            <a:ext cx="3222720" cy="2930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8580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357120"/>
            <a:ext cx="8385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XX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 игры 1972 год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( Мюнхен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14400" y="1905120"/>
            <a:ext cx="80010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И.Л.Иванов ( Новотроицк) – рекордсмен и чемпион страны в беге на 800 и 1500м, серебряный призер чемпионата Европы  - участник Иг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В.В.Торшин – бронзов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призёр Игр в стрельб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из пистол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71600" cy="2971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Игры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XXII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 Олимпиады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1980 (Москв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85800" y="1905120"/>
            <a:ext cx="5257800" cy="58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Н.Б.Радзевич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заслуженный мастер спорта, капитан олимпийской сборной команды страны по волейболу. Обладательн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3 золотых и 1 серебряной медалей чемпионата Европы, бронзовых медалей чемпионата и Кубка мира, пяти золотых медалей чемпионата стра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КАПИТАН ОЛИМПИЙСКОЙ СБОРНОЙ ПО ВОЛЕЙБОЛУ – ПЕРВАЯ ОЛИМПИЙСКАЯ ЧЕМПИО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6019920" y="2362320"/>
            <a:ext cx="268452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380880" y="326880"/>
            <a:ext cx="8229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Игры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XXIV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 Олимпиады 1988г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(Корея, Сеул)</a:t>
            </a: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Игры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XXV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Олимпиады 1992г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(Испания,Барсело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914400" y="2286000"/>
            <a:ext cx="4572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Т. Самойленко  -  заслуженный мастер спо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В беге на 3000 и 1500м Татьяна – многократная чемпионка мира, победительница в Кубках мира и Европы, на Играх доброй воли, обладательница полного комплекта олимпийских медалей – золотой, серебряной, бронзово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665440" cy="3738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57200" y="61920"/>
            <a:ext cx="838512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Игры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XXVII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 Олимпиады 2000г</a:t>
            </a:r>
            <a:br>
              <a:rPr sz="40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(Сидн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0" y="1905120"/>
            <a:ext cx="411480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Юлия Кузина (Орс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семикратная победительница чемпионатов России, трехкратная – чемпионатов Европы, четырехкратная – чемпионатов и кубков мира по  дзю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Участница Олимпи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110040" cy="4038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61920"/>
            <a:ext cx="838512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Игры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XXVII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Arial Unicode MS"/>
              </a:rPr>
              <a:t> Олимпиады 2000г</a:t>
            </a:r>
            <a:br>
              <a:rPr sz="40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(Сидн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3200400" y="1828800"/>
            <a:ext cx="594360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Александр Доброскок (Бузулук) – обладатель серебряной медали   по прыжкам в вод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Участник Пекинской 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089080" cy="274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6594480" y="3733920"/>
            <a:ext cx="2103480" cy="27432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685800" y="487692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митрий Доброскок (Бузулук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онзовый призёр </a:t>
            </a:r>
            <a:r>
              <a:rPr b="1" lang="en-US" sz="2800" spc="-1" strike="noStrike">
                <a:solidFill>
                  <a:srgbClr val="00cc00"/>
                </a:solidFill>
                <a:latin typeface="Tahoma"/>
              </a:rPr>
              <a:t>XXIX </a:t>
            </a: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Иг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Пекине – прыжки в в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3200400" y="1981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609480" y="5029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5"/>
          <a:stretch/>
        </p:blipFill>
        <p:spPr>
          <a:xfrm>
            <a:off x="6553080" y="3733920"/>
            <a:ext cx="21718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457200" y="301680"/>
            <a:ext cx="838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  <a:ea typeface="Arial Unicode MS"/>
              </a:rPr>
              <a:t>Лучшие спортсмены области по итогам 2008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017800" cy="2590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5382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4"/>
          <p:cNvGrpSpPr/>
          <p:nvPr/>
        </p:nvGrpSpPr>
        <p:grpSpPr>
          <a:xfrm>
            <a:off x="3657600" y="1905120"/>
            <a:ext cx="1960560" cy="2638440"/>
            <a:chOff x="3657600" y="1905120"/>
            <a:chExt cx="1960560" cy="2638440"/>
          </a:xfrm>
        </p:grpSpPr>
        <p:pic>
          <p:nvPicPr>
            <p:cNvPr id="181" name="Picture 5" descr=""/>
            <p:cNvPicPr/>
            <p:nvPr/>
          </p:nvPicPr>
          <p:blipFill>
            <a:blip r:embed="rId3"/>
            <a:stretch/>
          </p:blipFill>
          <p:spPr>
            <a:xfrm>
              <a:off x="3657600" y="1905120"/>
              <a:ext cx="196056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6"/>
            <p:cNvSpPr/>
            <p:nvPr/>
          </p:nvSpPr>
          <p:spPr>
            <a:xfrm>
              <a:off x="3657600" y="1905120"/>
              <a:ext cx="1960560" cy="26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6400800" y="1905120"/>
            <a:ext cx="1878120" cy="259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5"/>
          <a:stretch/>
        </p:blipFill>
        <p:spPr>
          <a:xfrm>
            <a:off x="3657600" y="4811760"/>
            <a:ext cx="2057400" cy="1722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380880" y="185760"/>
            <a:ext cx="838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  <a:ea typeface="Arial Unicode MS"/>
              </a:rPr>
              <a:t>Лучшие спортсмены области по итогам 2008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117880" cy="2666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2154240" cy="2666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3505320" y="464832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4"/>
          <a:stretch/>
        </p:blipFill>
        <p:spPr>
          <a:xfrm>
            <a:off x="914400" y="4648320"/>
            <a:ext cx="2057400" cy="206676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6"/>
          <p:cNvGrpSpPr/>
          <p:nvPr/>
        </p:nvGrpSpPr>
        <p:grpSpPr>
          <a:xfrm>
            <a:off x="6324480" y="4267080"/>
            <a:ext cx="1979640" cy="2589480"/>
            <a:chOff x="6324480" y="4267080"/>
            <a:chExt cx="1979640" cy="2589480"/>
          </a:xfrm>
        </p:grpSpPr>
        <p:pic>
          <p:nvPicPr>
            <p:cNvPr id="192" name="Picture 7" descr=""/>
            <p:cNvPicPr/>
            <p:nvPr/>
          </p:nvPicPr>
          <p:blipFill>
            <a:blip r:embed="rId5"/>
            <a:stretch/>
          </p:blipFill>
          <p:spPr>
            <a:xfrm>
              <a:off x="6324480" y="4267080"/>
              <a:ext cx="1979640" cy="25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8"/>
            <p:cNvSpPr/>
            <p:nvPr/>
          </p:nvSpPr>
          <p:spPr>
            <a:xfrm>
              <a:off x="6324480" y="4267080"/>
              <a:ext cx="197964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4" name="Picture 9" descr=""/>
          <p:cNvPicPr/>
          <p:nvPr/>
        </p:nvPicPr>
        <p:blipFill>
          <a:blip r:embed="rId6"/>
          <a:stretch/>
        </p:blipFill>
        <p:spPr>
          <a:xfrm>
            <a:off x="6248520" y="1905120"/>
            <a:ext cx="205740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  <a:ea typeface="Arial Unicode MS"/>
              </a:rPr>
              <a:t>Лучшие спортсмены области по итогам 2008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0" y="1752480"/>
            <a:ext cx="868680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Дзюба Валери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МС, кикбоксинг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г.Оренбу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Брат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А. и Д. Доброско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г. Бузул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Ю. Кузина  (Орс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2108160" cy="2743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2762280" cy="2236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2216160" cy="29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4"/>
          <a:stretch/>
        </p:blipFill>
        <p:spPr>
          <a:xfrm>
            <a:off x="609480" y="4495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5"/>
          <a:stretch/>
        </p:blipFill>
        <p:spPr>
          <a:xfrm>
            <a:off x="5486400" y="1905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6"/>
          <a:stretch/>
        </p:blipFill>
        <p:spPr>
          <a:xfrm>
            <a:off x="2666880" y="60199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дар</cp:lastModifiedBy>
  <dcterms:modified xsi:type="dcterms:W3CDTF">2016-01-21T09:58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