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D7DD-C41B-4EED-9777-DC273BD71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3C49-8083-4760-BCB0-5D1A92DD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A80-0DA7-4514-80ED-0A275286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A6B5-0ED9-4351-A3A5-DA565EB25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D76BF-91E3-4656-A956-3486B2C6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26F9F-0D9E-4492-92F1-29C29ACE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A972E-B2FA-4233-9191-FDC2D19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988C7-9CE4-4D09-B7BD-EB12F11E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96291-D904-40EA-AF6A-00ED9A7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6A08-0102-4558-A8F6-CEDA02F9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DA8C2-6583-45C7-8830-E84DD912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4440-2408-4E36-98B0-DFC9F93D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32908-9276-4C07-8DFA-A262A740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919627-8FCA-4653-BDC1-2AAC8A90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6FA0C-358C-4469-9065-9422A5FA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A56A7-C1C8-4879-A439-4BC5ECB8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AC00-1E0D-4D48-9C6C-4DD7E1E4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903-9A69-4D81-9B3F-FEA6D375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974-5C49-4918-85DC-AAB40C7C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BCE-B1DE-475D-AF82-5AC10AB5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7D9-44FD-415C-AEBC-4563573A0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1F14-5DD3-48CB-80E4-E6A150F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5C16-82E0-4F0F-BCC2-E7A5A1B3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4E5C-5034-4C46-8C7A-477DBA69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83BEC-6865-4B36-A591-30CF873491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4A40-F0E2-4AC6-A988-E4F9ADE944C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79898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Нахождение углерода в природе и его распространение.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ил ученик 9 класс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жников Дмитр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250920" y="4869000"/>
            <a:ext cx="46479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был открыт в 1789г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. Лавуазье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4:46:04Z</dcterms:created>
  <dc:creator>кунслу</dc:creator>
  <dc:description/>
  <dc:language>en-US</dc:language>
  <cp:lastModifiedBy>кунслу</cp:lastModifiedBy>
  <dcterms:modified xsi:type="dcterms:W3CDTF">2013-02-06T15:16:14Z</dcterms:modified>
  <cp:revision>3</cp:revision>
  <dc:subject/>
  <dc:title>Нахождение углерода в природе и его распространение. </dc:title>
</cp:coreProperties>
</file>