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EA27-E443-4C99-B609-403F6755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8902-20BA-4B7A-8FFC-3AFBA112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2D25-BA22-41A0-8482-F41DF8D6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032C-BAB3-4964-ACFF-33CF787BD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419C-63FB-446D-A803-EE238975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386A-4139-470E-8949-EB2B48D4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0253-37C3-436C-9694-5C76BEA3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35E4-986C-4924-ADEF-DB52C62D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810D-D92E-41CE-914B-9C46EA06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83BD-B5BE-478B-B2A4-B8CFA236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A267-C748-411D-A79C-FB8D5783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40A4-E215-454C-A3C2-76562958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D6B6-0272-43B0-8EAF-E24B7B50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EC44-F739-4148-AA89-CC572810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E8A7-AE08-45B4-9CC0-18A1D4B8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E96E-1B1C-4317-AB2E-2A1F7A35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9D682-0CD0-484E-B235-33221726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2C1A-420D-43B4-8EE4-69189E00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B2D6-B8FC-4C78-97CF-E0BA7464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474E-C468-4593-BF8F-D04583A0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87CC-A889-48B1-8F00-920310F1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F37E-3DFC-475C-A29B-5A1DDEB2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FC4F-1806-4CBE-85D5-C3E00371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F70C-9D8A-4DC1-9418-AC038F0F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4762-6439-45EC-A093-61CBA4823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B08B-7E07-4D43-B477-2B28486549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610920" y="260280"/>
            <a:ext cx="80643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 него достоинств много е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Людям я совсем как бра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ного тысяч лет назад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вещая интерьер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вобытных их пещер,                                                                                                                   Я уже пылал в костре.                                                                                                                                                                      И украсить был я рад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м и рыцарей наряд,                                                                                                           Что блистали при дворе…                                                                                                                                      Если мягким быть решу,                                                                                                                                                  То в тетради я пишу»                                                                                                                                            Такова друзья природ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Элемента УГЛЕ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1680" y="907920"/>
            <a:ext cx="854064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пособность поглощать газы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Изобретатель противогаза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   Уголь обработанный водяным паро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1680" y="0"/>
            <a:ext cx="85406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1. Вы счастливый владелец алмазов, но вам нужны деньги. Кому вы можете предложить свои сокровища? Убедите покупателя приобрести их, основываясь на свойствах алмаз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2.Вы обладатель больших запасов графита, в какой области вы их можете применить? На каких свойствах это основано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3. Приведите примеры использования  явления адсорбции в жизни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1680" y="333000"/>
            <a:ext cx="85406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1.Высшая валентность углерод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) 2 ; б ) 3.; в ) 4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2. Высшая степень окисления углерод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) +6 ; б ) +4 ; в ) -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3. Алмаз имеет кристаллическую решетк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)ионную; б ) атомную; в )молекулярн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1. Аллотропные модификации углерод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) алмаз; б ) озон; в )серое олово; г ) графи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.2. Какие утверждения верны для алмаз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) мягкое веществ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.) само твердое природное соединен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) состоит из атомов углеро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)состоит из атомов фосфо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.1.Определите степени окисления углерода в соединениях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 ) СО ;  б) Н2СО3;  в) СО2   ; г) СаСО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ШКА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1680" y="475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накомиться с углеродом как элементом и как простым веществом на основе знаний, полученных по химии и других предме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йти аллотропную модификацию углеро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b7e7ff"/>
                </a:solidFill>
                <a:latin typeface="Arial"/>
              </a:rPr>
              <a:t>ПРОБЛЕМ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Можно ли я назвать уголь, алмазное украшение и стержень из графита, ш«родными братьями»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01680" y="404640"/>
            <a:ext cx="8540640" cy="569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Физминут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 .Жирный на ощуп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Сильный блес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Мягк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 Самый тверд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5. Проводит т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6. Массу измеряют в кара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7. Применение: твердые смазки, электрод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8. Применение: резка стекла, бур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3:13:50Z</dcterms:created>
  <dc:creator>кунслу</dc:creator>
  <dc:description/>
  <dc:language>en-US</dc:language>
  <cp:lastModifiedBy>кунслу</cp:lastModifiedBy>
  <dcterms:modified xsi:type="dcterms:W3CDTF">2013-02-06T15:39:51Z</dcterms:modified>
  <cp:revision>2</cp:revision>
  <dc:subject/>
  <dc:title>Слайд 1</dc:title>
</cp:coreProperties>
</file>