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D06-2E5C-40B7-B63A-B73D600C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3035-67B6-44BD-AEA7-349364A2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0853-9CA5-406E-876F-1D281F6C3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FD7A-7471-4B83-A8EF-A852EEE2C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6287-5BD7-4613-BF43-92AE9AEC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CBF4-8468-4D86-A03F-DED737018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B2BA-6715-4282-8498-4DD73150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8945-812D-4802-99BC-AFCF154E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8DA4-57DC-4679-B3AB-A324DE7A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2036-789B-43B1-822E-FAA0543B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7DE5-345C-4758-86C9-133D6B84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9919-7855-4DB7-A712-9DAE9533A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C0A2-ACDF-462B-A91E-B1B1B65BF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284720" y="4508640"/>
            <a:ext cx="42116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дготовила Кабиева Диа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5:27:31Z</dcterms:created>
  <dc:creator>кунслу</dc:creator>
  <dc:description/>
  <dc:language>en-US</dc:language>
  <cp:lastModifiedBy>Customer</cp:lastModifiedBy>
  <dcterms:modified xsi:type="dcterms:W3CDTF">2013-04-04T16:30:25Z</dcterms:modified>
  <cp:revision>3</cp:revision>
  <dc:subject/>
  <dc:title>Слайд 1</dc:title>
</cp:coreProperties>
</file>