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7.jpeg" ContentType="image/jpeg"/>
  <Override PartName="/ppt/media/image56.png" ContentType="image/pn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26.jpeg" ContentType="image/jpeg"/>
  <Override PartName="/ppt/media/image42.png" ContentType="image/png"/>
  <Override PartName="/ppt/media/image40.png" ContentType="image/pn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31.gif" ContentType="image/gif"/>
  <Override PartName="/ppt/media/image24.png" ContentType="image/png"/>
  <Override PartName="/ppt/media/image69.jpeg" ContentType="image/jpeg"/>
  <Override PartName="/ppt/media/image68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22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688-63F7-4BAD-BAD1-CA8E7E8D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0E3-FF70-43F4-86D9-3FDC6D65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8B5-D3EA-4498-BBD8-66BEAD53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30D-9109-4919-9484-D9126C99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A38E-4B27-4093-98C0-C8AA0FF4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B05F-69B4-4465-91FB-380EAFCD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73F9-4F51-4630-9859-6901C985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E2A1-0827-4371-9EB1-89017837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D475-87DA-4C79-8E19-D7AAAD76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4BB9-E909-4A28-ABA9-5DDD8BBB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2BB7-6214-49C3-B737-1115EDF8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DFB-2D7B-4ED9-A6DC-2F7AE581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DD0F-AAD3-4AF7-8FEC-95A78F69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F9A7-1177-40D0-933C-3CCF7C6C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2AEB-F908-4B35-88EC-29DEFDE4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FD8C-E40C-478A-8AE1-1AB41F24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7079-5349-4FD1-8E54-B2CD4A30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FCE-FF6F-46E1-B1CB-B2090E7A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579-3A40-465C-8A5E-B7420A68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787-561F-4DAA-9582-F31A6052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3FD-B766-43D5-A2EA-0BE2D3AD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7BF-E816-442A-B97B-AEED4616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8A4-9A17-48BB-865D-153927B9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7FB-9FBD-48C9-96E5-49C10667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606D-AB32-4969-9E21-41ED6914254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B11D-AAB3-4692-8AC8-0F311283264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pn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hyperlink" Target="http://delernen.de/personen/forschung/freud.html" TargetMode="External"/><Relationship Id="rId9" Type="http://schemas.openxmlformats.org/officeDocument/2006/relationships/image" Target="../media/image59.jpeg"/><Relationship Id="rId10" Type="http://schemas.openxmlformats.org/officeDocument/2006/relationships/hyperlink" Target="http://delernen.de/personen/politik/weisserose.html" TargetMode="External"/><Relationship Id="rId11" Type="http://schemas.openxmlformats.org/officeDocument/2006/relationships/image" Target="../media/image60.jpeg"/><Relationship Id="rId12" Type="http://schemas.openxmlformats.org/officeDocument/2006/relationships/hyperlink" Target="http://delernen.de/personen/kirche/kvbora.html" TargetMode="External"/><Relationship Id="rId13" Type="http://schemas.openxmlformats.org/officeDocument/2006/relationships/image" Target="../media/image61.jpeg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2.pn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image" Target="../media/image69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54"/>
          <p:cNvPicPr/>
          <p:nvPr/>
        </p:nvPicPr>
        <p:blipFill>
          <a:blip r:embed="rId1"/>
          <a:stretch/>
        </p:blipFill>
        <p:spPr>
          <a:xfrm>
            <a:off x="1692360" y="2852640"/>
            <a:ext cx="6335640" cy="3803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708660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aeaea"/>
                </a:solidFill>
                <a:latin typeface="Tahoma"/>
              </a:rPr>
              <a:t>Landeskundliche Quiz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0328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00"/>
                </a:solidFill>
                <a:latin typeface="Tahoma"/>
              </a:rPr>
              <a:t>Der Klügst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102"/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07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23"/>
          <p:cNvPicPr/>
          <p:nvPr/>
        </p:nvPicPr>
        <p:blipFill>
          <a:blip r:embed="rId1"/>
          <a:stretch/>
        </p:blipFill>
        <p:spPr>
          <a:xfrm>
            <a:off x="179280" y="1268280"/>
            <a:ext cx="4248360" cy="5402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9. Wie heißt den Bundespräsident Deutschlands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0" y="1916280"/>
            <a:ext cx="446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Angela Merk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Horst Köh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Gerhard Schrö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Martin Ackerman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018"/>
          <p:cNvPicPr/>
          <p:nvPr/>
        </p:nvPicPr>
        <p:blipFill>
          <a:blip r:embed="rId1"/>
          <a:stretch/>
        </p:blipFill>
        <p:spPr>
          <a:xfrm>
            <a:off x="108000" y="1916280"/>
            <a:ext cx="4464000" cy="4762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10. Wie heißt die Bundeskanzlerin in Deutschland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716000" y="198900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a) Marta Wiessman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b) Monika Schnei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c) Angela Merk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d) Anna Schulz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2"/>
          <p:cNvPicPr/>
          <p:nvPr/>
        </p:nvPicPr>
        <p:blipFill>
          <a:blip r:embed="rId1"/>
          <a:stretch/>
        </p:blipFill>
        <p:spPr>
          <a:xfrm>
            <a:off x="108000" y="1989000"/>
            <a:ext cx="3816360" cy="1944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11. Das Wahrzeichen Berlins ist 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37450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ahoma"/>
              </a:rPr>
              <a:t>a) das Brandenbur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ffff66"/>
                </a:solidFill>
                <a:latin typeface="Tahoma"/>
              </a:rPr>
              <a:t>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15"/>
          <p:cNvPicPr/>
          <p:nvPr/>
        </p:nvPicPr>
        <p:blipFill>
          <a:blip r:embed="rId2"/>
          <a:stretch/>
        </p:blipFill>
        <p:spPr>
          <a:xfrm>
            <a:off x="5796000" y="1989000"/>
            <a:ext cx="3205080" cy="201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5"/>
          <p:cNvPicPr/>
          <p:nvPr/>
        </p:nvPicPr>
        <p:blipFill>
          <a:blip r:embed="rId3"/>
          <a:stretch/>
        </p:blipFill>
        <p:spPr>
          <a:xfrm>
            <a:off x="108000" y="4653000"/>
            <a:ext cx="3816360" cy="205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8"/>
          <p:cNvPicPr/>
          <p:nvPr/>
        </p:nvPicPr>
        <p:blipFill>
          <a:blip r:embed="rId4"/>
          <a:stretch/>
        </p:blipFill>
        <p:spPr>
          <a:xfrm>
            <a:off x="5867280" y="4653000"/>
            <a:ext cx="3116520" cy="2039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5867280" y="1197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ahoma"/>
              </a:rPr>
              <a:t>b) Der Berliner Do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179280" y="3933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ahoma"/>
              </a:rPr>
              <a:t>c) das Nikolaiviert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5724360" y="400536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ahoma"/>
              </a:rPr>
              <a:t>d) das Rote Ratha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6"/>
          <p:cNvPicPr/>
          <p:nvPr/>
        </p:nvPicPr>
        <p:blipFill>
          <a:blip r:embed="rId1"/>
          <a:stretch/>
        </p:blipFill>
        <p:spPr>
          <a:xfrm>
            <a:off x="108000" y="2349360"/>
            <a:ext cx="1770120" cy="2913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60"/>
          <p:cNvPicPr/>
          <p:nvPr/>
        </p:nvPicPr>
        <p:blipFill>
          <a:blip r:embed="rId2"/>
          <a:stretch/>
        </p:blipFill>
        <p:spPr>
          <a:xfrm>
            <a:off x="6372360" y="4508640"/>
            <a:ext cx="2663640" cy="2162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18"/>
          <p:cNvPicPr/>
          <p:nvPr/>
        </p:nvPicPr>
        <p:blipFill>
          <a:blip r:embed="rId3"/>
          <a:stretch/>
        </p:blipFill>
        <p:spPr>
          <a:xfrm>
            <a:off x="2050920" y="321300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10"/>
          <p:cNvPicPr/>
          <p:nvPr/>
        </p:nvPicPr>
        <p:blipFill>
          <a:blip r:embed="rId4"/>
          <a:stretch/>
        </p:blipFill>
        <p:spPr>
          <a:xfrm>
            <a:off x="4067280" y="3789360"/>
            <a:ext cx="1939680" cy="24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85672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12. Auf dem Wappen von Berlin</a:t>
            </a: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 ist 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78920" y="1700280"/>
            <a:ext cx="15606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de-DE" sz="2800" spc="-1" strike="noStrike">
                <a:solidFill>
                  <a:srgbClr val="ffff99"/>
                </a:solidFill>
                <a:latin typeface="Tahoma"/>
              </a:rPr>
              <a:t>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4376880" y="3246480"/>
            <a:ext cx="9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de-DE" sz="2800" spc="-1" strike="noStrike">
                <a:solidFill>
                  <a:srgbClr val="ffff99"/>
                </a:solidFill>
                <a:latin typeface="Tahoma"/>
              </a:rPr>
              <a:t>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2411280" y="2565360"/>
            <a:ext cx="14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2800" spc="-1" strike="noStrike">
                <a:solidFill>
                  <a:srgbClr val="ffff99"/>
                </a:solidFill>
                <a:latin typeface="Tahoma"/>
              </a:rPr>
              <a:t>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6948360" y="37893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2800" spc="-1" strike="noStrike">
                <a:solidFill>
                  <a:srgbClr val="ffff99"/>
                </a:solidFill>
                <a:latin typeface="Tahoma"/>
              </a:rPr>
              <a:t>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44"/>
          <p:cNvPicPr/>
          <p:nvPr/>
        </p:nvPicPr>
        <p:blipFill>
          <a:blip r:embed="rId1"/>
          <a:stretch/>
        </p:blipFill>
        <p:spPr>
          <a:xfrm>
            <a:off x="108000" y="1844640"/>
            <a:ext cx="5256000" cy="4913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13. Wie heißt der längste und schönste Fluss Deutschlands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867280" y="1844280"/>
            <a:ext cx="327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der Neck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die Don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der Rhe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die Elbe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100"/>
          <p:cNvPicPr/>
          <p:nvPr/>
        </p:nvPicPr>
        <p:blipFill>
          <a:blip r:embed="rId1"/>
          <a:stretch/>
        </p:blipFill>
        <p:spPr>
          <a:xfrm>
            <a:off x="179280" y="1916280"/>
            <a:ext cx="4897440" cy="4787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14. Der höchste Berg Deutschlands ist 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292360" y="1844280"/>
            <a:ext cx="374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Broc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Zugspit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Elb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Feldbe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664"/>
          <p:cNvPicPr/>
          <p:nvPr/>
        </p:nvPicPr>
        <p:blipFill>
          <a:blip r:embed="rId1"/>
          <a:stretch/>
        </p:blipFill>
        <p:spPr>
          <a:xfrm>
            <a:off x="108000" y="1844640"/>
            <a:ext cx="4429080" cy="4824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15. Die beste Note in den deutschen </a:t>
            </a: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    Schulen ist 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219280" y="1916280"/>
            <a:ext cx="360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eine E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eine Fün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eine V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eine Se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Gymnasium4"/>
          <p:cNvPicPr/>
          <p:nvPr/>
        </p:nvPicPr>
        <p:blipFill>
          <a:blip r:embed="rId1"/>
          <a:stretch/>
        </p:blipFill>
        <p:spPr>
          <a:xfrm>
            <a:off x="179280" y="2205000"/>
            <a:ext cx="4268880" cy="39909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16. Auf die Universität bereitet in Deutschland … vor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643280" y="1916280"/>
            <a:ext cx="4392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in der Realsch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im Gymnas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in der Hauptsch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in der Berufssch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21"/>
          <p:cNvPicPr/>
          <p:nvPr/>
        </p:nvPicPr>
        <p:blipFill>
          <a:blip r:embed="rId1"/>
          <a:stretch/>
        </p:blipFill>
        <p:spPr>
          <a:xfrm>
            <a:off x="250920" y="2060640"/>
            <a:ext cx="4392360" cy="4464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17. München ist die Hauptstadt des Bundeslandes 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435640" y="1988640"/>
            <a:ext cx="3457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Bre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Bay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H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Saar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4245254"/>
          <p:cNvPicPr/>
          <p:nvPr/>
        </p:nvPicPr>
        <p:blipFill>
          <a:blip r:embed="rId1"/>
          <a:stretch/>
        </p:blipFill>
        <p:spPr>
          <a:xfrm>
            <a:off x="179280" y="2060640"/>
            <a:ext cx="4608720" cy="45864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18. … besucht die deutschen Kinder zu Ostern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580000" y="1989000"/>
            <a:ext cx="356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der Krokod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der Elef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der 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der H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Location_Germany_EU_Europe"/>
          <p:cNvPicPr/>
          <p:nvPr/>
        </p:nvPicPr>
        <p:blipFill>
          <a:blip r:embed="rId1"/>
          <a:stretch/>
        </p:blipFill>
        <p:spPr>
          <a:xfrm>
            <a:off x="0" y="1314360"/>
            <a:ext cx="4572000" cy="5543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ahoma"/>
              </a:rPr>
              <a:t>1.Deutsch ist eine Muttersprache für 5 Staaten in Europa. Deutsch spricht man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859280" y="1773360"/>
            <a:ext cx="4284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in Po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in Deutsch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in der Schwei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in Dänem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in Österre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in Luxembu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in Liechtenste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in Itali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180"/>
          <p:cNvPicPr/>
          <p:nvPr/>
        </p:nvPicPr>
        <p:blipFill>
          <a:blip r:embed="rId1"/>
          <a:stretch/>
        </p:blipFill>
        <p:spPr>
          <a:xfrm>
            <a:off x="108000" y="1844640"/>
            <a:ext cx="4535280" cy="4680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19. Wie heißt das Fest der Geburt Christi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716000" y="1844640"/>
            <a:ext cx="4319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Weihnach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Ost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Silve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Fasc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0181"/>
          <p:cNvPicPr/>
          <p:nvPr/>
        </p:nvPicPr>
        <p:blipFill>
          <a:blip r:embed="rId1"/>
          <a:stretch/>
        </p:blipFill>
        <p:spPr>
          <a:xfrm>
            <a:off x="108000" y="1628640"/>
            <a:ext cx="4751280" cy="50450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20. Wann feiert man Weihnachten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5003280" y="1699920"/>
            <a:ext cx="3961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am 6. Dez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am 7. Janu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am 1. Janu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am 25. Dez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98"/>
          <p:cNvPicPr/>
          <p:nvPr/>
        </p:nvPicPr>
        <p:blipFill>
          <a:blip r:embed="rId1"/>
          <a:stretch/>
        </p:blipFill>
        <p:spPr>
          <a:xfrm>
            <a:off x="108000" y="2060640"/>
            <a:ext cx="4608360" cy="4464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21. Die weltbekannten Autos Marke BMW werden in … hergestellt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859280" y="1916280"/>
            <a:ext cx="4176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in Bay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in Bre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in Hambu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in Niedersach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zalsburk"/>
          <p:cNvPicPr/>
          <p:nvPr/>
        </p:nvPicPr>
        <p:blipFill>
          <a:blip r:embed="rId1"/>
          <a:stretch/>
        </p:blipFill>
        <p:spPr>
          <a:xfrm>
            <a:off x="108000" y="1916280"/>
            <a:ext cx="4681440" cy="4608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22. Salzburg nennt man..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280" y="1916280"/>
            <a:ext cx="3961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Goethestad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Beethovenstad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Mozartstad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Bachstad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Швейцария"/>
          <p:cNvPicPr/>
          <p:nvPr/>
        </p:nvPicPr>
        <p:blipFill>
          <a:blip r:embed="rId1"/>
          <a:stretch/>
        </p:blipFill>
        <p:spPr>
          <a:xfrm>
            <a:off x="179280" y="2060640"/>
            <a:ext cx="4608720" cy="4608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23. Die Hauptstadt der Schweiz </a:t>
            </a: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ist ..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651280" y="1989000"/>
            <a:ext cx="331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Gen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B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Luz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Zürich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19"/>
          <p:cNvPicPr/>
          <p:nvPr/>
        </p:nvPicPr>
        <p:blipFill>
          <a:blip r:embed="rId1"/>
          <a:stretch/>
        </p:blipFill>
        <p:spPr>
          <a:xfrm>
            <a:off x="108000" y="1916280"/>
            <a:ext cx="4319640" cy="4786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24. Der Rhein heißt in der Poesie ..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0" y="1916280"/>
            <a:ext cx="4392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„</a:t>
            </a: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Vater Rhein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„</a:t>
            </a: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Großvater Rhein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„</a:t>
            </a: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Onkel Rhein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„</a:t>
            </a: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Bruder Rhein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18"/>
          <p:cNvPicPr/>
          <p:nvPr/>
        </p:nvPicPr>
        <p:blipFill>
          <a:blip r:embed="rId1"/>
          <a:stretch/>
        </p:blipFill>
        <p:spPr>
          <a:xfrm>
            <a:off x="179280" y="1916280"/>
            <a:ext cx="4176720" cy="4817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85672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25. Die Stadtmusikanten sind das Wahrzeichen von 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787640" y="1916280"/>
            <a:ext cx="4105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Ber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Dres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Bre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Düsseldorf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125"/>
          <p:cNvPicPr/>
          <p:nvPr/>
        </p:nvPicPr>
        <p:blipFill>
          <a:blip r:embed="rId1"/>
          <a:stretch/>
        </p:blipFill>
        <p:spPr>
          <a:xfrm>
            <a:off x="108000" y="1773360"/>
            <a:ext cx="5033880" cy="48956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26. Für die Schweiz ist typisch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219280" y="1773000"/>
            <a:ext cx="374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Autoindustr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We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Ban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Bi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Swiss"/>
          <p:cNvPicPr/>
          <p:nvPr/>
        </p:nvPicPr>
        <p:blipFill>
          <a:blip r:embed="rId1"/>
          <a:stretch/>
        </p:blipFill>
        <p:spPr>
          <a:xfrm>
            <a:off x="179280" y="1844640"/>
            <a:ext cx="3246480" cy="2166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liech-f"/>
          <p:cNvPicPr/>
          <p:nvPr/>
        </p:nvPicPr>
        <p:blipFill>
          <a:blip r:embed="rId2"/>
          <a:stretch/>
        </p:blipFill>
        <p:spPr>
          <a:xfrm>
            <a:off x="5580000" y="1916280"/>
            <a:ext cx="3240000" cy="2232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1"/>
          <p:cNvPicPr/>
          <p:nvPr/>
        </p:nvPicPr>
        <p:blipFill>
          <a:blip r:embed="rId3"/>
          <a:stretch/>
        </p:blipFill>
        <p:spPr>
          <a:xfrm>
            <a:off x="108000" y="4700520"/>
            <a:ext cx="3240000" cy="2157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Austria"/>
          <p:cNvPicPr/>
          <p:nvPr/>
        </p:nvPicPr>
        <p:blipFill>
          <a:blip r:embed="rId4"/>
          <a:stretch/>
        </p:blipFill>
        <p:spPr>
          <a:xfrm>
            <a:off x="5580000" y="4724280"/>
            <a:ext cx="3240000" cy="2016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27. Die Flagge der Schweiz ist 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227640" y="4149720"/>
            <a:ext cx="16336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1558080" y="1308240"/>
            <a:ext cx="53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7099200" y="12366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49076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29"/>
          <p:cNvPicPr/>
          <p:nvPr/>
        </p:nvPicPr>
        <p:blipFill>
          <a:blip r:embed="rId1"/>
          <a:stretch/>
        </p:blipFill>
        <p:spPr>
          <a:xfrm>
            <a:off x="108000" y="184464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Frankfurt am Main9"/>
          <p:cNvPicPr/>
          <p:nvPr/>
        </p:nvPicPr>
        <p:blipFill>
          <a:blip r:embed="rId2"/>
          <a:stretch/>
        </p:blipFill>
        <p:spPr>
          <a:xfrm>
            <a:off x="1692360" y="1844640"/>
            <a:ext cx="1824120" cy="23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3"/>
          <p:cNvPicPr/>
          <p:nvPr/>
        </p:nvPicPr>
        <p:blipFill>
          <a:blip r:embed="rId3"/>
          <a:stretch/>
        </p:blipFill>
        <p:spPr>
          <a:xfrm>
            <a:off x="3492360" y="1844640"/>
            <a:ext cx="1586160" cy="23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78"/>
          <p:cNvPicPr/>
          <p:nvPr/>
        </p:nvPicPr>
        <p:blipFill>
          <a:blip r:embed="rId4"/>
          <a:stretch/>
        </p:blipFill>
        <p:spPr>
          <a:xfrm>
            <a:off x="5076720" y="1844640"/>
            <a:ext cx="1871640" cy="23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Kolmar"/>
          <p:cNvPicPr/>
          <p:nvPr/>
        </p:nvPicPr>
        <p:blipFill>
          <a:blip r:embed="rId5"/>
          <a:stretch/>
        </p:blipFill>
        <p:spPr>
          <a:xfrm>
            <a:off x="108000" y="4221000"/>
            <a:ext cx="2663640" cy="2294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Speyer Dom"/>
          <p:cNvPicPr/>
          <p:nvPr/>
        </p:nvPicPr>
        <p:blipFill>
          <a:blip r:embed="rId6"/>
          <a:stretch/>
        </p:blipFill>
        <p:spPr>
          <a:xfrm>
            <a:off x="6948360" y="1844640"/>
            <a:ext cx="1944720" cy="237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7"/>
          <p:cNvPicPr/>
          <p:nvPr/>
        </p:nvPicPr>
        <p:blipFill>
          <a:blip r:embed="rId7"/>
          <a:stretch/>
        </p:blipFill>
        <p:spPr>
          <a:xfrm>
            <a:off x="2771640" y="4221000"/>
            <a:ext cx="2400480" cy="2303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Bremen15"/>
          <p:cNvPicPr/>
          <p:nvPr/>
        </p:nvPicPr>
        <p:blipFill>
          <a:blip r:embed="rId8"/>
          <a:stretch/>
        </p:blipFill>
        <p:spPr>
          <a:xfrm>
            <a:off x="5148360" y="4221000"/>
            <a:ext cx="2065320" cy="2303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beeld roland bremen"/>
          <p:cNvPicPr/>
          <p:nvPr/>
        </p:nvPicPr>
        <p:blipFill>
          <a:blip r:embed="rId9"/>
          <a:stretch/>
        </p:blipFill>
        <p:spPr>
          <a:xfrm>
            <a:off x="7164360" y="4221000"/>
            <a:ext cx="1728720" cy="23036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6000" y="0"/>
            <a:ext cx="8928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28. Nennt die deutsche Städte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Location_Germany_EU_Europe"/>
          <p:cNvPicPr/>
          <p:nvPr/>
        </p:nvPicPr>
        <p:blipFill>
          <a:blip r:embed="rId1"/>
          <a:stretch/>
        </p:blipFill>
        <p:spPr>
          <a:xfrm>
            <a:off x="179280" y="1052640"/>
            <a:ext cx="4572000" cy="5543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56908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2. Wo liegt Deutschland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859280" y="1052280"/>
            <a:ext cx="4176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a) im Norden Europ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b) im Zentrum Europ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c) im Süden Europ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d) in Amer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eine_b"/>
          <p:cNvPicPr/>
          <p:nvPr/>
        </p:nvPicPr>
        <p:blipFill>
          <a:blip r:embed="rId1"/>
          <a:stretch/>
        </p:blipFill>
        <p:spPr>
          <a:xfrm>
            <a:off x="0" y="1844640"/>
            <a:ext cx="1990800" cy="3038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Bonn3"/>
          <p:cNvPicPr/>
          <p:nvPr/>
        </p:nvPicPr>
        <p:blipFill>
          <a:blip r:embed="rId2"/>
          <a:stretch/>
        </p:blipFill>
        <p:spPr>
          <a:xfrm>
            <a:off x="1979640" y="1844640"/>
            <a:ext cx="2087640" cy="3024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GoetheCol"/>
          <p:cNvPicPr/>
          <p:nvPr/>
        </p:nvPicPr>
        <p:blipFill>
          <a:blip r:embed="rId3"/>
          <a:stretch/>
        </p:blipFill>
        <p:spPr>
          <a:xfrm>
            <a:off x="3995640" y="1844640"/>
            <a:ext cx="1871640" cy="3024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Busch, Wilhelm"/>
          <p:cNvPicPr/>
          <p:nvPr/>
        </p:nvPicPr>
        <p:blipFill>
          <a:blip r:embed="rId4"/>
          <a:stretch/>
        </p:blipFill>
        <p:spPr>
          <a:xfrm>
            <a:off x="5867280" y="1844640"/>
            <a:ext cx="1571760" cy="3024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5"/>
          <a:stretch/>
        </p:blipFill>
        <p:spPr>
          <a:xfrm>
            <a:off x="7308720" y="1844640"/>
            <a:ext cx="1835280" cy="3024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Grimm[1]"/>
          <p:cNvPicPr/>
          <p:nvPr/>
        </p:nvPicPr>
        <p:blipFill>
          <a:blip r:embed="rId6"/>
          <a:stretch/>
        </p:blipFill>
        <p:spPr>
          <a:xfrm>
            <a:off x="0" y="448164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13"/>
          <p:cNvPicPr/>
          <p:nvPr/>
        </p:nvPicPr>
        <p:blipFill>
          <a:blip r:embed="rId7"/>
          <a:stretch/>
        </p:blipFill>
        <p:spPr>
          <a:xfrm>
            <a:off x="3132000" y="4508640"/>
            <a:ext cx="1575000" cy="2349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Sigmund Freud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43280" y="4508640"/>
            <a:ext cx="1297080" cy="2349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Sophie Scholl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857920" y="4508640"/>
            <a:ext cx="1738440" cy="2349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Katharina von Bora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383600" y="4508640"/>
            <a:ext cx="1760400" cy="2349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29. Nennt die berühmte Menschen Deutschland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91"/>
          <p:cNvPicPr/>
          <p:nvPr/>
        </p:nvPicPr>
        <p:blipFill>
          <a:blip r:embed="rId1"/>
          <a:stretch/>
        </p:blipFill>
        <p:spPr>
          <a:xfrm>
            <a:off x="0" y="1844640"/>
            <a:ext cx="2247840" cy="2247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104"/>
          <p:cNvPicPr/>
          <p:nvPr/>
        </p:nvPicPr>
        <p:blipFill>
          <a:blip r:embed="rId2"/>
          <a:stretch/>
        </p:blipFill>
        <p:spPr>
          <a:xfrm>
            <a:off x="2195640" y="184464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102"/>
          <p:cNvPicPr/>
          <p:nvPr/>
        </p:nvPicPr>
        <p:blipFill>
          <a:blip r:embed="rId3"/>
          <a:stretch/>
        </p:blipFill>
        <p:spPr>
          <a:xfrm>
            <a:off x="7981920" y="0"/>
            <a:ext cx="1162080" cy="1076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21"/>
          <p:cNvPicPr/>
          <p:nvPr/>
        </p:nvPicPr>
        <p:blipFill>
          <a:blip r:embed="rId4"/>
          <a:stretch/>
        </p:blipFill>
        <p:spPr>
          <a:xfrm>
            <a:off x="0" y="4076640"/>
            <a:ext cx="2182680" cy="2781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18"/>
          <p:cNvPicPr/>
          <p:nvPr/>
        </p:nvPicPr>
        <p:blipFill>
          <a:blip r:embed="rId5"/>
          <a:stretch/>
        </p:blipFill>
        <p:spPr>
          <a:xfrm>
            <a:off x="4643280" y="1844640"/>
            <a:ext cx="2449800" cy="2305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18"/>
          <p:cNvPicPr/>
          <p:nvPr/>
        </p:nvPicPr>
        <p:blipFill>
          <a:blip r:embed="rId6"/>
          <a:stretch/>
        </p:blipFill>
        <p:spPr>
          <a:xfrm>
            <a:off x="2124000" y="4076640"/>
            <a:ext cx="2193840" cy="2781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759"/>
          <p:cNvPicPr/>
          <p:nvPr/>
        </p:nvPicPr>
        <p:blipFill>
          <a:blip r:embed="rId7"/>
          <a:stretch/>
        </p:blipFill>
        <p:spPr>
          <a:xfrm>
            <a:off x="4284720" y="4076640"/>
            <a:ext cx="2374920" cy="2781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49"/>
          <p:cNvPicPr/>
          <p:nvPr/>
        </p:nvPicPr>
        <p:blipFill>
          <a:blip r:embed="rId8"/>
          <a:stretch/>
        </p:blipFill>
        <p:spPr>
          <a:xfrm>
            <a:off x="6659640" y="4076640"/>
            <a:ext cx="2484360" cy="2781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6"/>
          <p:cNvPicPr/>
          <p:nvPr/>
        </p:nvPicPr>
        <p:blipFill>
          <a:blip r:embed="rId9"/>
          <a:stretch/>
        </p:blipFill>
        <p:spPr>
          <a:xfrm>
            <a:off x="7020000" y="1844640"/>
            <a:ext cx="2124000" cy="2232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30. Nennt die berühmte Sehenswürdigkeiten Deutschland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карта Германии"/>
          <p:cNvPicPr/>
          <p:nvPr/>
        </p:nvPicPr>
        <p:blipFill>
          <a:blip r:embed="rId1"/>
          <a:stretch/>
        </p:blipFill>
        <p:spPr>
          <a:xfrm>
            <a:off x="0" y="1484280"/>
            <a:ext cx="4349880" cy="5373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086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3. Deutschland hat 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0" y="1773000"/>
            <a:ext cx="4176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10 Nachbarlä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8 Nachbarlä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11 Nachbarlä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9 Nachbarlä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"/>
          <p:cNvPicPr/>
          <p:nvPr/>
        </p:nvPicPr>
        <p:blipFill>
          <a:blip r:embed="rId1"/>
          <a:stretch/>
        </p:blipFill>
        <p:spPr>
          <a:xfrm>
            <a:off x="108000" y="1125360"/>
            <a:ext cx="4392720" cy="5732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4. Deutschland besteht aus 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0" y="1844640"/>
            <a:ext cx="417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16 Bundeslä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16 Kanto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16 Bundesrepubli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16 Halbkanto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"/>
          <p:cNvPicPr/>
          <p:nvPr/>
        </p:nvPicPr>
        <p:blipFill>
          <a:blip r:embed="rId1"/>
          <a:stretch/>
        </p:blipFill>
        <p:spPr>
          <a:xfrm>
            <a:off x="108000" y="1413000"/>
            <a:ext cx="3362400" cy="221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11"/>
          <p:cNvPicPr/>
          <p:nvPr/>
        </p:nvPicPr>
        <p:blipFill>
          <a:blip r:embed="rId2"/>
          <a:stretch/>
        </p:blipFill>
        <p:spPr>
          <a:xfrm>
            <a:off x="5796000" y="1341360"/>
            <a:ext cx="3203640" cy="2432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Bonn, Rathaus"/>
          <p:cNvPicPr/>
          <p:nvPr/>
        </p:nvPicPr>
        <p:blipFill>
          <a:blip r:embed="rId3"/>
          <a:stretch/>
        </p:blipFill>
        <p:spPr>
          <a:xfrm>
            <a:off x="108000" y="4437000"/>
            <a:ext cx="3344760" cy="2263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hamburg"/>
          <p:cNvPicPr/>
          <p:nvPr/>
        </p:nvPicPr>
        <p:blipFill>
          <a:blip r:embed="rId4"/>
          <a:stretch/>
        </p:blipFill>
        <p:spPr>
          <a:xfrm>
            <a:off x="5796000" y="4508640"/>
            <a:ext cx="3220920" cy="2203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978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5.Die Hauptstadt Deutschlands ist…</a:t>
            </a:r>
            <a:r>
              <a:rPr b="0" lang="de-DE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26920" y="907920"/>
            <a:ext cx="208944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a) Berl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6378120" y="836640"/>
            <a:ext cx="2517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b) München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952920" y="3933720"/>
            <a:ext cx="167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c) Bonn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6090840" y="4005360"/>
            <a:ext cx="2547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d) Hamburg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73"/>
          <p:cNvPicPr/>
          <p:nvPr/>
        </p:nvPicPr>
        <p:blipFill>
          <a:blip r:embed="rId1"/>
          <a:stretch/>
        </p:blipFill>
        <p:spPr>
          <a:xfrm>
            <a:off x="0" y="1844640"/>
            <a:ext cx="3059280" cy="2295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74"/>
          <p:cNvPicPr/>
          <p:nvPr/>
        </p:nvPicPr>
        <p:blipFill>
          <a:blip r:embed="rId2"/>
          <a:stretch/>
        </p:blipFill>
        <p:spPr>
          <a:xfrm>
            <a:off x="1187280" y="4221000"/>
            <a:ext cx="2800440" cy="2335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6. Wann fiel die Berliner Mauer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995280" y="1915920"/>
            <a:ext cx="5040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am 9. November 198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am 3. Oktober 19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am 13. August 199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am 16. November 199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wien011"/>
          <p:cNvPicPr/>
          <p:nvPr/>
        </p:nvPicPr>
        <p:blipFill>
          <a:blip r:embed="rId1"/>
          <a:stretch/>
        </p:blipFill>
        <p:spPr>
          <a:xfrm>
            <a:off x="0" y="1844640"/>
            <a:ext cx="3305160" cy="2479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Австрия13"/>
          <p:cNvPicPr/>
          <p:nvPr/>
        </p:nvPicPr>
        <p:blipFill>
          <a:blip r:embed="rId2"/>
          <a:stretch/>
        </p:blipFill>
        <p:spPr>
          <a:xfrm>
            <a:off x="6610320" y="3479760"/>
            <a:ext cx="2533680" cy="33782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ahoma"/>
              </a:rPr>
              <a:t>7. Wie heißt die Hauptstadt Österreich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419640" y="1844640"/>
            <a:ext cx="302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Bon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W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Gen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ahoma"/>
              </a:rPr>
              <a:t>Salzbu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6"/>
          <p:cNvPicPr/>
          <p:nvPr/>
        </p:nvPicPr>
        <p:blipFill>
          <a:blip r:embed="rId1"/>
          <a:stretch/>
        </p:blipFill>
        <p:spPr>
          <a:xfrm>
            <a:off x="108000" y="1844640"/>
            <a:ext cx="3600360" cy="4869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8. Die Staatsfarben Deutschlands </a:t>
            </a: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Tahoma"/>
              </a:rPr>
              <a:t>sind 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995280" y="1916280"/>
            <a:ext cx="49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weiß-blau-r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schwarz-blau-r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schwarz-rot-g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ahoma"/>
              </a:rPr>
              <a:t>rot-gelb-bl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6:50:17Z</dcterms:created>
  <dc:creator>Глушко</dc:creator>
  <dc:description/>
  <dc:language>en-US</dc:language>
  <cp:lastModifiedBy>Ильдар</cp:lastModifiedBy>
  <dcterms:modified xsi:type="dcterms:W3CDTF">2016-02-12T12:07:13Z</dcterms:modified>
  <cp:revision>6</cp:revision>
  <dc:subject/>
  <dc:title>Landeskundliche Quiz</dc:title>
</cp:coreProperties>
</file>