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2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0.jpeg" ContentType="image/jpeg"/>
  <Override PartName="/ppt/media/image12.png" ContentType="image/png"/>
  <Override PartName="/ppt/media/image34.jpeg" ContentType="image/jpeg"/>
  <Override PartName="/ppt/media/image40.png" ContentType="image/png"/>
  <Override PartName="/ppt/media/image11.jpeg" ContentType="image/jpeg"/>
  <Override PartName="/ppt/media/image9.jpeg" ContentType="image/jpeg"/>
  <Override PartName="/ppt/media/image44.jpeg" ContentType="image/jpeg"/>
  <Override PartName="/ppt/media/image45.jpeg" ContentType="image/jpeg"/>
  <Override PartName="/ppt/media/image3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46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4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27.png" ContentType="image/png"/>
  <Override PartName="/ppt/media/image3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AE0E-1BAA-414D-B06D-6E64DF51C6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F66B5-E0A7-4389-8723-21164595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089F9-0B63-4561-AADC-14ACB11F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51E3-DB27-4954-B491-6060B79C62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79E7-E3F0-4962-A7AD-13A3B705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28713-C763-4A4D-895B-F05E4741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86F6F-267F-4421-B572-DF90C5F4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A1963-8A5B-464A-8B3B-9CC3AF85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206640"/>
            <a:ext cx="8226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02E83-7ACE-4185-B75E-8F64D704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6B9A1-4A59-4016-9039-6424FE8B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0AD0C-C087-4BD9-A23C-587AC9C4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ECBF3-3B93-4BF1-97D8-0BCAED56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C9C7B1-8DB4-491D-834D-3499314F14A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210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КРУПНЕЙШИЕ НЕМЕЦКИ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3357720" y="2500200"/>
            <a:ext cx="2428560" cy="1643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357720" y="1214280"/>
            <a:ext cx="43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mbria"/>
              </a:rPr>
              <a:t>ГАМБУРГ</a:t>
            </a: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428760" y="1857240"/>
            <a:ext cx="2428920" cy="171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6286680" y="2786040"/>
            <a:ext cx="2286000" cy="157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5"/>
          <a:stretch/>
        </p:blipFill>
        <p:spPr>
          <a:xfrm>
            <a:off x="7500960" y="1500120"/>
            <a:ext cx="857160" cy="12002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1143000" y="4429080"/>
            <a:ext cx="7500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Вольный и ганзейский город Га́мбург (нем. Freie und Hansestadt Hamburg) — как город-государство является одной из 16 земель Федеративной Республики Германия. Это второй по величине город в Германии (после Берлина), седьмой по величине в Европейском союзе и самый большой по численности населения город в Европейском союзе, не являющийся столицей государства. В 2008 году население города составляло 1 773 218 жител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Гамбург один из самых больших портовых городов в Европ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57200" y="2476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КРУПНЕЙШИЕ НЕМЕЦКИ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3429000" y="107172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ДРЕЗД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1643040" y="5072040"/>
            <a:ext cx="200016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928800" y="3214800"/>
            <a:ext cx="2214360" cy="1785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4"/>
          <a:stretch/>
        </p:blipFill>
        <p:spPr>
          <a:xfrm>
            <a:off x="571680" y="1357200"/>
            <a:ext cx="2000160" cy="1571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>
            <a:off x="3786120" y="1071720"/>
            <a:ext cx="1285920" cy="1071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3714840" y="2071800"/>
            <a:ext cx="4786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Дре́зден (нем. Dresden) — город в Германии, административный центр Саксонии, на реке Эльбе примерно в двадцати километрах от границы с Чехией. Является одним из крупнейших центров промышленности, транспорта и культуры Германии. Население 512 458 чел. (2009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Центр города — исторический район Альтштадт (Старый Город) — расположен на левом берегу Эльб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В немецкой литературе Дрезден получил название «Флоренция на Эльбе» (нем. Elb-Florenz), но и за рубежом город широко известен своими памятниками архитектуры в стиле барокко, великолепными собраниями живописи и других произведений искусст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10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КРУПНЕЙШИЕ НЕМЕЦКИ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2786040" y="135720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БРЕМ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00040" y="2071800"/>
            <a:ext cx="3071880" cy="250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6000840" y="128592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4"/>
          <a:stretch/>
        </p:blipFill>
        <p:spPr>
          <a:xfrm>
            <a:off x="6643800" y="3357720"/>
            <a:ext cx="1857240" cy="2639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5"/>
          <a:stretch/>
        </p:blipFill>
        <p:spPr>
          <a:xfrm>
            <a:off x="4143240" y="2643120"/>
            <a:ext cx="1428840" cy="17146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928800" y="4714920"/>
            <a:ext cx="542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Бре́мен (нем. Bremen) — город в Германии. Входит вместе с Бремерхафеном в состав земли Бремен. Бремен с населением в приблизительно 550 тысяч жителей является десятым по величине городом Герма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57200" y="210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КРУПНЕЙШИЕ НЕМЕЦКИ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874880" y="1285920"/>
            <a:ext cx="25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МЮНХ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500040" y="2000160"/>
            <a:ext cx="1500120" cy="1571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2286000" y="2071800"/>
            <a:ext cx="628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Мюнхен славится своими пивоваренными традициями. В городе находятся шесть крупных пивоварен, которые снабжают пивом знаменитый на весь мир Октоберфест (нем. Oktoberfest) — праздник пива, кренделей, жареных курочек и каруселей, ежегодно проводящийся в конце сентября — начале октября на Терезином лу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5786280" y="4286160"/>
            <a:ext cx="2428920" cy="1571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4"/>
          <a:stretch/>
        </p:blipFill>
        <p:spPr>
          <a:xfrm>
            <a:off x="3071880" y="5000760"/>
            <a:ext cx="2286000" cy="1357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5"/>
          <a:stretch/>
        </p:blipFill>
        <p:spPr>
          <a:xfrm>
            <a:off x="500040" y="4143240"/>
            <a:ext cx="2286000" cy="1500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210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КРУПНЕЙШИЕ НЕМЕЦКИ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6429240" y="1143000"/>
            <a:ext cx="21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КЁЛЬ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7500960" y="2928960"/>
            <a:ext cx="1285920" cy="1500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428760" y="3214800"/>
            <a:ext cx="1928520" cy="1571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4"/>
          <a:stretch/>
        </p:blipFill>
        <p:spPr>
          <a:xfrm>
            <a:off x="1214280" y="4929120"/>
            <a:ext cx="200052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5"/>
          <a:stretch/>
        </p:blipFill>
        <p:spPr>
          <a:xfrm>
            <a:off x="1071720" y="1428840"/>
            <a:ext cx="2071440" cy="1571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3357720" y="1720800"/>
            <a:ext cx="3857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Кёльн является четвёртым по населению и третьим по площади городом Германии, а также одним из крупнейших экономических и культурных центров страны. «Метрополия на Рейне», как часто называют Кёльн, — это один из старейших городов Германии, который играл значительную роль в истории Европы на протяжении всего своего существования, начиная с Римской эпохи. Кёльн знаменит своим главным храмом — Кёльнским собором, одним из главных католических храмов Герма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701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1785960" y="2643120"/>
            <a:ext cx="5429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mbria"/>
              </a:rPr>
              <a:t>AUF WIEDERSEHEN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mbria"/>
              </a:rPr>
              <a:t>Alles Gute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1440" y="4680"/>
            <a:ext cx="914256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286160" cy="7229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"/>
          <a:stretch/>
        </p:blipFill>
        <p:spPr>
          <a:xfrm>
            <a:off x="4284720" y="0"/>
            <a:ext cx="4836960" cy="73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395280" y="189000"/>
            <a:ext cx="8244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Географическое положе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148360" y="765000"/>
            <a:ext cx="39956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рмания граничит на севере с Данией, на востоке с Польшей и Чехией, на юге с Австрией и Швейцарией, и на западе с Францией, Люксембургом, Бельгией и Нидерландами.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539640" y="260280"/>
            <a:ext cx="8425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dwardian Script ITC"/>
              </a:rPr>
              <a:t>Немецкий язык принадлежит к западногерманской подгруппе германских языков и является официальным государственным языком таких государств, как Федеративная Республика Германия (около 76-77 млн говорящих), Австрия (7,5 млн человек), Лихтенштейн, а также одним из официальных языков Швейцарии (4,6 млн говорящих, или 72,4 % населения), Люксембурга и Бельгии. Значительные группы немецкоязычного населения проживают также во Франции, Италии, США, Канаде, Бразилии, Аргентине, России, Киргизии,Польше и Румынии, однако последние не относятся к группе немецкоязычных стра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468360" y="47628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 ЯЗЫ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611280" y="1062000"/>
            <a:ext cx="7705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, востребованный в Европе и среди тех, кто интересуется историей 20 века. Немецкий используют в деловом общении (Германия оказывает значимое экономическое влияние на страны Еврозоны). Большинство молодых немцев сегодня знает английский, население страны уменьшается: вероятно, немецкий продолжит сдавать свои позиции. Язык похож по сложности изучения, хотя его грамматика сложне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-360360" y="-1159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503280" y="333360"/>
            <a:ext cx="89121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Добро пожаловать в Германию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808360" y="1295280"/>
            <a:ext cx="525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4c"/>
                </a:solidFill>
                <a:latin typeface="Arial"/>
              </a:rPr>
              <a:t>WILLKOMMEM IN DEUTSCHLAN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4492080" y="5740560"/>
            <a:ext cx="4681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 президент Германии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Йоахим Гау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КРУПНЕЙШИЕ НЕМЕЦКИ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3429000" y="100008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mbria"/>
              </a:rPr>
              <a:t>БЕРЛ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143080" y="5214960"/>
            <a:ext cx="1714680" cy="1190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214200" y="4357800"/>
            <a:ext cx="1857600" cy="1071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4"/>
          <a:stretch/>
        </p:blipFill>
        <p:spPr>
          <a:xfrm>
            <a:off x="2143080" y="2786040"/>
            <a:ext cx="1285920" cy="171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5"/>
          <a:stretch/>
        </p:blipFill>
        <p:spPr>
          <a:xfrm>
            <a:off x="357120" y="2214720"/>
            <a:ext cx="1643040" cy="128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6"/>
          <a:stretch/>
        </p:blipFill>
        <p:spPr>
          <a:xfrm>
            <a:off x="2214720" y="1071720"/>
            <a:ext cx="1143000" cy="1409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4071960" y="1643040"/>
            <a:ext cx="42861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Берли́н (нем. Berlin) — столица Германии, самый большой город Германии как по количеству населения, так и по площади. После Лондона Берлин — второй по количеству населения и пятый по площади город Евросоюз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Берлин — одна из 16 земель в составе Федеративной Республики Германия. Город расположен на берегах рек Шпрее (с этим связано «прозвище» Берлина «Spree-Athen» — «Афины на Шпрее») и Хафель в центре федеральной земли Бранденбург, частью которой он не является (с 1920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95280" y="1197000"/>
            <a:ext cx="8280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ранденбургские воро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единственные сохранившиеся городские ворота Берлина, расположены в центре германской столицы на Парижской площади. Ворота были построены в 1788-1791 году по проекту архитектора Кар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тгарда Лангганса в стиле берлинского классицизма и первоначально назывались - Ворота мира. Они символизируют воссоединение Восточного и Западного Берлина. Построенные в XVIII веке. Бранденбургские ворота – одна из самых известных  достопримечательностей Берл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>
            <a:off x="444600" y="3573360"/>
            <a:ext cx="3649680" cy="273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4"/>
          <a:stretch/>
        </p:blipFill>
        <p:spPr>
          <a:xfrm>
            <a:off x="4551480" y="3573360"/>
            <a:ext cx="41558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3203640" y="2795760"/>
            <a:ext cx="2808360" cy="3495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4"/>
          <a:stretch/>
        </p:blipFill>
        <p:spPr>
          <a:xfrm>
            <a:off x="469800" y="2795760"/>
            <a:ext cx="2638440" cy="3495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324000" y="620640"/>
            <a:ext cx="8424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рлинская телебаш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ысотой в 368 метров является самым высоким сооружением Германии, признана четвертой по высоте башней Европы. И сегодня этот символ столицы Германии считается одной из самых популярных достопримечательностей Берлина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5"/>
          <a:stretch/>
        </p:blipFill>
        <p:spPr>
          <a:xfrm>
            <a:off x="6099120" y="4375080"/>
            <a:ext cx="2544840" cy="1911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6"/>
          <a:stretch/>
        </p:blipFill>
        <p:spPr>
          <a:xfrm>
            <a:off x="6099120" y="2589120"/>
            <a:ext cx="2544840" cy="1695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5:34:06Z</dcterms:created>
  <dc:creator>User</dc:creator>
  <dc:description/>
  <dc:language>en-US</dc:language>
  <cp:lastModifiedBy>Ильдар</cp:lastModifiedBy>
  <dcterms:modified xsi:type="dcterms:W3CDTF">2016-02-12T12:06:12Z</dcterms:modified>
  <cp:revision>20</cp:revision>
  <dc:subject/>
  <dc:title>Слайд 1</dc:title>
</cp:coreProperties>
</file>