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13.jpeg" ContentType="image/jpeg"/>
  <Override PartName="/ppt/media/image27.jpeg" ContentType="image/jpeg"/>
  <Override PartName="/ppt/media/image8.wmf" ContentType="image/x-wmf"/>
  <Override PartName="/ppt/media/image28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6.wmf" ContentType="image/x-wmf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EA7-B641-476D-B8FF-99B5D4744C8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485E-C1DA-4819-9818-38EB15A014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743-245C-4FE4-BEC4-30DD964D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B7C-4CEA-4552-A4A1-F866C444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8F1-D82F-40E0-897A-E75EEE1C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481-1978-415C-9DB2-4986E68E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ECBC-2777-4E40-9D0C-583F3EF4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6735-12B0-4BE1-8108-BDC29E68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0DB8-61BD-4499-97C0-2B7100E1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14A5-186C-4DE8-A081-11393A57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155F-53F6-4F30-86F2-9C01011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7189-8ECB-40E0-BF30-B07F1A3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2850-0C0F-451E-B851-94A3647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C58-22DC-4CFD-A184-4B871255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458E-A820-49FC-B99A-19BF21F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EB6-E060-42A7-9D79-67FEF8E7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DC1C-7087-408E-BE6C-8E944C5E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B054-D47C-4E8C-939E-0E04BF19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4FCC-E196-4C7E-B66A-EE1C82B6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1C0-6CFF-44D9-9867-4EC1D03B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437-D357-46E3-BF4D-83698A36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821-EAAA-4212-9574-C8D737A1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29F-6736-4C1F-9AB4-AEDDEFAA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9E9-4829-4C01-94C4-E75F389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043-2AB5-46F8-83E5-3F380E9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965-C2E1-4E41-BED1-80931B17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54B8-D510-456D-BA7A-0CD5A919DA3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B5D-98D9-42A3-BB6F-D20DE93C7E4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D:\Мои фото\P1000110.JPG"/>
          <p:cNvPicPr/>
          <p:nvPr/>
        </p:nvPicPr>
        <p:blipFill>
          <a:blip r:embed="rId1"/>
          <a:stretch/>
        </p:blipFill>
        <p:spPr>
          <a:xfrm>
            <a:off x="357120" y="2060640"/>
            <a:ext cx="3306960" cy="2936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3963960" y="2205000"/>
            <a:ext cx="496584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nstantia"/>
              </a:rPr>
              <a:t>Применение современных технологий как средство мотивации к изучению иностранного языка на среднем и старшем уров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079880" y="4503600"/>
            <a:ext cx="47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Пахомова Г.П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учитель немецкого язы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МБОУ «Репьевская СОШ»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95640" y="6165720"/>
            <a:ext cx="47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прель, 2014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187280" y="200160"/>
            <a:ext cx="69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Районный семинар учителей иностранного язы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етод проект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ein Werbetext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eine Reklame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) (тема «Путешествие по Германии 8 кл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Deutschlands </a:t>
            </a:r>
            <a:r>
              <a:rPr b="0" lang="de-DE" sz="2800" spc="-1" strike="noStrike">
                <a:solidFill>
                  <a:srgbClr val="002060"/>
                </a:solidFill>
                <a:latin typeface="Tahoma"/>
              </a:rPr>
              <a:t>popul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ä</a:t>
            </a:r>
            <a:r>
              <a:rPr b="0" lang="de-DE" sz="2800" spc="-1" strike="noStrike">
                <a:solidFill>
                  <a:srgbClr val="002060"/>
                </a:solidFill>
                <a:latin typeface="Tahoma"/>
              </a:rPr>
              <a:t>rste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Reiseziele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(тема «Мы готовимся к путешествию в Германию» 8кл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de-DE" sz="2800" spc="-1" strike="noStrike">
                <a:solidFill>
                  <a:srgbClr val="002060"/>
                </a:solidFill>
                <a:latin typeface="Tahoma"/>
              </a:rPr>
              <a:t>Schön war es im Sommer (6, 7, 8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кл</a:t>
            </a:r>
            <a:r>
              <a:rPr b="0" lang="de-DE" sz="2800" spc="-1" strike="noStrike">
                <a:solidFill>
                  <a:srgbClr val="002060"/>
                </a:solidFill>
                <a:latin typeface="Tahoma"/>
              </a:rPr>
              <a:t>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de-DE" sz="2800" spc="-1" strike="noStrike">
                <a:solidFill>
                  <a:srgbClr val="002060"/>
                </a:solidFill>
                <a:latin typeface="Tahoma"/>
              </a:rPr>
              <a:t>Oster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(3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кл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Tahoma"/>
              </a:rPr>
              <a:t>- Meine Traumschule (6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кл</a:t>
            </a:r>
            <a:r>
              <a:rPr b="0" lang="de-DE" sz="2800" spc="-1" strike="noStrike">
                <a:solidFill>
                  <a:srgbClr val="002060"/>
                </a:solidFill>
                <a:latin typeface="Tahoma"/>
              </a:rPr>
              <a:t>.)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и д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Администратор\Desktop\Фото\P1000428.JPG"/>
          <p:cNvPicPr/>
          <p:nvPr/>
        </p:nvPicPr>
        <p:blipFill>
          <a:blip r:embed="rId1"/>
          <a:stretch/>
        </p:blipFill>
        <p:spPr>
          <a:xfrm>
            <a:off x="179280" y="404640"/>
            <a:ext cx="3014640" cy="223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Администратор\Desktop\Фото\P1000433.JPG"/>
          <p:cNvPicPr/>
          <p:nvPr/>
        </p:nvPicPr>
        <p:blipFill>
          <a:blip r:embed="rId2"/>
          <a:stretch/>
        </p:blipFill>
        <p:spPr>
          <a:xfrm>
            <a:off x="3419640" y="404640"/>
            <a:ext cx="2089080" cy="2957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Администратор\Desktop\Фото\P1000426.JPG"/>
          <p:cNvPicPr/>
          <p:nvPr/>
        </p:nvPicPr>
        <p:blipFill>
          <a:blip r:embed="rId3"/>
          <a:stretch/>
        </p:blipFill>
        <p:spPr>
          <a:xfrm>
            <a:off x="5724360" y="404640"/>
            <a:ext cx="3260880" cy="241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Администратор\Desktop\Фото\P1000432.JPG"/>
          <p:cNvPicPr/>
          <p:nvPr/>
        </p:nvPicPr>
        <p:blipFill>
          <a:blip r:embed="rId4"/>
          <a:stretch/>
        </p:blipFill>
        <p:spPr>
          <a:xfrm>
            <a:off x="179280" y="3168720"/>
            <a:ext cx="2336760" cy="3267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Администратор\Desktop\Фото\P1000418.JPG"/>
          <p:cNvPicPr/>
          <p:nvPr/>
        </p:nvPicPr>
        <p:blipFill>
          <a:blip r:embed="rId5"/>
          <a:stretch/>
        </p:blipFill>
        <p:spPr>
          <a:xfrm>
            <a:off x="6443640" y="3110040"/>
            <a:ext cx="2373480" cy="33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Администратор\Desktop\Фото\P1000419.JPG"/>
          <p:cNvPicPr/>
          <p:nvPr/>
        </p:nvPicPr>
        <p:blipFill>
          <a:blip r:embed="rId6"/>
          <a:stretch/>
        </p:blipFill>
        <p:spPr>
          <a:xfrm>
            <a:off x="2790720" y="3573360"/>
            <a:ext cx="3332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Администратор\Desktop\Фото\P1000425.JPG"/>
          <p:cNvPicPr/>
          <p:nvPr/>
        </p:nvPicPr>
        <p:blipFill>
          <a:blip r:embed="rId1"/>
          <a:stretch/>
        </p:blipFill>
        <p:spPr>
          <a:xfrm>
            <a:off x="152280" y="4637160"/>
            <a:ext cx="2943360" cy="213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Администратор\Desktop\Фото\P1000404.JPG"/>
          <p:cNvPicPr/>
          <p:nvPr/>
        </p:nvPicPr>
        <p:blipFill>
          <a:blip r:embed="rId2"/>
          <a:stretch/>
        </p:blipFill>
        <p:spPr>
          <a:xfrm>
            <a:off x="100080" y="2349360"/>
            <a:ext cx="2970000" cy="2146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Users\Администратор\Desktop\Фото\P1000422.JPG"/>
          <p:cNvPicPr/>
          <p:nvPr/>
        </p:nvPicPr>
        <p:blipFill>
          <a:blip r:embed="rId3"/>
          <a:stretch/>
        </p:blipFill>
        <p:spPr>
          <a:xfrm>
            <a:off x="179280" y="115920"/>
            <a:ext cx="2916360" cy="211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Users\Администратор\Desktop\Фото\P1000449.JPG"/>
          <p:cNvPicPr/>
          <p:nvPr/>
        </p:nvPicPr>
        <p:blipFill>
          <a:blip r:embed="rId4"/>
          <a:stretch/>
        </p:blipFill>
        <p:spPr>
          <a:xfrm>
            <a:off x="6084720" y="158760"/>
            <a:ext cx="2843280" cy="2076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Администратор\Desktop\Фото\P1000454.JPG"/>
          <p:cNvPicPr/>
          <p:nvPr/>
        </p:nvPicPr>
        <p:blipFill>
          <a:blip r:embed="rId5"/>
          <a:stretch/>
        </p:blipFill>
        <p:spPr>
          <a:xfrm>
            <a:off x="6097680" y="2359080"/>
            <a:ext cx="287820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Users\Администратор\Desktop\Фото\P1000448.JPG"/>
          <p:cNvPicPr/>
          <p:nvPr/>
        </p:nvPicPr>
        <p:blipFill>
          <a:blip r:embed="rId6"/>
          <a:stretch/>
        </p:blipFill>
        <p:spPr>
          <a:xfrm>
            <a:off x="6084720" y="4651200"/>
            <a:ext cx="2822760" cy="211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:\Users\Администратор\Desktop\Фото\P1000437.JPG"/>
          <p:cNvPicPr/>
          <p:nvPr/>
        </p:nvPicPr>
        <p:blipFill>
          <a:blip r:embed="rId7"/>
          <a:stretch/>
        </p:blipFill>
        <p:spPr>
          <a:xfrm>
            <a:off x="3691080" y="297000"/>
            <a:ext cx="1963440" cy="2852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C:\Users\Администратор\Desktop\Фото\P1000453.JPG"/>
          <p:cNvPicPr/>
          <p:nvPr/>
        </p:nvPicPr>
        <p:blipFill>
          <a:blip r:embed="rId8"/>
          <a:stretch/>
        </p:blipFill>
        <p:spPr>
          <a:xfrm>
            <a:off x="3728880" y="3749760"/>
            <a:ext cx="19321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Администратор\Desktop\Фото\P1000413.JPG"/>
          <p:cNvPicPr/>
          <p:nvPr/>
        </p:nvPicPr>
        <p:blipFill>
          <a:blip r:embed="rId1"/>
          <a:stretch/>
        </p:blipFill>
        <p:spPr>
          <a:xfrm>
            <a:off x="395280" y="534960"/>
            <a:ext cx="3554280" cy="266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Администратор\Desktop\Фото\P1000451.JPG"/>
          <p:cNvPicPr/>
          <p:nvPr/>
        </p:nvPicPr>
        <p:blipFill>
          <a:blip r:embed="rId2"/>
          <a:stretch/>
        </p:blipFill>
        <p:spPr>
          <a:xfrm>
            <a:off x="5219640" y="534960"/>
            <a:ext cx="3600360" cy="2665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Администратор\Desktop\Фото\P1000456.JPG"/>
          <p:cNvPicPr/>
          <p:nvPr/>
        </p:nvPicPr>
        <p:blipFill>
          <a:blip r:embed="rId3"/>
          <a:stretch/>
        </p:blipFill>
        <p:spPr>
          <a:xfrm>
            <a:off x="395280" y="3703680"/>
            <a:ext cx="3554280" cy="2495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Users\Администратор\Desktop\Фото\P1000458.JPG"/>
          <p:cNvPicPr/>
          <p:nvPr/>
        </p:nvPicPr>
        <p:blipFill>
          <a:blip r:embed="rId4"/>
          <a:stretch/>
        </p:blipFill>
        <p:spPr>
          <a:xfrm>
            <a:off x="5219640" y="3701880"/>
            <a:ext cx="3457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9328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Европейский День иностранных язык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Picture 4" descr="C:\Users\Администратор\Desktop\Фото\IMG_0800.JPG"/>
          <p:cNvPicPr/>
          <p:nvPr/>
        </p:nvPicPr>
        <p:blipFill>
          <a:blip r:embed="rId1"/>
          <a:stretch/>
        </p:blipFill>
        <p:spPr>
          <a:xfrm>
            <a:off x="539640" y="98100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Администратор\Desktop\Фото\IMG_0829.JPG"/>
          <p:cNvPicPr/>
          <p:nvPr/>
        </p:nvPicPr>
        <p:blipFill>
          <a:blip r:embed="rId2"/>
          <a:stretch/>
        </p:blipFill>
        <p:spPr>
          <a:xfrm>
            <a:off x="4881600" y="98100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:\Users\Администратор\Desktop\Фото\IMG_0833.JPG"/>
          <p:cNvPicPr/>
          <p:nvPr/>
        </p:nvPicPr>
        <p:blipFill>
          <a:blip r:embed="rId3"/>
          <a:stretch/>
        </p:blipFill>
        <p:spPr>
          <a:xfrm>
            <a:off x="539640" y="386064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:\Users\Администратор\Desktop\Фото\IMG_0845.JPG"/>
          <p:cNvPicPr/>
          <p:nvPr/>
        </p:nvPicPr>
        <p:blipFill>
          <a:blip r:embed="rId4"/>
          <a:stretch/>
        </p:blipFill>
        <p:spPr>
          <a:xfrm>
            <a:off x="4908600" y="393228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76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внеурочной деятельности обучающихся по учебному предмету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197000"/>
          <a:ext cx="8785080" cy="5176800"/>
        </p:xfrm>
        <a:graphic>
          <a:graphicData uri="http://schemas.openxmlformats.org/drawingml/2006/table">
            <a:tbl>
              <a:tblPr/>
              <a:tblGrid>
                <a:gridCol w="1755720"/>
                <a:gridCol w="1757520"/>
                <a:gridCol w="1757160"/>
                <a:gridCol w="1757520"/>
                <a:gridCol w="1757160"/>
              </a:tblGrid>
              <a:tr h="160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Уровень участ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азвание олимпиад, научно-практических конференций, конкурсов, смотров, выставок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портивных соревновани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остижения учащихся (место, диплом, участие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2 уч.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российский конкурс Альбус по немецкому языку, организованный Институтом Развития Школьного 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фонова А. – лауреа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923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этап Всероссийской олимпиады школьник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призер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место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российский конкурс Мультитест по немецкому языку, организованный Институтом Развития Школьного 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08000" y="1052640"/>
          <a:ext cx="8785080" cy="5207040"/>
        </p:xfrm>
        <a:graphic>
          <a:graphicData uri="http://schemas.openxmlformats.org/drawingml/2006/table">
            <a:tbl>
              <a:tblPr/>
              <a:tblGrid>
                <a:gridCol w="934920"/>
                <a:gridCol w="1513080"/>
                <a:gridCol w="2822400"/>
                <a:gridCol w="1425600"/>
                <a:gridCol w="2089080"/>
              </a:tblGrid>
              <a:tr h="81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Уровень участ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азвание олимпиад, научно-практических конференций, конкурсов, смотров, выставок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портивных соревновани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остижения учащихся (место, диплом, участие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53972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российская предметная олимпиа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ентр поддержки талантливой молодеж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участн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 в регион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ев Русла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явкина Екатер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ева Диа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4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мпиада школьников по образовательному предмету «иностранный язык» «Учитель школы будущего» (ГБОУ ВПО г.Москва «Московский городскй педагогический университет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в очный ту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ый конкурс по иностранному языку «Коала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ожидаю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9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комиксов на немецком языке по сюжетам произведений Эриха Кестнера (кафедра НФ и МПНЯ ОГУ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за лучшую рабо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76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внеурочной деятельности обучающихся по учебному предмету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доровьесберегающие технологии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на видов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игровой деятельности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ревновательных момент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культминут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я, помогающие снимать усталость гла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ahoma"/>
              </a:rPr>
              <a:t>Спасибо  за   внимание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76960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Object 4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657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одержимое 7"/>
          <p:cNvSpPr/>
          <p:nvPr/>
        </p:nvSpPr>
        <p:spPr>
          <a:xfrm>
            <a:off x="1692360" y="2133720"/>
            <a:ext cx="7127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ехнология коммуникативного обучения иноязычной культур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• 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гровые технолог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• 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• 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• 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ект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одержимое 7"/>
          <p:cNvSpPr/>
          <p:nvPr/>
        </p:nvSpPr>
        <p:spPr>
          <a:xfrm>
            <a:off x="1150920" y="406440"/>
            <a:ext cx="70009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овременные технологии, применяемые   на уроках   немецкого язы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1"/>
          <a:stretch/>
        </p:blipFill>
        <p:spPr>
          <a:xfrm>
            <a:off x="396720" y="2205000"/>
            <a:ext cx="1295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1908000" y="549360"/>
            <a:ext cx="70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ndara"/>
              </a:rPr>
              <a:t>Технология коммуникативного обучения                       иноязычной культуре </a:t>
            </a: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i="1" lang="ru-RU" sz="1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Содержимое 7"/>
          <p:cNvSpPr/>
          <p:nvPr/>
        </p:nvSpPr>
        <p:spPr>
          <a:xfrm>
            <a:off x="539640" y="2162160"/>
            <a:ext cx="8353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45d00"/>
                </a:solidFill>
                <a:latin typeface="Arial"/>
              </a:rPr>
              <a:t>Формы работ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7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45d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оставление писем опис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•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оставление диалогов-расспро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•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диалогов - обмен мнения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•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онологов-рассуждений по тем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•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оммуникативные игры и так дале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Развитие коммуникативной компетенции письменной реч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619200" y="2060640"/>
            <a:ext cx="786600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619200" y="2106720"/>
            <a:ext cx="81295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2017440"/>
            <a:ext cx="84153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689040" y="260280"/>
            <a:ext cx="779148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813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89040" y="260280"/>
            <a:ext cx="7791480" cy="1176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835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3203640" y="620640"/>
            <a:ext cx="2736720" cy="947160"/>
          </a:xfrm>
          <a:prstGeom prst="rect">
            <a:avLst/>
          </a:prstGeom>
          <a:solidFill>
            <a:srgbClr val="ffff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ые технологии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203640" y="2924280"/>
            <a:ext cx="2736720" cy="3165840"/>
          </a:xfrm>
          <a:prstGeom prst="rect">
            <a:avLst/>
          </a:prstGeom>
          <a:solidFill>
            <a:srgbClr val="ffff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Игры на автоматизацию грамматических навы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Das Tor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антомим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Цепочк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Снежный ком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Бутылочк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24000" y="2583000"/>
            <a:ext cx="2736720" cy="2657520"/>
          </a:xfrm>
          <a:prstGeom prst="rect">
            <a:avLst/>
          </a:prstGeom>
          <a:solidFill>
            <a:srgbClr val="ffff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Игры на усвоение изученной лекси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Разберём портфель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tet mal!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антомим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072120" y="2614680"/>
            <a:ext cx="2892600" cy="3165840"/>
          </a:xfrm>
          <a:prstGeom prst="rect">
            <a:avLst/>
          </a:prstGeom>
          <a:solidFill>
            <a:srgbClr val="ffff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Игры на развитие навыков аудирования и говор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рием у врача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В магазине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На вокзале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Озвучь картинку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9" name="AutoShape 14"/>
          <p:cNvCxnSpPr/>
          <p:nvPr/>
        </p:nvCxnSpPr>
        <p:spPr>
          <a:xfrm flipH="1">
            <a:off x="1907640" y="1688760"/>
            <a:ext cx="1842480" cy="8643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0" name="AutoShape 15"/>
          <p:cNvCxnSpPr>
            <a:stCxn id="128" idx="0"/>
          </p:cNvCxnSpPr>
          <p:nvPr/>
        </p:nvCxnSpPr>
        <p:spPr>
          <a:xfrm flipH="1" flipV="1">
            <a:off x="5363640" y="1755360"/>
            <a:ext cx="2154960" cy="8596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AutoShape 16"/>
          <p:cNvCxnSpPr/>
          <p:nvPr/>
        </p:nvCxnSpPr>
        <p:spPr>
          <a:xfrm flipH="1">
            <a:off x="4571280" y="1574280"/>
            <a:ext cx="1080" cy="13503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ормационно-коммуникационные технолог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- урок с использованием мультимедийных презентаций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-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мпьютерное тестирован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- тестирование онлайн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- кроссворд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- видеоматериа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9308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Адреса сайтов с тестами по грамматике немецкого языка онлайн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2060"/>
              </a:solidFill>
              <a:latin typeface="Tahoma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588960" y="2692440"/>
            <a:ext cx="82090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3:35:52Z</dcterms:created>
  <dc:creator>Стас</dc:creator>
  <dc:description/>
  <dc:language>en-US</dc:language>
  <cp:lastModifiedBy>Ильдар</cp:lastModifiedBy>
  <dcterms:modified xsi:type="dcterms:W3CDTF">2016-02-26T11:39:32Z</dcterms:modified>
  <cp:revision>72</cp:revision>
  <dc:subject/>
  <dc:title>Задачи самоуправления в совместной  деятельности</dc:title>
</cp:coreProperties>
</file>